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A5A4-D2B9-495F-9347-4BCA5AB29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7A89-1A1D-4868-A384-1A51D1ACE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279F-BB6E-444E-856E-77790615D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A0D0-7765-4D32-A818-AA62AC39E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9B3E-9618-4C5F-A065-0D1F31806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754B-1AAF-44A9-96F8-3B8CDB89D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8BB4-5637-41CE-BAA7-030D283D4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339C-AB5B-40A2-B5D2-40B40BE1C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0457-3899-4395-933A-972CA1E5E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17FD-9DAE-4861-AF6B-A3FA47383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EE9A-77F4-42C7-B5E1-085EE6A6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5F43-ED9A-4DEF-B929-51108B3ED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FA42C-FA67-4801-B0DE-B2ECB3E125E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mazon.com/gp/associates/link-types/marketplace.html?t=teachwithmovieso&amp;asin=B00003OSTM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cb400"/>
                </a:solidFill>
                <a:latin typeface="Arial"/>
                <a:ea typeface="Arial"/>
              </a:rPr>
              <a:t>É</a:t>
            </a:r>
            <a:r>
              <a:rPr b="0" lang="fr-FR" sz="4400" spc="-1" strike="noStrike">
                <a:solidFill>
                  <a:srgbClr val="ccb400"/>
                </a:solidFill>
                <a:latin typeface="Arial"/>
              </a:rPr>
              <a:t>mile</a:t>
            </a:r>
            <a:r>
              <a:rPr b="0" lang="fr-FR" sz="4400" spc="-1" strike="noStrike">
                <a:solidFill>
                  <a:srgbClr val="dfc08d"/>
                </a:solidFill>
                <a:latin typeface="Arial"/>
              </a:rPr>
              <a:t> </a:t>
            </a:r>
            <a:r>
              <a:rPr b="0" lang="fr-FR" sz="4400" spc="-1" strike="noStrike">
                <a:solidFill>
                  <a:srgbClr val="ccb400"/>
                </a:solidFill>
                <a:latin typeface="Arial"/>
              </a:rPr>
              <a:t>Zola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3520" y="58672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« Je suis artiste.. Je suis ici de vivre tout haut. 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657600" y="2666880"/>
            <a:ext cx="1704960" cy="2095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048120" y="1600200"/>
            <a:ext cx="3128760" cy="38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Sa Vie</a:t>
            </a:r>
            <a:endParaRPr b="0" lang="en-US" sz="40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1532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à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Paris en 18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n 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è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 a mort quand il avait 7 ans et la famille avait des prob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è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s d’arg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l avait beaucoup de petits travaux avant devenir u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ivain t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è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 conn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it amis avec le peintre Paul 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an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l a travail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our un journal mais il a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ermi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ause de sa prem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è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iture,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La Confession de Claude,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parce que le public a pensé que c'était scandaleux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l a combattu pour les droits humains; Il n‘avait pas peur des conséquences de ses opinion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critures Majeures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5105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a Confession de Clau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Arial"/>
              </a:rPr>
              <a:t>Thérèse Raquin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Arial"/>
              </a:rPr>
              <a:t>Les Rougon Macquar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Arial"/>
              </a:rPr>
              <a:t>Germinal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Arial"/>
              </a:rPr>
              <a:t>L'Assommoir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Arial"/>
              </a:rPr>
              <a:t>Nana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952880" y="2743200"/>
            <a:ext cx="4038840" cy="358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55623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 u="sng">
                <a:solidFill>
                  <a:srgbClr val="dfc08d"/>
                </a:solidFill>
                <a:uFillTx/>
                <a:latin typeface="Arial"/>
              </a:rPr>
              <a:t>L’Affaire Dreyfus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400800" y="2209680"/>
            <a:ext cx="2536920" cy="29545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80880" y="1752480"/>
            <a:ext cx="510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1066680"/>
            <a:ext cx="6324480" cy="56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Alfred Dreyfus, un officier militaire juif, a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faussement accu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de vendre des secrets militaires aux Allemands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La preuve a été forgée et Dreyfus a été envoyé en prison.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Zola a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crit « J’Accuse » au p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sident de la 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publique et cette lettre a ai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en déclarant l’innocence de Dreyf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 u="sng">
                <a:solidFill>
                  <a:srgbClr val="dfd293"/>
                </a:solidFill>
                <a:uFillTx/>
                <a:latin typeface="Arial"/>
              </a:rPr>
              <a:t>Le mystère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Quelques années après Dreyfus ont été disculpé, Zola a été trouvé mort dans sa maison, empoisonné par les émanations de monoxyde de carbon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Sa mort a été déclarée un accident, mais quelques gens pensent que Zola a été assassiné par ses ennemis antisémi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733920" y="5334120"/>
            <a:ext cx="1447560" cy="13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04560" y="1600200"/>
            <a:ext cx="5715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Et maintenant, le film « The Life of Emile Zola 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Gagnant d'un Oscar pour le meilleur film de 1937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La scène: Zola lit sa lettre « J ’Accuse 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" descr="Richard Dreyfu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48520" y="1066680"/>
            <a:ext cx="249552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4T19:57:50Z</dcterms:created>
  <dc:creator>Sarah Crenshaw</dc:creator>
  <dc:description/>
  <dc:language>en-US</dc:language>
  <cp:lastModifiedBy>Sarah Crenshaw</cp:lastModifiedBy>
  <dcterms:modified xsi:type="dcterms:W3CDTF">2005-04-18T16:28:42Z</dcterms:modified>
  <cp:revision>10</cp:revision>
  <dc:subject/>
  <dc:title>Émile Zola</dc:title>
</cp:coreProperties>
</file>