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E9C4-C04A-4251-A24D-C1429713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D4D0-BBAC-40F5-94CF-D600D582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C4E7-8CF6-4A91-AACD-BE4327B26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3B12-45D8-4CF0-88D0-8D8D9B6B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371D-9707-448F-9E8D-26E7C5E5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2191-9F61-4E26-B265-01009665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6809-5B18-40E4-A496-423413F1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10EC-9DCC-4884-A419-F4505F04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AF7B-07D3-48FF-8A1D-73B65C59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9E44-01F2-4BAB-B856-64A33D95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C839-5108-4445-BF23-30ED0D61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CA98-A30C-4120-8A17-5B7914ED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9076-5981-49E4-BC53-6800DABEA2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mazon.com/gp/associates/link-types/marketplace.html?t=teachwithmovieso&amp;asin=B00003OSTM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b400"/>
                </a:solidFill>
                <a:latin typeface="Arial"/>
                <a:ea typeface="Arial"/>
              </a:rPr>
              <a:t>É</a:t>
            </a:r>
            <a:r>
              <a:rPr b="0" lang="fr-FR" sz="4400" spc="-1" strike="noStrike">
                <a:solidFill>
                  <a:srgbClr val="ccb400"/>
                </a:solidFill>
                <a:latin typeface="Arial"/>
              </a:rPr>
              <a:t>mile</a:t>
            </a:r>
            <a:r>
              <a:rPr b="0" lang="fr-FR" sz="4400" spc="-1" strike="noStrike">
                <a:solidFill>
                  <a:srgbClr val="dfc08d"/>
                </a:solidFill>
                <a:latin typeface="Arial"/>
              </a:rPr>
              <a:t> </a:t>
            </a:r>
            <a:r>
              <a:rPr b="0" lang="fr-FR" sz="4400" spc="-1" strike="noStrike">
                <a:solidFill>
                  <a:srgbClr val="ccb400"/>
                </a:solidFill>
                <a:latin typeface="Arial"/>
              </a:rPr>
              <a:t>Zola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520" y="58672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« Je suis artiste.. Je suis ici de vivre tout haut. 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57600" y="2666880"/>
            <a:ext cx="1704960" cy="2095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8120" y="1600200"/>
            <a:ext cx="312876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a Vie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1532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à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Paris en 18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n 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 a mort quand il avait 7 ans et la famille avait des prob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s d’arg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l avait beaucoup de petits travaux avant devenir u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vain t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conn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it amis avec le peintre Paul 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n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l a travail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ur un journal mais il 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erm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ause de sa prem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ture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a Confession de Claude,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arce que le public a pensé que c'était scandaleu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l a combattu pour les droits humains; Il n‘avait pas peur des conséquences de ses opini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critures Majeure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 Confession de Clau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Thérèse Raqui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Les Rougon Macquar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Germina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L'Assommoir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Nana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952880" y="2743200"/>
            <a:ext cx="4038840" cy="35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5562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dfc08d"/>
                </a:solidFill>
                <a:uFillTx/>
                <a:latin typeface="Arial"/>
              </a:rPr>
              <a:t>L’Affaire Dreyfu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00800" y="2209680"/>
            <a:ext cx="2536920" cy="2954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17524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066680"/>
            <a:ext cx="632448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lfred Dreyfus, un officier militaire juif, 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faussement acc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de vendre des secrets militaires aux Allemands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a preuve a été forgée et Dreyfus a été envoyé en prison.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Zola 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rit « J’Accuse » au p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ident de la 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publique et cette lettre a ai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en déclarant l’innocence de Dreyf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dfd293"/>
                </a:solidFill>
                <a:uFillTx/>
                <a:latin typeface="Arial"/>
              </a:rPr>
              <a:t>Le mystèr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Quelques années après Dreyfus ont été disculpé, Zola a été trouvé mort dans sa maison, empoisonné par les émanations de monoxyde de carbon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a mort a été déclarée un accident, mais quelques gens pensent que Zola a été assassiné par ses ennemis antisémi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733920" y="5334120"/>
            <a:ext cx="144756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5715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t maintenant, le film « The Life of Emile Zola 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Gagnant d'un Oscar pour le meilleur film de 193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a scène: Zola lit sa lettre « J ’Accuse 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Richard Dreyf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1066680"/>
            <a:ext cx="249552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19:57:50Z</dcterms:created>
  <dc:creator>Sarah Crenshaw</dc:creator>
  <dc:description/>
  <dc:language>en-US</dc:language>
  <cp:lastModifiedBy>Sarah Crenshaw</cp:lastModifiedBy>
  <dcterms:modified xsi:type="dcterms:W3CDTF">2005-04-18T16:28:42Z</dcterms:modified>
  <cp:revision>10</cp:revision>
  <dc:subject/>
  <dc:title>Émile Zola</dc:title>
</cp:coreProperties>
</file>