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673-6C96-44F0-A5E3-7E4A666C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78D-2F9B-4A7E-8CA0-BB6A347E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670-B540-4C31-8C28-BF4F85A1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095-F754-48E2-9801-F4D8A0B6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CD2-53EE-48F2-AEAB-A75191C6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DB5-4546-4097-ABDC-80F7B8EC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E4B-A1BB-4BCD-87F7-8929764B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386-B581-4022-9A1B-588EDA2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B43-B4A3-4C08-9C8D-259581E8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827-103F-4A83-8D2C-ABF44D0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55D-F1A7-40D1-8C1D-8C17402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750-D81D-45B0-AD84-8129960A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6490-4A83-4F55-B4C7-425485DBB0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associates/link-types/marketplace.html?t=teachwithmovieso&amp;asin=B00003OS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b400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mile</a:t>
            </a:r>
            <a:r>
              <a:rPr b="0" lang="fr-FR" sz="44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Zol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5867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« Je suis artiste.. Je suis ici de vivre tout haut.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049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31287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a Vie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Paris en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a mort quand il avait 7 ans et la famille avait des prob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 d’arg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vait beaucoup de petits travaux avant devenir 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vain 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con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t amis avec le peintre Paul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 trava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ur un journal mais il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 de sa pre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ur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Confession de Claude,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ce que le public a pensé que c'était scandale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l a combattu pour les droits humains; Il n‘avait pas peur des conséquences de ses opin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ritures Majeur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fession de Cla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Thérèse Raqui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es Rougon Macquar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Germi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'Assommoi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c08d"/>
                </a:solidFill>
                <a:uFillTx/>
                <a:latin typeface="Arial"/>
              </a:rPr>
              <a:t>L’Affaire Dreyfu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536920" cy="295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7524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63244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lfred Dreyfus, un officier militaire juif,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faussement ac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de vendre des secrets militaires aux Allemand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preuve a été forgée et Dreyfus a été envoyé en prison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Zola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it « J’Accuse » au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dent de la 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ublique et cette lettre a a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en déclarant l’innocence de Dreyf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d293"/>
                </a:solidFill>
                <a:uFillTx/>
                <a:latin typeface="Arial"/>
              </a:rPr>
              <a:t>Le mystè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ques années après Dreyfus ont été disculpé, Zola a été trouvé mort dans sa maison, empoisonné par les émanations de monoxyde de car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 mort a été déclarée un accident, mais quelques gens pensent que Zola a été assassiné par ses ennemis antisém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14475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t maintenant, le film « The Life of Emile Zola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agnant d'un Oscar pour le meilleur film de 193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scène: Zola lit sa lettre « J ’Accuse 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Richard Dreyf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495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9:57:50Z</dcterms:created>
  <dc:creator>Sarah Crenshaw</dc:creator>
  <dc:description/>
  <dc:language>en-US</dc:language>
  <cp:lastModifiedBy>Sarah Crenshaw</cp:lastModifiedBy>
  <dcterms:modified xsi:type="dcterms:W3CDTF">2005-04-18T16:28:42Z</dcterms:modified>
  <cp:revision>10</cp:revision>
  <dc:subject/>
  <dc:title>Émile Zola</dc:title>
</cp:coreProperties>
</file>