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5968-ABE8-4C75-97BB-D9726A61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0E7-D45E-4F63-AACC-6C957F06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3C3-BCF4-43A9-9A76-933EA5C5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5E0-8AEE-4000-AEED-40D6A6C8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CC7D-8A72-497C-BAC8-AFAC7606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8C1-E682-4C6D-9FEE-A09462E6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D22-A472-44D8-BAE2-4FBB5F8C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1BD-5EB2-453C-8945-8E4953D4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818B-CBE2-497E-9F65-EE7CA1DE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69E-3CBD-4A5B-BA50-0FBD25AB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0EE-6B48-420F-8CE0-0749C338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27CF-5A01-4622-9108-983FCACB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EAF9-A961-4F5D-8C70-219136714F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azon.com/gp/associates/link-types/marketplace.html?t=teachwithmovieso&amp;asin=B00003OS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b400"/>
                </a:solidFill>
                <a:latin typeface="Arial"/>
                <a:ea typeface="Arial"/>
              </a:rPr>
              <a:t>É</a:t>
            </a:r>
            <a:r>
              <a:rPr b="0" lang="fr-FR" sz="4400" spc="-1" strike="noStrike">
                <a:solidFill>
                  <a:srgbClr val="ccb400"/>
                </a:solidFill>
                <a:latin typeface="Arial"/>
              </a:rPr>
              <a:t>mile</a:t>
            </a:r>
            <a:r>
              <a:rPr b="0" lang="fr-FR" sz="4400" spc="-1" strike="noStrike">
                <a:solidFill>
                  <a:srgbClr val="dfc08d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ccb400"/>
                </a:solidFill>
                <a:latin typeface="Arial"/>
              </a:rPr>
              <a:t>Zola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5867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« Je suis artiste.. Je suis ici de vivre tout haut.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04960" cy="2095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312876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a Vie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Paris en 18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 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 a mort quand il avait 7 ans et la famille avait des prob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 d’arg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avait beaucoup de petits travaux avant devenir u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vain t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conn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it amis avec le peintre Paul 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n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a travai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ur un journal mais il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use de sa prem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ure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 Confession de Claude,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arce que le public a pensé que c'était scandaleu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l a combattu pour les droits humains; Il n‘avait pas peur des conséquences de ses opin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critures Majeur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Confession de Cla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Thérèse Raqui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Les Rougon Macquar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Germina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L'Assommoi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Nana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403884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556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dfc08d"/>
                </a:solidFill>
                <a:uFillTx/>
                <a:latin typeface="Arial"/>
              </a:rPr>
              <a:t>L’Affaire Dreyfu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00800" y="2209680"/>
            <a:ext cx="2536920" cy="2954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7524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066680"/>
            <a:ext cx="632448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lfred Dreyfus, un officier militaire juif,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faussement acc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de vendre des secrets militaires aux Allemand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preuve a été forgée et Dreyfus a été envoyé en prison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Zola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rit « J’Accuse » au p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ident de la 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ublique et cette lettre a a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en déclarant l’innocence de Dreyf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dfd293"/>
                </a:solidFill>
                <a:uFillTx/>
                <a:latin typeface="Arial"/>
              </a:rPr>
              <a:t>Le mystè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elques années après Dreyfus ont été disculpé, Zola a été trouvé mort dans sa maison, empoisonné par les émanations de monoxyde de carbo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 mort a été déclarée un accident, mais quelques gens pensent que Zola a été assassiné par ses ennemis antisém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33920" y="5334120"/>
            <a:ext cx="144756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5715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t maintenant, le film « The Life of Emile Zola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agnant d'un Oscar pour le meilleur film de 193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scène: Zola lit sa lettre « J ’Accuse 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Richard Dreyf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066680"/>
            <a:ext cx="24955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9:57:50Z</dcterms:created>
  <dc:creator>Sarah Crenshaw</dc:creator>
  <dc:description/>
  <dc:language>en-US</dc:language>
  <cp:lastModifiedBy>Sarah Crenshaw</cp:lastModifiedBy>
  <dcterms:modified xsi:type="dcterms:W3CDTF">2005-04-18T16:28:42Z</dcterms:modified>
  <cp:revision>10</cp:revision>
  <dc:subject/>
  <dc:title>Émile Zola</dc:title>
</cp:coreProperties>
</file>