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AB7-BEA7-42FA-B4A9-A9665B08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EAD-20E1-4CCF-A83F-CB9C733D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682-85FA-48A7-9DE5-3AA69694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DCD-32AC-44C2-9319-D96A6024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0EE-6857-4697-8A75-5ADB85E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D46-76FE-4049-B73D-A2068CA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CD7-6338-446D-B7B5-377BF5D5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ACA-B6B8-4DE2-8F28-E702813C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02A-F06C-46FB-9722-12278233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E6C-FEE4-4504-BCBB-7EA2A5DB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7CD-94AE-44AB-B111-D7EFB2B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B50-E60A-477D-8C59-65B8114A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B815-F098-44D1-896D-A1CFA155B0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zon.com/gp/associates/link-types/marketplace.html?t=teachwithmovieso&amp;asin=B00003OS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b400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mile</a:t>
            </a:r>
            <a:r>
              <a:rPr b="0" lang="fr-FR" sz="4400" spc="-1" strike="noStrike">
                <a:solidFill>
                  <a:srgbClr val="dfc08d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ccb400"/>
                </a:solidFill>
                <a:latin typeface="Arial"/>
              </a:rPr>
              <a:t>Zola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5867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« Je suis artiste.. Je suis ici de vivre tout haut. 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0496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31287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a Vie</a:t>
            </a:r>
            <a:endParaRPr b="0" lang="en-US" sz="40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Paris en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a mort quand il avait 7 ans et la famille avait des prob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 d’arg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vait beaucoup de petits travaux avant devenir u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vain t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con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t amis avec le peintre Paul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n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a travai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ur un journal mais il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use de sa pre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ur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Confession de Claude,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rce que le public a pensé que c'était scandaleu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l a combattu pour les droits humains; Il n‘avait pas peur des conséquences de ses opin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ritures Majeure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onfession de Cla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Thérèse Raqui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es Rougon Macquar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Germin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L'Assommoi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Nana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4038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c08d"/>
                </a:solidFill>
                <a:uFillTx/>
                <a:latin typeface="Arial"/>
              </a:rPr>
              <a:t>L’Affaire Dreyfu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2536920" cy="295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75248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63244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lfred Dreyfus, un officier militaire juif,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faussement acc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de vendre des secrets militaires aux Allemand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preuve a été forgée et Dreyfus a été envoyé en prison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Zola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rit « J’Accuse » au p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ident de la 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ublique et cette lettre a a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en déclarant l’innocence de Dreyf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dfd293"/>
                </a:solidFill>
                <a:uFillTx/>
                <a:latin typeface="Arial"/>
              </a:rPr>
              <a:t>Le mystè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ques années après Dreyfus ont été disculpé, Zola a été trouvé mort dans sa maison, empoisonné par les émanations de monoxyde de carb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 mort a été déclarée un accident, mais quelques gens pensent que Zola a été assassiné par ses ennemis antisém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5334120"/>
            <a:ext cx="144756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t maintenant, le film « The Life of Emile Zola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Gagnant d'un Oscar pour le meilleur film de 193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scène: Zola lit sa lettre « J ’Accuse 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Richard Dreyf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066680"/>
            <a:ext cx="24955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9:57:50Z</dcterms:created>
  <dc:creator>Sarah Crenshaw</dc:creator>
  <dc:description/>
  <dc:language>en-US</dc:language>
  <cp:lastModifiedBy>Sarah Crenshaw</cp:lastModifiedBy>
  <dcterms:modified xsi:type="dcterms:W3CDTF">2005-04-18T16:28:42Z</dcterms:modified>
  <cp:revision>10</cp:revision>
  <dc:subject/>
  <dc:title>Émile Zola</dc:title>
</cp:coreProperties>
</file>