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100B-61FB-4233-9453-E454820D8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A99-EB91-4BFB-99F6-75C09C3D4A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3CF-153D-4754-8F36-6A7AE8DD71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F86-2017-4D04-B363-813F15940F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1BAB-0960-4184-B5FC-66B97C6429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8903-AEE5-4775-B04F-CB9E6C2E5A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BEB-8587-4781-8469-BE58C4D153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F70E-6426-4886-ABA5-34F11FE449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B119-EA3A-42B6-A400-86BC21F2C3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09B-1E3D-4C2D-9B82-87FEF6FF95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1C3-1347-4059-A0D9-6C7A893DE5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709C-EE36-4347-9286-BFBF510D38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9B30-8841-4A17-810C-5FB909164F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6DB3-641F-458E-B98B-79C105FDFA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B61-2C63-4E97-97B0-73446161C6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8D6-DD64-4326-B1EF-C2FEC5A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237-7EBD-4F51-AE9C-CB85E0DA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338-9E44-4AEA-B7D6-F982DAF0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3B3-71EF-4E1B-94C6-78992179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AC3-3EC7-4868-8E1C-A5527811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2BC-5F51-4A0B-8098-E25FEC98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8E85-14CB-4F8E-BF8A-893D4BFB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7D7-F664-4D6B-906E-C033F74A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AC5-EC2A-455C-9B74-51138766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E851-80BF-4441-BC3F-553E893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53FB-228D-4E44-9209-E35F205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33D-2A99-426B-B0BF-63EE60D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31F-78C3-44CE-BB7C-B7C4927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FE6-2F7D-495B-96B8-E9F5375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AA6-EBEC-4A81-B83A-3120810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D432-76B3-4BC2-BEBD-49EB7B3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34D-2F32-4B67-9FD2-1D60EFA0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365B-E943-4A5F-8361-B99EA51D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40BB-1396-4A82-8C85-3D5EDBF3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22DE-EA83-4408-8A76-2B5E618F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DF0A-D317-4A46-8555-E5115C5A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367C-6261-4B0F-A27D-B5357F6F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809-53C3-4844-877C-B0CB0695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58BF-2923-47EF-85E9-ACBC5098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E5B2-5A3A-4138-93FE-724B51B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7253-0B40-4D76-A421-F0C3E5B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016C-C91D-43F9-85F3-16945056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9D05-89B9-4814-9398-03F4C78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5AEB-E6DA-42B2-8C46-AC51DC5F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77449-E55A-4C2D-9148-88C14985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9922-3F02-4F5D-934E-551C9A30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8E81-142C-4CCA-8D42-D09DAAC1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92A8-0586-4463-9794-B4CFB73E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254-DE1C-4967-9470-90922BA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9CBEC-C087-4064-ADB6-04D2F5BB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C7CA1-8521-49DE-898F-87F800D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7CE5-3B95-4D92-A96F-DEB1257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CB03-CD4F-4C29-A275-CA35DF8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CDD2-8291-498E-AD2F-73A0935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9D92-93A3-4E0F-8623-92F9487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F0679-2DF7-475A-A42F-728E7AB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3717-A878-4BFD-8203-A3C300D7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15B35-1B15-4A58-A34C-244A6B41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537B-3DC8-4062-A7C9-111FB085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651-D006-4597-B200-760BC3C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FE60-44F4-4B98-8B8B-759C9C45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3A4E0-DD8F-4323-8394-AD33A445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63ED0-3EE7-4B03-BF98-25BB84A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93F2-793F-444E-996A-AB7B6D8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0824-63BD-449A-B74C-E50BE4B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79E3-B1A2-4899-94DE-4B1AE95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66542-08C3-43BB-938D-C6287854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B1820-A1CE-47D9-BEDF-93C60D70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8FC9-DD39-48D3-9E8B-48CD459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31A29-9BF5-4A9C-895D-4171A015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3DD-BD94-4BC2-A695-503F89EE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F9A4-241C-40E0-8AD1-6BD5168E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2E9-4D23-400B-BBD2-F28E6A4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E24-8663-46C7-B589-87A4BB3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2BF-AF50-41AE-B066-4671188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DA4-8783-4591-96BA-6E8017F4AB75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1CD-201A-44E0-A83E-2C4FB81554D8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A863-CAB3-4016-8351-A3BA85083B6F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0387-5F29-4F8E-8630-F98C3E5E5036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93f3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93f35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d5ad6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C28-5380-4D15-830A-F8658864570A}" type="slidenum">
              <a:rPr b="0" lang="en-US" sz="1000" spc="-1" strike="noStrike">
                <a:solidFill>
                  <a:srgbClr val="4b474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1023840" y="304920"/>
            <a:ext cx="8113680" cy="32860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53232"/>
                </a:solidFill>
                <a:latin typeface="Verdana"/>
              </a:rPr>
              <a:t>SPORTS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9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e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ackie Robinson- First African-American to play in the MLB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on rookie of the year and MVP awar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ank Aaron- broke Babe Ruth’s career homerun record in 1974 in the midst of controvers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834080" y="1447920"/>
            <a:ext cx="356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asketball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uck Cooper- first African American to be drafted to the NBA when the Boston Celtics drafted him in 195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t Chamberlain- scored most points ever in a single game by scoring 100 p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046840" y="1447920"/>
            <a:ext cx="31431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influence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-American athletes have had a tremendous influence on the advancement of African-American people as a wh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small groups, discuss what you think has been the biggest effect seen as a result of African-American Athle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What did you learn?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160" y="144756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did your group discus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have you learned from other groups respons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has this topic affected your way of thinking considering the amount of influence one may have on societ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5014800" y="173844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Additional information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dditional information, you can visit the websi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afroamhistory.about.com/od/athletes/Black_Athletes.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OL 11.13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tudent will demonstrate knowledge o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rights demonstrations and related activity lead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egregation of public accommodations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nsportation, housing, and 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, like most of society was segregated from the early to mid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very common to see a separate league for African-Americans in different sports, i.e. the negro leagues (baseball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15235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rts were often used as an outlet from soc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n though African-American were not allowed to play in the same leagues as whites, they still persevered by playing in leagues that were made avail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0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’ affect on society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orts allowed African-American to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estion for discussion:  In what way do you think sports allowed for African-American gain more recognition within socie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sport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inent sports amongst African-America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x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and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boxing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ck Johnson- first African-American to hold the world heavyweight 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e Louis- defeated German boxer on the eve of WWII.  He became a hero amongst black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hite Ameri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uhammad Ali- known for being boastful, outspoken, and “greatest of all time.”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32360" y="1447920"/>
            <a:ext cx="33717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ennis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thea Gibson- first black to ever be invited to play in an international tournament in 1951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e was also the first black to win when she won the French Open in 195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hur Ashe- first African American male to win a grand slam ev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6047"/>
                </a:solidFill>
                <a:latin typeface="Verdana"/>
              </a:rPr>
              <a:t>track and field</a:t>
            </a:r>
            <a:endParaRPr b="1" lang="en-US" sz="3600" spc="-1" strike="noStrike">
              <a:solidFill>
                <a:srgbClr val="f66047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1523520"/>
            <a:ext cx="3932280" cy="34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sse Owens- first African-American to win a gold medal at the Olympics in 193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 won four gold medals in the 100, 200, 4x100 relay, and long jump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lma Rudolph- won a bronze medal at the 1956 Olympics at the age of 16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653000" y="1730520"/>
            <a:ext cx="3930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4:04:17Z</dcterms:created>
  <dc:creator>Paul Henderson</dc:creator>
  <dc:description/>
  <dc:language>en-US</dc:language>
  <cp:lastModifiedBy>Paul Henderson</cp:lastModifiedBy>
  <dcterms:modified xsi:type="dcterms:W3CDTF">2007-09-20T19:43:19Z</dcterms:modified>
  <cp:revision>30</cp:revision>
  <dc:subject/>
  <dc:title>Slide 1</dc:title>
</cp:coreProperties>
</file>