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6655-7BF9-4DC1-9881-D1790BF43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4F05-89CB-4149-8DCE-2D3D36C077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766E-C026-465A-943A-6469485513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9A4E-899E-4182-B0AC-A5FAB48C67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B1E7-EF04-488E-A0A5-2024D70773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742F-D274-441B-BB7D-1E8237D200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5202-AE99-4349-82AD-F47EABA098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BDD5-CDFB-4DD7-8662-1241CF05A7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81BD-3AEB-48E0-BEE3-FEBC4BB94F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1435-7606-4E88-A216-24634452E4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06CD-714B-4945-89CF-AE882E5F8B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C883-812C-488D-A0A7-DBD90348E6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F7A8-8C69-408C-A5E4-40584DC88F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2792-8178-4D34-B4C7-11A579C3BC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ACE5-EB28-4E9A-B752-2C549F3F35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AFB-8354-455A-96AD-79561F51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0E1-E217-4729-8760-7865FA2A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25BD-397F-4A08-A62B-CB04545E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724-C0EC-4564-898A-3AC77F47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ACAD-C962-4B82-8B63-934CA017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CEDC-74A4-41A5-9F95-8BA1C9CC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AEC6-5575-4732-BCB3-0A89A872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B7C5-BEC3-4C11-BA6A-F1E0CE50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D319-29CB-4A63-A223-FA91B02E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EECE-9A73-4B3B-8939-BBD7794C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C3E5-8B44-4A06-9CBE-B2D7168A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BE0-FEFE-4F37-8D98-27F7B517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5C39-88FB-421D-AB36-F7320252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35A7-7728-4B0F-BA61-5AEFA97B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9FC0-FBA1-484D-A497-A08346C6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60A2-5F0F-4E2A-8DC1-F89717F6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04B4-F741-4368-8392-EFD4C72E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737B9-1AAD-4B71-B3E3-8C51C417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600A9-5B5C-456E-B77F-F218DCA2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0CD04-EA01-4AF1-9772-53D6BECF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D056-0BEE-4C3A-A885-555216DF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D4B3E-CC0F-4C03-BC75-34109F26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726-5A1D-4FF4-9A80-841F94DA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02885-ABE4-4ACD-9EFB-E11CC045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D49CB-A3C7-421E-9810-009C64F3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28CD7-165B-49C8-9DE1-E3AA5E7E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F4CC-3593-4357-9B94-39D3D816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A8355-2573-4F1B-AD8F-E6E89AB2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25E67-4E21-4933-A0CB-671586B3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C96A8-B40B-41DF-A9B0-1E0393E7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2A851-BAD0-47DA-A4B3-31C24E4F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823E6-8F31-422D-935A-A7E1CCE2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E8F8B-E977-444D-AB3A-F1BF3B87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782-2D56-49CA-956B-73E9B5F6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92FFB-0451-484C-A429-B10496EA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89615-0577-4083-A751-BE87C2CE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7A613-578F-4CDE-9CED-FA9EB923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65006-8D3B-435E-A302-D1CFECE5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BEC25-B7A6-4785-A548-BDE9360A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095EF-255E-4C02-A415-684216F5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6C2D1-8A75-48C9-93F0-B2CD8E37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82CD8-AAAB-4084-9E23-AF1135C4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AA5E2-B411-4702-BEC4-74B4AA18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56DDD-215E-4D85-93E0-076D9D09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C71B-B64B-45FF-8E47-8F849ABE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484CD-BD66-4B19-B664-5550CB67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D6CC9-D88E-4431-86EC-0C240B9E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8EE8B-4ECA-4022-9CF7-D15AB25D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42FF3-8E5B-4FE4-A51D-D9ADEC3E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8B7A5-31AF-4072-9252-10638DF8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54FE7-0E94-430C-A3CE-A2D9CE76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671BC-F8D9-479D-AE13-ED6D7D3E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E1A4B-921B-4543-8DD7-8D6FA107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F3C2F-8251-4399-9AB8-7D58C2A1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05C9C-E031-447B-BA23-C8455F57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6C5-5492-46CB-AA07-27D3BA1F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20829-51C9-4B69-9CF6-A0F5C59A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4EB-DFE9-4507-92A4-11BED208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35C-ECFD-49CA-9615-234BF8AC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623-6BEC-4BBD-B6E6-D0D3E5EB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614D-1EA2-4E36-A52C-3DD105FF288E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0CF4-64CF-44EB-9E46-DE883C965BFB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FB6D-9F80-4C7C-BAFD-487C40682EC1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D49D-AEA5-4EF1-BE52-B188A1865C51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0A25-B9FC-4A1E-9195-6C4E4303D897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1023840" y="304920"/>
            <a:ext cx="8113680" cy="32860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53232"/>
                </a:solidFill>
                <a:latin typeface="Verdana"/>
              </a:rPr>
              <a:t>SPORTS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3915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baseball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ackie Robinson- First African-American to play in the MLB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on rookie of the year and MVP award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ank Aaron- broke Babe Ruth’s career homerun record in 1974 in the midst of controversy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4834080" y="1447920"/>
            <a:ext cx="356868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basketball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uck Cooper- first African American to be drafted to the NBA when the Boston Celtics drafted him in 1950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lt Chamberlain- scored most points ever in a single game by scoring 100 p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5046840" y="1447920"/>
            <a:ext cx="314316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influence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-American athletes have had a tremendous influence on the advancement of African-American people as a who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small groups, discuss what you think has been the biggest effect seen as a result of African-American Athlet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What did you learn?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3160" y="144756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did your group discus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have you learned from other groups response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has this topic affected your way of thinking considering the amount of influence one may have on society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5014800" y="1738440"/>
            <a:ext cx="3048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Additional information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additional information, you can visit the websit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afroamhistory.about.com/od/athletes/Black_Athletes.ht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SOL 11.13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tudent will demonstrate knowledge o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vil rights demonstrations and related activity leading t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egregation of public accommodations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nsportation, housing, and employ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history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04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orts, like most of society was segregated from the early to mid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was very common to see a separate league for African-Americans in different sports, i.e. the negro leagues (baseball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history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15235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rts were often used as an outlet from societ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ven though African-American were not allowed to play in the same leagues as whites, they still persevered by playing in leagues that were made availabl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0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Sports’ affect on society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orts allowed African-American to gain more recognition within socie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uestion for discussion:  In what way do you think sports allowed for African-American gain more recognition within socie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sports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minent sports amongst African-American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x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nn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ck and F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e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ket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boxing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ck Johnson- first African-American to hold the world heavyweight  tit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e Louis- defeated German boxer on the eve of WWII.  He became a hero amongst black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hite America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uhammad Ali- known for being boastful, outspoken, and “greatest of all time.”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932360" y="1447920"/>
            <a:ext cx="337176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tennis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thea Gibson- first black to ever be invited to play in an international tournament in 1951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e was also the first black to win when she won the French Open in 1956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hur Ashe- first African American male to win a grand slam eve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710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track and field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1523520"/>
            <a:ext cx="3932280" cy="34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esse Owens- first African-American to win a gold medal at the Olympics in 1936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e won four gold medals in the 100, 200, 4x100 relay, and long jump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ilma Rudolph- won a bronze medal at the 1956 Olympics at the age of 16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653000" y="1730520"/>
            <a:ext cx="39304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4:04:17Z</dcterms:created>
  <dc:creator>Paul Henderson</dc:creator>
  <dc:description/>
  <dc:language>en-US</dc:language>
  <cp:lastModifiedBy>Paul Henderson</cp:lastModifiedBy>
  <dcterms:modified xsi:type="dcterms:W3CDTF">2007-09-20T19:43:19Z</dcterms:modified>
  <cp:revision>30</cp:revision>
  <dc:subject/>
  <dc:title>Slide 1</dc:title>
</cp:coreProperties>
</file>