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66047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D6B02-78B0-45AC-A60A-1E48757210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ED4FB-9AB8-4DB5-B9D6-C1E4BE0F8EB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014F3-56C7-44DA-A29B-B3FB5594A2D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0F032-792A-4F79-8C61-7D73F7FEBA8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858D6-4CCB-4FBC-BA49-FBE1E2DC214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3B536-750A-4D49-8B58-979093E83FB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19C7A-F0E7-4E21-B080-9CCE137A652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55F04-5203-4766-9507-EE4B7D9B6BA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D2132-07D8-4884-A395-C112C1453EA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A2013-9BF8-46B9-8505-84008ABA0EC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0F2D3-1536-4512-9570-9AB687CEC00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18645-9632-4166-87F6-4959382661C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19AD4-4C89-4CE8-9C57-F451C055DEA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04F89-EE06-41CB-929A-AC2C1E96626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D6689-71FF-40EA-8F4C-375464625ED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ADFE-DADA-40C1-ACAC-5F2944EC9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E0B9-4C5B-4D58-9B14-7DEE6CF4B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C5D5-4D39-48E4-BF50-0508DBE04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F7B1-698A-444C-9365-6A42AA74C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72F81-FB04-41A2-8A30-EDBCB1CA9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2D72B-FC26-4AE2-9AE9-39688548B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25B53-9BA6-4C15-9FEA-DB848161E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DD0AA-C78B-4CC5-81BB-D6A347EBB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B86B9-50BB-42F6-BD00-3AE737E53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97620-0B72-498D-B215-BF4843C63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C3C01-8880-479A-A9EC-1A77236EF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A56C-8C52-490C-BA79-DEDABFF1D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8AA3C-CFDF-4552-B4CB-CE1CD54B6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9DF7A-402E-4E88-BCC5-534D11452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EAB7F-205B-4CD3-81BF-064CDBFA1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BAF2B-3E74-460F-B730-8F84AD913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831D6-5387-4017-AE0A-12E10AA70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D3A711-8018-4F78-A706-ABD2659EC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1B6188-56D3-4D4E-9BDF-5DA627F93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DF538A-A00F-44A9-BAA7-01AEA529A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17C33A-651D-47F0-B420-325B037B7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95A969-33D1-40BF-8F5F-B6F1705CA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7861-FEF5-4608-9347-EAE38E3CC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C82890-3E9B-47DE-8CD0-15AAB56D0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E6A5F7-D18F-4EBB-932F-1A10ECB73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BFBA64-326C-46DA-A17E-2D457322D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054317-1031-4538-B51F-27CE8E8C6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3CC52A-D514-44B3-9A3B-A762E547D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13A36C-B0DC-494E-A616-F0CD2D4E8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B09CF5-AB46-43A5-988C-4C8AD5CA6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C8ABF0-2D94-40CE-A26D-89DAD4002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38CE0C-94F5-4868-A305-BF4EAA1E3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E3F6E6-0524-44B3-9AF0-A14A9E093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D2AD-B1E5-4D0B-A025-AC75B891B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EE0114-F1E7-46DB-863B-5F6288EA0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EF7ADE-D42F-491E-A17B-FF66F00FB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0BF630-288F-4D0D-BBB1-C5D6DBC9E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3D25FD-9828-4D47-9897-1D80F5B92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EB347B-A7B5-4615-8050-0D4478AA4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7FBF92-DE5A-4389-B004-7E303264E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8FAF70-188C-4DC6-87B8-75834748D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58828A-BC32-4370-BCBB-34771D860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67CFEB-5308-4D1B-93E1-A6DD878DA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8A703A-BA04-4FBB-98DC-386B2932C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FAE4-F02F-4724-BD7D-054D110DB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170553-1C6C-4A8F-94D5-AE478062E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19365D-5D56-4EC1-817F-AB6E7EC32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F8AAAB-0117-4A3A-9CF6-713FE0D5B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42BC57-B0F5-4712-9218-14BB0286A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7B94E3-D3BD-4333-B542-6203CC94B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06100C-C364-4FFE-B8F5-4B6F12BE9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1B2099-8B23-47BF-BA78-1269CF6B6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DED9F7-08AD-4750-9E7C-FDBC9FF54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76FD11-2939-4784-BD3E-23F5528A4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732185-741C-45C6-815A-1377C64E5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33A0-F2B8-4E37-AE76-130F00939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0CF0C6-69B2-473C-8ACB-47A52B178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E781-7BCB-45F3-ADD8-495EF1174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DAF1-72AF-48A8-AC18-0ADF5F899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C95C-4D1A-441C-A3A2-DDF7A3E2F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66047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93f35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93f35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d5ad6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4b474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b474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4b474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B661D-224B-4E44-BDE2-A32AAA7CF044}" type="slidenum">
              <a:rPr b="0" lang="en-US" sz="1000" spc="-1" strike="noStrike">
                <a:solidFill>
                  <a:srgbClr val="4b474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6" name="Rounded Rectangle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66047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93f35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93f35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d5ad6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4b474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b474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4b474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B0BAC-2357-47E1-B1F5-39E75BA1482F}" type="slidenum">
              <a:rPr b="0" lang="en-US" sz="1000" spc="-1" strike="noStrike">
                <a:solidFill>
                  <a:srgbClr val="4b474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91" name="Rounded Rectangle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66047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93f35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93f35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d5ad6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4b474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b474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4b474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4FBE7-E3AD-4E8A-A816-3179BE9D382F}" type="slidenum">
              <a:rPr b="0" lang="en-US" sz="1000" spc="-1" strike="noStrike">
                <a:solidFill>
                  <a:srgbClr val="4b474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66047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93f35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93f35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d5ad6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4b474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b474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4b474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A727C-833E-4D9F-B29A-16BEE93D3855}" type="slidenum">
              <a:rPr b="0" lang="en-US" sz="1000" spc="-1" strike="noStrike">
                <a:solidFill>
                  <a:srgbClr val="4b474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Round Single Corner Rectangle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66047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93f35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93f35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d5ad6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4b474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b474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4b474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6897A-2E44-4373-927E-4114FE94E1E9}" type="slidenum">
              <a:rPr b="0" lang="en-US" sz="1000" spc="-1" strike="noStrike">
                <a:solidFill>
                  <a:srgbClr val="4b474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Title 1" descr=""/>
          <p:cNvPicPr/>
          <p:nvPr/>
        </p:nvPicPr>
        <p:blipFill>
          <a:blip r:embed="rId1"/>
          <a:stretch/>
        </p:blipFill>
        <p:spPr>
          <a:xfrm>
            <a:off x="1023840" y="304920"/>
            <a:ext cx="8113680" cy="328608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0" bIns="46800" anchor="t">
            <a:noAutofit/>
          </a:bodyPr>
          <a:p>
            <a:pPr marL="3636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53232"/>
                </a:solidFill>
                <a:latin typeface="Verdana"/>
              </a:rPr>
              <a:t>SPORTS</a:t>
            </a:r>
            <a:endParaRPr b="0" lang="en-US" sz="7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9" name="Picture 2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39150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66047"/>
                </a:solidFill>
                <a:latin typeface="Verdana"/>
              </a:rPr>
              <a:t>baseball</a:t>
            </a: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5300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608040" y="1447920"/>
            <a:ext cx="3930480" cy="34891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Jackie Robinson- First African-American to play in the MLB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Won rookie of the year and MVP awards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Hank Aaron- broke Babe Ruth’s career homerun record in 1974 in the midst of controversy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60" name="Picture 2" descr=""/>
          <p:cNvPicPr/>
          <p:nvPr/>
        </p:nvPicPr>
        <p:blipFill>
          <a:blip r:embed="rId1"/>
          <a:stretch/>
        </p:blipFill>
        <p:spPr>
          <a:xfrm>
            <a:off x="4834080" y="1447920"/>
            <a:ext cx="3568680" cy="34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66047"/>
                </a:solidFill>
                <a:latin typeface="Verdana"/>
              </a:rPr>
              <a:t>basketball</a:t>
            </a: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5300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608040" y="1447920"/>
            <a:ext cx="3930480" cy="34891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huck Cooper- first African American to be drafted to the NBA when the Boston Celtics drafted him in 1950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Wilt Chamberlain- scored most points ever in a single game by scoring 100 pt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65" name="Picture 2" descr=""/>
          <p:cNvPicPr/>
          <p:nvPr/>
        </p:nvPicPr>
        <p:blipFill>
          <a:blip r:embed="rId1"/>
          <a:stretch/>
        </p:blipFill>
        <p:spPr>
          <a:xfrm>
            <a:off x="5046840" y="1447920"/>
            <a:ext cx="3143160" cy="34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18352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66047"/>
                </a:solidFill>
                <a:latin typeface="Verdana"/>
              </a:rPr>
              <a:t>influence</a:t>
            </a: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7200" y="167616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frican-American athletes have had a tremendous influence on the advancement of African-American people as a whole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n small groups, discuss what you think has been the biggest effect seen as a result of African-American Athlete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66047"/>
                </a:solidFill>
                <a:latin typeface="Verdana"/>
              </a:rPr>
              <a:t>What did you learn?</a:t>
            </a: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533160" y="1447560"/>
            <a:ext cx="3932280" cy="43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What did your group discuss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What have you learned from other groups responses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How has this topic affected your way of thinking considering the amount of influence one may have on society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70" name="Picture 2" descr=""/>
          <p:cNvPicPr/>
          <p:nvPr/>
        </p:nvPicPr>
        <p:blipFill>
          <a:blip r:embed="rId1"/>
          <a:stretch/>
        </p:blipFill>
        <p:spPr>
          <a:xfrm>
            <a:off x="5014800" y="1738440"/>
            <a:ext cx="30481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66047"/>
                </a:solidFill>
                <a:latin typeface="Verdana"/>
              </a:rPr>
              <a:t>Additional information</a:t>
            </a: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7616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r additional information, you can visit the website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ttp://afroamhistory.about.com/od/athletes/Black_Athletes.ht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66047"/>
                </a:solidFill>
                <a:latin typeface="Verdana"/>
              </a:rPr>
              <a:t>SOL 11.13</a:t>
            </a: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59984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student will demonstrate knowledge of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ivil rights demonstrations and related activity leading to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esegregation of public accommodations,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ransportation, housing, and employmen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66047"/>
                </a:solidFill>
                <a:latin typeface="Verdana"/>
              </a:rPr>
              <a:t>history</a:t>
            </a: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190476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ports, like most of society was segregated from the early to mid 2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Verdana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centur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t was very common to see a separate league for African-Americans in different sports, i.e. the negro leagues (baseball)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66047"/>
                </a:solidFill>
                <a:latin typeface="Verdana"/>
              </a:rPr>
              <a:t>history</a:t>
            </a: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160" y="1523520"/>
            <a:ext cx="3932280" cy="43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ports were often used as an outlet from society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ven though African-American were not allowed to play in the same leagues as whites, they still persevered by playing in leagues that were made available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6" name="Picture 4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082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66047"/>
                </a:solidFill>
                <a:latin typeface="Verdana"/>
              </a:rPr>
              <a:t>Sports’ affect on society</a:t>
            </a: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67616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ports allowed African-American to gain more recognition within society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Question for discussion:  In what way do you think sports allowed for African-American gain more recognition within society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66047"/>
                </a:solidFill>
                <a:latin typeface="Verdana"/>
              </a:rPr>
              <a:t>sports</a:t>
            </a: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59984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rominent sports amongst African-Americans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oxin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enni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rack and Fiel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asebal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asketbal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66047"/>
                </a:solidFill>
                <a:latin typeface="Verdana"/>
              </a:rPr>
              <a:t>boxing</a:t>
            </a: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5300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08040" y="1447920"/>
            <a:ext cx="3930480" cy="34891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Jack Johnson- first African-American to hold the world heavyweight  titl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Joe Louis- defeated German boxer on the eve of WWII.  He became a hero amongst black 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and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white America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uhammad Ali- known for being boastful, outspoken, and “greatest of all time.”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5" name="Picture 2" descr=""/>
          <p:cNvPicPr/>
          <p:nvPr/>
        </p:nvPicPr>
        <p:blipFill>
          <a:blip r:embed="rId1"/>
          <a:stretch/>
        </p:blipFill>
        <p:spPr>
          <a:xfrm>
            <a:off x="4932360" y="1447920"/>
            <a:ext cx="3371760" cy="34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66047"/>
                </a:solidFill>
                <a:latin typeface="Verdana"/>
              </a:rPr>
              <a:t>tennis</a:t>
            </a: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5300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08040" y="1447920"/>
            <a:ext cx="3930480" cy="34891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lthea Gibson- first black to ever be invited to play in an international tournament in 1951.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he was also the first black to win when she won the French Open in 1956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rthur Ashe- first African American male to win a grand slam event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50" name="Picture 2" descr=""/>
          <p:cNvPicPr/>
          <p:nvPr/>
        </p:nvPicPr>
        <p:blipFill>
          <a:blip r:embed="rId1"/>
          <a:stretch/>
        </p:blipFill>
        <p:spPr>
          <a:xfrm>
            <a:off x="5181480" y="1447920"/>
            <a:ext cx="27100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66047"/>
                </a:solidFill>
                <a:latin typeface="Verdana"/>
              </a:rPr>
              <a:t>track and field</a:t>
            </a: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5300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609120" y="1523520"/>
            <a:ext cx="3932280" cy="34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Jesse Owens- first African-American to win a gold medal at the Olympics in 1936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He won four gold medals in the 100, 200, 4x100 relay, and long jump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Wilma Rudolph- won a bronze medal at the 1956 Olympics at the age of 16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55" name="Picture 2" descr=""/>
          <p:cNvPicPr/>
          <p:nvPr/>
        </p:nvPicPr>
        <p:blipFill>
          <a:blip r:embed="rId1"/>
          <a:stretch/>
        </p:blipFill>
        <p:spPr>
          <a:xfrm>
            <a:off x="4653000" y="1730520"/>
            <a:ext cx="3930480" cy="29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0T14:04:17Z</dcterms:created>
  <dc:creator>Paul Henderson</dc:creator>
  <dc:description/>
  <dc:language>en-US</dc:language>
  <cp:lastModifiedBy>Paul Henderson</cp:lastModifiedBy>
  <dcterms:modified xsi:type="dcterms:W3CDTF">2007-09-20T19:43:19Z</dcterms:modified>
  <cp:revision>30</cp:revision>
  <dc:subject/>
  <dc:title>Slide 1</dc:title>
</cp:coreProperties>
</file>