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9F5B-6869-4EFA-839A-4DFBB62E5F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92FE-9339-4393-9221-C5834B68D01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6470-7E93-490A-BA98-762E71A693A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C578-CA93-4EC5-93C2-D0059325BD8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8218-8BFF-4261-8934-EFD458F254E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385E-A907-47EF-BD34-64107DD6D65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D28B-2632-4979-A8AA-6F8C800E981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7655-AE5C-49B0-A9A0-470E807DCCB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0DE8-FA56-466C-B01E-AB0FCC35AD4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AB44-C69A-4864-BCD7-47318778419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7542-DDBC-4496-B5D5-E2918E68744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A369-E998-40C9-A713-252C4B6C6F9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EA18-A368-4D1B-8F31-B43AECA1D00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551D-01F3-4A07-B609-8306F012D88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8000-583B-4350-AC8C-F1728156D7D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7DBB-90D9-40F8-BB72-D36DBF003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365B-867D-440A-B022-75CAFC89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5DA2-E962-47EE-ACE0-A5A81ADF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9AF4-2C26-4FC2-AC54-4D751BA9F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82C8-9046-432D-A1D7-70D83D360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7BA0-C748-48E7-A8B4-38CB63E7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D773-4C6D-4471-9A69-E6ED3083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CD93-4EAB-4234-A53E-FD4184CE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8F6B-ADA1-491B-AA9B-734A5166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F55B-74CC-4874-987D-08CF53DB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985E-2FAE-4BE8-B465-4B102006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7710-6420-44E8-B7F1-C01341D4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633F-9583-4874-B93A-F2DDDDBD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D567-3419-4C63-B549-F7BDD1E9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CEA9-A9A8-495C-B0B2-CB3E47BA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1955-B553-4661-ACA9-579BB88F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519D-E77C-4C1C-BA90-21D964302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1D23B-A88C-442E-9D13-EF3ADFD0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BD4B2-7CF6-46A7-A7EE-D054146C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A3852-3F74-4E3D-B776-748419A5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F3F5B-E85F-4EA2-B68D-00921868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E49E4-D0DA-4C98-B18B-BC8005C1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61C8-7B13-42FE-BA9C-5FDCDEE9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50F3A-FC72-4CE0-90C2-D0976C7A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B6B60-D8C7-4BCA-ADEA-3A6CF73F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2D7D0-6B07-48D3-AA5B-7473FA25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B47B6-7FE6-4EAD-A5E6-DAE38070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42C07-3B87-496B-8AD2-E5C70C9A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6663D-D7C3-4603-9CC0-9D3E866A4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38616-4986-4198-9FE7-AC0730BA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8F4CB-94B6-4BD1-B7DE-9A065BFCA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21E93-4ACC-48BB-A915-534107B1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AB964-3D7D-47C9-8AD5-16327B7F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9B00-9D81-44AC-ADC2-6C6B0A22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5C161-0F4A-4237-8FFE-BFBA78B3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0C1B0-6C7C-4E87-924F-85735335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8D55B-E8C3-4DE7-B5FD-3CF652B2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B60E0-F9D2-4248-9FAA-A79EA2EC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EEE23-282B-4C9A-B063-884C8B99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4CF78-2C4F-4ED1-BDDE-D491D34F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2E150-B098-472F-8048-4895C9CD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D6B13-816F-41F2-A2BC-8B1A9B769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9C32A-5424-4AAE-856F-64A6C926C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46094-963D-4925-99A2-51754840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554F-EB89-4A68-9193-94EB8DC1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DFA55-A36E-4372-8A0B-88444B13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50BBD-918E-40F7-8957-9DAC9BE0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43D59-37DE-4C36-8027-ABB89E13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3A927-E929-4945-8C5F-8FD658B8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688ED-6C8D-4E92-B67B-61B6CBCA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7068C-C864-4D6A-96E9-B35C308B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6281F-025E-45E0-AF69-85599222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115C1-1DE1-4913-A09F-7D6B25F6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9EA96-3FCD-4BF0-9B37-B12BDFAD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9478F-AB26-423D-A97C-56575F38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0708-811E-48DE-9B1F-EEF960B1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C1F67-AA35-49D4-ABE2-063827ED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CD9D-23A8-4E97-86FC-96626896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5F96-9C83-4951-90C0-DE4A85EE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2463-A0EB-4615-AC38-009EE89E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EBCD-5085-4849-B3A8-3C5A09F229E1}" type="slidenum"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1A94-DB88-4C61-91FE-AA7A49E0D0E2}" type="slidenum"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CA5E-1AF1-42F1-A674-E6637BAD0809}" type="slidenum"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C7F3-D92A-4198-84E9-6AFE4DB929D5}" type="slidenum"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5DE6-91CE-4FF2-BE1D-702793899B16}" type="slidenum"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1023840" y="304920"/>
            <a:ext cx="8113680" cy="32860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53232"/>
                </a:solidFill>
                <a:latin typeface="Verdana"/>
              </a:rPr>
              <a:t>SPORTS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3915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baseball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Jackie Robinson- First African-American to play in the MLB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Won rookie of the year and MVP award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Hank Aaron- broke Babe Ruth’s career homerun record in 1974 in the midst of controversy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4834080" y="1447920"/>
            <a:ext cx="356868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basketball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uck Cooper- first African American to be drafted to the NBA when the Boston Celtics drafted him in 1950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ilt Chamberlain- scored most points ever in a single game by scoring 100 pt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5046840" y="1447920"/>
            <a:ext cx="314316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influence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frican-American athletes have had a tremendous influence on the advancement of African-American people as a whol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small groups, discuss what you think has been the biggest effect seen as a result of African-American Athlet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What did you learn?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33160" y="144756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did your group discuss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have you learned from other groups responses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w has this topic affected your way of thinking considering the amount of influence one may have on society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5014800" y="1738440"/>
            <a:ext cx="3048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Additional information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additional information, you can visit the websit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ttp://afroamhistory.about.com/od/athletes/Black_Athletes.ht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SOL 11.13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student will demonstrate knowledge o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ivil rights demonstrations and related activity leading to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segregation of public accommodations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ansportation, housing, and employ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history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047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orts, like most of society was segregated from the early to mid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entu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 was very common to see a separate league for African-Americans in different sports, i.e. the negro leagues (baseball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history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160" y="152352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orts were often used as an outlet from societ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ven though African-American were not allowed to play in the same leagues as whites, they still persevered by playing in leagues that were made availabl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08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Sports’ affect on society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orts allowed African-American to gain more recognition within societ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Question for discussion:  In what way do you think sports allowed for African-American gain more recognition within societ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sports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minent sports amongst African-American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ox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nn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ack and Fiel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seba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sketba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boxing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ack Johnson- first African-American to hold the world heavyweight  tit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oe Louis- defeated German boxer on the eve of WWII.  He became a hero amongst black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white America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uhammad Ali- known for being boastful, outspoken, and “greatest of all time.”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4932360" y="1447920"/>
            <a:ext cx="337176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tennis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lthea Gibson- first black to ever be invited to play in an international tournament in 1951.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e was also the first black to win when she won the French Open in 1956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thur Ashe- first African American male to win a grand slam even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2710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track and field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9120" y="1523520"/>
            <a:ext cx="3932280" cy="34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Jesse Owens- first African-American to win a gold medal at the Olympics in 1936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He won four gold medals in the 100, 200, 4x100 relay, and long jump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Wilma Rudolph- won a bronze medal at the 1956 Olympics at the age of 16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4653000" y="1730520"/>
            <a:ext cx="393048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4:04:17Z</dcterms:created>
  <dc:creator>Paul Henderson</dc:creator>
  <dc:description/>
  <dc:language>en-US</dc:language>
  <cp:lastModifiedBy>Paul Henderson</cp:lastModifiedBy>
  <dcterms:modified xsi:type="dcterms:W3CDTF">2007-09-20T19:43:19Z</dcterms:modified>
  <cp:revision>30</cp:revision>
  <dc:subject/>
  <dc:title>Slide 1</dc:title>
</cp:coreProperties>
</file>