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2.wmf" ContentType="image/x-wmf"/>
  <Override PartName="/ppt/media/image25.wmf" ContentType="image/x-wmf"/>
  <Override PartName="/ppt/media/image22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D69-43A2-431A-AA5D-11C51FB4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1DB-0751-42AB-855F-A4EDB056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0F8-1D9E-4761-A2A0-A117AAFB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8CAF-0204-4A81-B3A4-8715B810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AF8-F45F-4570-A630-2979CDD0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F69-D022-4A4B-8E6E-C9C27691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B7ED-A1B0-45F1-8168-12A839E9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A5F-E56C-47CE-9AA1-F0A0420E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AC1A-0675-4A29-98C2-6002B1CB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673-E3B5-4BEA-88BA-845C2691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6F7-9551-45F7-85DA-29328EE5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41C-4CC2-4910-9E11-28C719B4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77AF-43D6-485B-BF25-364DDEADF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per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, Evaluating 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Writing the Research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actical approach, with vide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David Makhanlall, TEDU_556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/23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762120"/>
            <a:ext cx="3505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expert opinio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he date important on a specific source of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cross-check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91040" y="1828800"/>
            <a:ext cx="2761560" cy="1828440"/>
            <a:chOff x="3191040" y="1828800"/>
            <a:chExt cx="2761560" cy="1828440"/>
          </a:xfrm>
        </p:grpSpPr>
        <p:sp>
          <p:nvSpPr>
            <p:cNvPr id="73" name="Film"/>
            <p:cNvSpPr/>
            <p:nvPr/>
          </p:nvSpPr>
          <p:spPr>
            <a:xfrm>
              <a:off x="3191040" y="2294640"/>
              <a:ext cx="1152000" cy="1362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ound"/>
            <p:cNvSpPr/>
            <p:nvPr/>
          </p:nvSpPr>
          <p:spPr>
            <a:xfrm>
              <a:off x="3857400" y="1828800"/>
              <a:ext cx="1599840" cy="903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hoto"/>
            <p:cNvSpPr/>
            <p:nvPr/>
          </p:nvSpPr>
          <p:spPr>
            <a:xfrm>
              <a:off x="4466880" y="2365200"/>
              <a:ext cx="1485720" cy="8190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Music"/>
            <p:cNvSpPr/>
            <p:nvPr/>
          </p:nvSpPr>
          <p:spPr>
            <a:xfrm>
              <a:off x="4638600" y="2845440"/>
              <a:ext cx="1218600" cy="7905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going on a road trip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t is in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 map before the tr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you want to ge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cent ma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2286000" cy="462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5257800"/>
            <a:ext cx="213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ing sources for cred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“scan” information befor you decide on proceeding fu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800600" cy="99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5105520"/>
            <a:ext cx="2309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not to print-out all the possible sources before you begin your es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organize your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2133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esearch done on a specific person on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difficult to find sources on certain subj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514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our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link below for a short video on sour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9862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you k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bout sour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answe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are the two main types of 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would you go about deciding what type to use in your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449568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5486400"/>
            <a:ext cx="403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5</a:t>
            </a:r>
            <a:br>
              <a:rPr sz="4400"/>
            </a:b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eant by “multiple perspecti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ecide who or 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5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include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8120" y="609480"/>
            <a:ext cx="289548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91120" y="45720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5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 we view  facts from different ang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e use visual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ust we be careful to document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05520" y="790560"/>
            <a:ext cx="2133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be able to use Bloom’s Conceptual Knowled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The interrelationships among the basic elements within a larger structure that enable them to function together” and be able to organize research for an academic research paper, and complete th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12.7.  STRAND: WRITING GRADE LEVEL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Learning: Students would have already understood the basic components of an academic ess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take a loo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our follow 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deciding on a firm topic important before doing any re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consider both primary and secondary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s it to document carefu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24280" y="685800"/>
            <a:ext cx="3886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us review our previous less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quick review, here are the main components of an essay, as covered in our previous classes (refer to table opposi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me General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write on what you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select a strong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urpose of resea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923112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365760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going to watch some very interesting videos on the Essay Wri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videos are important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a pract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the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y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full of valuable hints and sugg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excellent examples of the key components of planning and completing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2514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s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atch others 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fic tas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mportant it is to make notes on the main 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good to write down any possible questions you may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2505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1 “Persuasion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ment of persuasion is the key to any good research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the use of “Persuasion” in an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Watch our video on Persua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바탕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227016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25146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ble facts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8862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that you have a good idea on what i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uas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et us move on to the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ideo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fac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find an exp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pport your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676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the exper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581280" cy="43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20:58:43Z</dcterms:created>
  <dc:creator>Authorized User</dc:creator>
  <dc:description/>
  <dc:language>en-US</dc:language>
  <cp:lastModifiedBy>HP Authorized Customer</cp:lastModifiedBy>
  <dcterms:modified xsi:type="dcterms:W3CDTF">2007-12-09T04:57:11Z</dcterms:modified>
  <cp:revision>6</cp:revision>
  <dc:subject/>
  <dc:title>Digital Streaming Template Title Here</dc:title>
</cp:coreProperties>
</file>