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gif" ContentType="image/gif"/>
  <Override PartName="/ppt/media/image16.wmf" ContentType="image/x-wmf"/>
  <Override PartName="/ppt/media/image2.wmf" ContentType="image/x-wmf"/>
  <Override PartName="/ppt/media/image25.wmf" ContentType="image/x-wmf"/>
  <Override PartName="/ppt/media/image22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6B82-FDDA-4BAC-8430-D22F8BD4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EB82-6F65-48FD-A187-B62D33EA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A582-0A92-403F-B6AF-9E36A1CB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A63-5EBF-4A98-A8D7-03F4BDA6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7ED-AD65-4BF2-A6B2-13274C2E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09BA-B577-4555-8FD5-05B32825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ED95-E50D-45A0-92D8-7B07B8AD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5F9B-5009-497E-8623-74BCDEC2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5E69-B0BC-4AD7-B21E-849E9139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A0B6-C4E7-4BDB-9768-DE861E03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8F62-35F7-487F-8B18-DB9D0384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10B2-6422-4865-AD36-C638DA9B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03AF-1CEF-4781-BBB1-259E2E040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per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, Evaluating 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 Writing the Research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actical approach, with vide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d by David Makhanlall, TEDU_556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/23/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762120"/>
            <a:ext cx="3505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Question #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expert opinion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the date important on a specific source of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to cross-check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191040" y="1828800"/>
            <a:ext cx="2761560" cy="1828440"/>
            <a:chOff x="3191040" y="1828800"/>
            <a:chExt cx="2761560" cy="1828440"/>
          </a:xfrm>
        </p:grpSpPr>
        <p:sp>
          <p:nvSpPr>
            <p:cNvPr id="73" name="Film"/>
            <p:cNvSpPr/>
            <p:nvPr/>
          </p:nvSpPr>
          <p:spPr>
            <a:xfrm>
              <a:off x="3191040" y="2294640"/>
              <a:ext cx="1152000" cy="13626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ound"/>
            <p:cNvSpPr/>
            <p:nvPr/>
          </p:nvSpPr>
          <p:spPr>
            <a:xfrm>
              <a:off x="3857400" y="1828800"/>
              <a:ext cx="1599840" cy="9036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hoto"/>
            <p:cNvSpPr/>
            <p:nvPr/>
          </p:nvSpPr>
          <p:spPr>
            <a:xfrm>
              <a:off x="4466880" y="2365200"/>
              <a:ext cx="1485720" cy="8190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Music"/>
            <p:cNvSpPr/>
            <p:nvPr/>
          </p:nvSpPr>
          <p:spPr>
            <a:xfrm>
              <a:off x="4638600" y="2845440"/>
              <a:ext cx="1218600" cy="7905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going on a road trip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mportant it is in 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 map before the tr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you want to ge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cent ma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400800" y="1295280"/>
            <a:ext cx="2286000" cy="462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38080" y="5257800"/>
            <a:ext cx="2133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#3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ewing sources for cred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o “scan” information befor you decide on proceeding fu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800600" cy="99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05320" y="5105520"/>
            <a:ext cx="2309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#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not to print-out all the possible sources before you begin your es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organize your 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95680" y="685800"/>
            <a:ext cx="21337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research done on a specific person on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difficult to find sources on certain subj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25146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sourc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link below for a short video on sources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4343400"/>
            <a:ext cx="39862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Viewing 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at you kn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bout sourc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answe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are the two main types of 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would you go about deciding what type to use in your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449568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5486400"/>
            <a:ext cx="403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 #5</a:t>
            </a:r>
            <a:br>
              <a:rPr sz="4400"/>
            </a:b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eant by “multiple perspective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ecide who or what is a credible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#5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include in a research pap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8120" y="609480"/>
            <a:ext cx="2895480" cy="2667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191120" y="45720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#5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 we view  facts from different ang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we use visual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must we be careful to document correc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05520" y="790560"/>
            <a:ext cx="21333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be able to use Bloom’s Conceptual Knowled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The interrelationships among the basic elements within a larger structure that enable them to function together” and be able to organize research for an academic research paper, and complete th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12.7.  STRAND: WRITING GRADE LEVEL 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Learning: Students would have already understood the basic components of an academic ess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take a look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 our follow Up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deciding on a firm topic important before doing any resear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consider both primary and secondary 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mportant is it to document carefu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24280" y="685800"/>
            <a:ext cx="3886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 us review our previous less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quick review, here are the main components of an essay, as covered in our previous classes (refer to table opposi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me General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important to write on what you k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important to select a strong top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urpose of resear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9231120" cy="152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4280" y="3276720"/>
            <a:ext cx="365760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re going to watch some very interesting videos on the Essay Writ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videos are important bec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vide a pract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the 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ay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full of valuable hints and sugg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vide excellent examples of the key components of planning and completing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25146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Questions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atch others compl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ecific tas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mportant it is to make notes on the main 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good to write down any possible questions you may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2505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1 “Persuasion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ment of persuasion is the key to any good research e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n the use of “Persuasion” in an e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 Watch our video on Persua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바탕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248520" y="457200"/>
            <a:ext cx="2270160" cy="1523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38280" y="4952880"/>
            <a:ext cx="25146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Viewing Question #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ble facts in a research pap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88620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that you have a good idea on what i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suas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let us move on to the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video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 fac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credible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find an exp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upport your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34320" y="4038480"/>
            <a:ext cx="1676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#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 the exper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581280" cy="432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20:58:43Z</dcterms:created>
  <dc:creator>Authorized User</dc:creator>
  <dc:description/>
  <dc:language>en-US</dc:language>
  <cp:lastModifiedBy>HP Authorized Customer</cp:lastModifiedBy>
  <dcterms:modified xsi:type="dcterms:W3CDTF">2007-12-09T04:57:11Z</dcterms:modified>
  <cp:revision>6</cp:revision>
  <dc:subject/>
  <dc:title>Digital Streaming Template Title Here</dc:title>
</cp:coreProperties>
</file>