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2.wmf" ContentType="image/x-wmf"/>
  <Override PartName="/ppt/media/image25.wmf" ContentType="image/x-wmf"/>
  <Override PartName="/ppt/media/image22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84C-F6B6-41F6-A384-106963D3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9C3-1449-4FD6-A151-8B9EAFCD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173-6B9E-47C0-A0BD-DA9365F6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A0B2-1D2E-4F02-8081-4C9FADE1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D60-BEC0-46BF-A037-615E77BB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432-BE5A-4DD1-81FF-272A259F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7AB-08D1-4BE0-A0C6-09DE8E89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028-935B-4B5E-BEAD-125BA6BA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66E-6F43-4BA4-86C4-C7926CFA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6F30-1169-445A-A5EA-B89F0727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1B0-A12B-4395-8DEA-679217BB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7A1-89BF-4CA0-A102-398591EA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9FB1-5F74-4BA9-BF19-4C4E8048A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per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, Evaluating 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Writing the Research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actical approach, with vide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David Makhanlall, TEDU_556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/23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expert opinio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he date important on a specific source of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cross-check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91040" y="1828800"/>
            <a:ext cx="2761560" cy="1828440"/>
            <a:chOff x="3191040" y="1828800"/>
            <a:chExt cx="2761560" cy="1828440"/>
          </a:xfrm>
        </p:grpSpPr>
        <p:sp>
          <p:nvSpPr>
            <p:cNvPr id="73" name="Film"/>
            <p:cNvSpPr/>
            <p:nvPr/>
          </p:nvSpPr>
          <p:spPr>
            <a:xfrm>
              <a:off x="3191040" y="2294640"/>
              <a:ext cx="1152000" cy="1362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ound"/>
            <p:cNvSpPr/>
            <p:nvPr/>
          </p:nvSpPr>
          <p:spPr>
            <a:xfrm>
              <a:off x="3857400" y="1828800"/>
              <a:ext cx="1599840" cy="903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hoto"/>
            <p:cNvSpPr/>
            <p:nvPr/>
          </p:nvSpPr>
          <p:spPr>
            <a:xfrm>
              <a:off x="4466880" y="2365200"/>
              <a:ext cx="1485720" cy="8190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Music"/>
            <p:cNvSpPr/>
            <p:nvPr/>
          </p:nvSpPr>
          <p:spPr>
            <a:xfrm>
              <a:off x="4638600" y="2845440"/>
              <a:ext cx="1218600" cy="7905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going on a road trip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t is in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map before the t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want to ge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cent m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2286000" cy="462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213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ing sources for cred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“scan” information befor you decide on proceeding fu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800600" cy="99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5105520"/>
            <a:ext cx="2309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not to print-out all the possible sources before you begin your es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organize your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2133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esearch done on a specific person on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difficult to find sources on certain sub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514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our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link below for a short video on sour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9862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you k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bout sour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answe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re the two main types of 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would you go about deciding what type to use in your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449568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403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5</a:t>
            </a:r>
            <a:br>
              <a:rPr sz="4400"/>
            </a:b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ant by “multiple perspecti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ecide who or 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5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include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8120" y="609480"/>
            <a:ext cx="289548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91120" y="45720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5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we view  facts from different ang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use visual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ust we be careful to document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05520" y="790560"/>
            <a:ext cx="2133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be able to use Bloom’s Conceptual Knowled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The interrelationships among the basic elements within a larger structure that enable them to function together” and be able to organize research for an academic research paper, and complete th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12.7.  STRAND: WRITING GRADE LEVEL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Learning: Students would have already understood the basic components of an academic e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take a loo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our follow 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deciding on a firm topic important before doing any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consider both primary and secondary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s it to document carefu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24280" y="6858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us review our previous less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quick review, here are the main components of an essay, as covered in our previous classes (refer to table opposi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 General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write on what you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select a strong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urpose of resea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923112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36576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going to watch some very interesting videos on the Essay Wri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videos are important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a prac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the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y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full of valuable hints and sugg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excellent examples of the key components of planning and completing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2514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s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atch others 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fic tas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mportant it is to make notes on the main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good to write down any possible questions you may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505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1 “Persuasion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ment of persuasion is the key to any good research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he use of “Persuasion” in an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Watch our video on Persua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바탕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227016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25146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ble facts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862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that you have a good idea on what i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ua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et us move on to 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ideo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fac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find an exp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pport your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676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the exper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581280" cy="43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20:58:43Z</dcterms:created>
  <dc:creator>Authorized User</dc:creator>
  <dc:description/>
  <dc:language>en-US</dc:language>
  <cp:lastModifiedBy>HP Authorized Customer</cp:lastModifiedBy>
  <dcterms:modified xsi:type="dcterms:W3CDTF">2007-12-09T04:57:11Z</dcterms:modified>
  <cp:revision>6</cp:revision>
  <dc:subject/>
  <dc:title>Digital Streaming Template Title Here</dc:title>
</cp:coreProperties>
</file>