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83A-1356-4DA4-92B4-D805E370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A58-67A0-45E5-B80E-546B8E0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4D3-0BBB-4117-B383-D04BB57A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A04-DFF4-4914-B3F5-BAF090E9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C35-9064-43EF-BAAB-2DA9A703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5F2-A907-4B62-A993-17189E52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041-9F8A-496F-89E8-389D9BCB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D9D-3C0A-4F6E-918F-15EE685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569-F7FE-4B58-977F-DF4FA32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344-D819-49E9-96CB-64A51000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EC5-DF58-4796-A796-3EED7C5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2EE-6C36-4975-800E-0F98CB4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CD47-E024-4FFA-A2F0-A35006BD6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12-09T04:57:11Z</dcterms:modified>
  <cp:revision>6</cp:revision>
  <dc:subject/>
  <dc:title>Digital Streaming Template Title Here</dc:title>
</cp:coreProperties>
</file>