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9B7-BDA6-481C-A320-7E5B7CC1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618-61B2-4662-BCB2-252B4B5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325-D056-4C1B-9773-18720A29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458-D397-49D3-B37D-E4EC7B99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30B-8A22-4F9C-A0DB-44118903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FC9-2118-41C9-8CFB-F199B4F2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B86-9C36-492C-B010-0BC00634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CC7-BE68-4D3C-BCE5-6FC3457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C9D-99F3-4AAB-ABA5-188EBBC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850-A9C3-47D7-B7A8-7CFD96E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B8A-D076-4DE4-B89A-EBE8C66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57C-9614-453E-85FF-3FD0BC63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6D1F-D33A-4D75-BF81-0E75D8FD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12-09T04:57:11Z</dcterms:modified>
  <cp:revision>6</cp:revision>
  <dc:subject/>
  <dc:title>Digital Streaming Template Title Here</dc:title>
</cp:coreProperties>
</file>