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0E7-832C-4809-9463-078C9C67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2FB-6129-45AC-889D-D8B2CCCD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B6D-D78E-44A4-BF75-9D2DBE04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1A7-C62F-4A15-B045-E200CDFF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836-C667-4559-9628-83EA3EF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F95-B982-4AEE-B4FD-68D64BC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321-E49B-490A-84AD-59D66B0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F32-0F30-48B5-BBC3-D73D8CA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2E7-AFE2-4F10-84BF-0F50DB9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777-AE21-46CC-BFD5-4177966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CCF-B1FF-45DC-B145-D95A5E1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B2D-B297-4DAE-8AB7-3120227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08F1-EF28-4AFA-8052-B795BD9E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lick on disc op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We are about to view our final movie clip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link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f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lick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am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09-23T16:44:40Z</dcterms:modified>
  <cp:revision>5</cp:revision>
  <dc:subject/>
  <dc:title>Digital Streaming Template Title Here</dc:title>
</cp:coreProperties>
</file>