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B4F-4E91-4055-8059-D2D9EBAD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4CE-F29E-42B1-88A1-6EEE2C0A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0A5-049E-457B-B300-7B3BC1E7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9C0-70B0-41F3-BFE0-7B7C0A0B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15E-1C10-424E-9BFD-0AFFFBA0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82C-C2A3-4025-8FCE-B6792B64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41D-A55E-4278-9D64-9F3F3B2F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34D-CD5E-4C19-90EE-ACF5DD20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7C2-AD5B-49BC-8083-566B3DC1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7E0-3FAE-4D4D-862B-FDDEE08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F5D-BB81-4E85-BF8B-138B062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338-6DAD-42C8-B729-CB0BB392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659B-1971-4495-82CB-FB03C23BA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, Evaluating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Writing the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actical approach, with vide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David Makhanlall, TEDU_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/23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expert opin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e date important on a specific source of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cross-check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91040" y="1828800"/>
            <a:ext cx="2761560" cy="1828440"/>
            <a:chOff x="3191040" y="1828800"/>
            <a:chExt cx="2761560" cy="1828440"/>
          </a:xfrm>
        </p:grpSpPr>
        <p:sp>
          <p:nvSpPr>
            <p:cNvPr id="73" name="Film"/>
            <p:cNvSpPr/>
            <p:nvPr/>
          </p:nvSpPr>
          <p:spPr>
            <a:xfrm>
              <a:off x="3191040" y="2294640"/>
              <a:ext cx="1152000" cy="1362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ound"/>
            <p:cNvSpPr/>
            <p:nvPr/>
          </p:nvSpPr>
          <p:spPr>
            <a:xfrm>
              <a:off x="3857400" y="1828800"/>
              <a:ext cx="1599840" cy="903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hoto"/>
            <p:cNvSpPr/>
            <p:nvPr/>
          </p:nvSpPr>
          <p:spPr>
            <a:xfrm>
              <a:off x="4466880" y="2365200"/>
              <a:ext cx="1485720" cy="819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Music"/>
            <p:cNvSpPr/>
            <p:nvPr/>
          </p:nvSpPr>
          <p:spPr>
            <a:xfrm>
              <a:off x="4638600" y="2845440"/>
              <a:ext cx="1218600" cy="7905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going on a road tri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t is in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map before the t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want to ge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cent m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286000" cy="462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213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ing sources for cred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“scan” information befor you decide on proceeding fu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lick on disc oppo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For de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0060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2309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not to print-out all the possible sources before you begin your es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organize you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2133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search done on a specific person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find sources on certain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514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our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link below for a short video on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986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answ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the two main types of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you go about deciding what type to use in your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956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403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br>
              <a:rPr sz="4400"/>
            </a:b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We are about to view our final movie clip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ant by “multiple perspecti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cide who or 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5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include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link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ite for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289548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4572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5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view  facts from different ang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use visual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ust we be careful to document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79056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be able to use Bloom’s Conceptual Knowle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errelationships among the basic elements within a larger structure that enable them to function together” and be able to organize research for an academic research paper, and complete th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12.7.  STRAND: WRITING GRADE LEVEL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Learning: Students would have already understood the basic components of an academic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take a loo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our follow 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deciding on a firm topic important before doing any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consider both primary and secondary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s it to document carefu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us review our previous less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quick review, here are the main components of an essay, as covered in our previous classes (refer to table oppo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Gener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write on what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select a strong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923112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6576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going to watch some very interesting videos on the Essay Wri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ideos are important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a prac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the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full of valuable hints and sugg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excellent examples of the key components of planning and completing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s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others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fic t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mportant it is to make notes on the main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good to write down any possible questions you may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505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1 “Persuasio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 of persuasion is the key to any good research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he use of “Persuasion” in an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Watch our video on Persua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Click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came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2701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2514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le facts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862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at you have a good idea on what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ua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et us move on to 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ideo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fa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ind an exp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you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the expe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Vid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581280" cy="43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HP Authorized Customer</cp:lastModifiedBy>
  <dcterms:modified xsi:type="dcterms:W3CDTF">2007-09-23T16:44:40Z</dcterms:modified>
  <cp:revision>5</cp:revision>
  <dc:subject/>
  <dc:title>Digital Streaming Template Title Here</dc:title>
</cp:coreProperties>
</file>