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386-B43E-410E-A3E4-021359A8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891-5F2F-45B5-B10A-86F8B685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66A-A65B-4192-91FD-20CE758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52A-CCFE-4E18-B84A-53E17579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22F-22EC-48B2-8691-27552B20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E42-81E1-4FA3-BFC2-DFB60A0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558-A79E-4411-8F00-8A333DD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30E-363E-4CF5-A074-CDA4890A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BD7-A219-4909-B3A9-6E794B5A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634-D455-4AA7-BDF5-912B88A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076-4FF6-4C23-8B56-2152938D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303-AF1B-4E00-93E4-5C005DD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F348-B361-497C-AAAB-2256B994E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lick on disc op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We are about to view our final movie clip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link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f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lick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am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09-23T16:44:40Z</dcterms:modified>
  <cp:revision>5</cp:revision>
  <dc:subject/>
  <dc:title>Digital Streaming Template Title Here</dc:title>
</cp:coreProperties>
</file>