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5F6-7B73-4768-9728-50B166E7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45D-42B7-47AF-BEE9-670F295C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A7A-ED9D-49D5-B52B-630ECBB6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9C1-9DB2-42FA-9A96-F3C732A6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6BB-F0FE-4444-BA58-1ACB6903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42C-54E8-477E-818A-57022844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F23-CBAA-4953-8549-BA8C73DF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0E4-FD2C-425B-BA07-D85C86A8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E11-EDB0-4502-BB09-8966F670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792-D026-4AFD-BF11-2DC37C8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4B2-4A61-4940-9C63-566B88C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C2F-BDC6-45C5-AF56-9928473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D8A6-E4B2-4B1F-A369-48F17B306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lick on disc opp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For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We are about to view our final movie clip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link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ite fo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Click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came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Vid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09-23T16:44:40Z</dcterms:modified>
  <cp:revision>5</cp:revision>
  <dc:subject/>
  <dc:title>Digital Streaming Template Title Here</dc:title>
</cp:coreProperties>
</file>