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CE8-C89A-45B9-B338-19507D1F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4AB-8CB2-40EE-9099-50BE0A7C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600-E571-4692-8B4E-F57BCF89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453-4EC9-49A2-A394-638BB09C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CAA-6542-4FE7-85C9-38503151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D68-786F-4EFC-A1A9-493C5F87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881-CACD-46D5-9DF8-24ACCA64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878-6ED1-417C-8EFB-A4024CDD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F34-E38D-47FC-9F4F-31223E26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72D-7E36-4C76-8ADD-6DB44071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461-203E-41CF-9E12-9B97110E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3A0-8C23-4681-A150-5C257D21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D2E2-EFD9-4085-9D74-40DD28EB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: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73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omeost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an plants grow up to 100’s of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ucture controls movement of things in &amp; out of the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unctions of the following organ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s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Vacu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plasmic Reticulum(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other name for the control center for the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ells have a similar structure to one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 important about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eventually die.  How do you think they reproduce themsel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designing life, how would you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NA? And 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it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s: BIO .4 d, BIO .6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 .4 d the cell membran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U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be able to name the important parts of the cell and know their function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Cells vs.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differences between mitosis and mei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learned that all living things are composed 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gun to explore the structure of cells and the importance of the 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ot only serves as a barrier, but also, it is the median for diffusion, osmosis, and active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inual research in cellular bi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ngoing studies, do an internet search for the “Human Genome Project” or “Alzeihmer’s Disea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llowing videos, you will get a deeper/visual understanding of the cell and its’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introduced to other structures within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cell division will be int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living and non-living things? (Characteristics of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a cell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also said to be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have an extra component around their cell membrane that offers protection and rigidity. 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Owner</cp:lastModifiedBy>
  <dcterms:modified xsi:type="dcterms:W3CDTF">2007-09-27T14:58:42Z</dcterms:modified>
  <cp:revision>18</cp:revision>
  <dc:subject/>
  <dc:title>Digital Streaming Template Title Here</dc:title>
</cp:coreProperties>
</file>