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4F8-29E9-46AF-9BCD-6A6F4DB0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A41-C018-48DD-95EE-C61E95B2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E33-3DAF-4970-B60C-8EC02135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61D-B729-4A76-88A0-872F2680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057-9242-4A30-8FC3-6C836685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A02-00EF-4D2D-80D3-D7909FDD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30F-233D-4F25-B14A-8C28F801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DDD-2618-4069-B76B-9C5FB25D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3B0-83B4-4820-B119-BC9C5147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FC1-11B0-48CB-8343-0D72C50F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4AF-A9E7-403D-AFD8-5DFAAA19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EC6-2B6D-456B-BA0D-37D1E255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EED7-0554-4909-AAA1-290270DB8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: A Closer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733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omeost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an plants grow up to 100’s of 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ucture controls movement of things in &amp; out of the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unctions of the following organ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s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Vacu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plasmic Reticulum(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other name for the control center for the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ells have a similar structure to one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 important about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eventually die.  How do you think they reproduce themselv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designing life, how would you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NA? And Why is 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it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s: BIO .4 d, BIO .6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 .4 d the cell membran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low U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be able to name the important parts of the cell and know their function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Cells vs.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e differences between mitosis and mei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learned that all living things are composed of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begun to explore the structure of cells and the importance of the cell 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not only serves as a barrier, but also, it is the median for diffusion, osmosis, and active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inual research in cellular bi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ngoing studies, do an internet search for the “Human Genome Project” or “Alzeihmer’s Disea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ollowing videos, you will get a deeper/visual understanding of the cell and its’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introduced to other structures within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cell division will be int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living and non-living things? (Characteristics of li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finition of a cell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ll is also said to be the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have an extra component around their cell membrane that offers protection and rigidity. 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Owner</cp:lastModifiedBy>
  <dcterms:modified xsi:type="dcterms:W3CDTF">2007-09-27T14:58:42Z</dcterms:modified>
  <cp:revision>18</cp:revision>
  <dc:subject/>
  <dc:title>Digital Streaming Template Title Here</dc:title>
</cp:coreProperties>
</file>