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DB5-3C89-44BB-B9C0-FAC214B1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D2F-F578-45BD-90D1-6D04DB07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547-E44F-4688-AABF-566D55CB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A415-B0D0-4240-BCCB-8BCD377F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E196-2A5B-4656-BC99-DD0CCE19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7686-172C-432F-B110-602498BA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A8D9-E617-4BB0-9A3C-04DA6999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6A7-DB7E-4FDF-848B-F242347A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A6D-0970-4A8C-93C3-34A25056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A98-3DEB-4731-A83C-A3EBDEE3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F8F3-7664-45DE-BE77-D6A24DD5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D35F-B10B-49F6-871A-67A0F51A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A74F-46FE-4777-9A9E-B7834BC96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: A Closer 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3733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omeost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an plants grow up to 100’s of f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ructure controls movement of things in &amp; out of the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functions of the following organel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s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Vacu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plasmic Reticulum(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other name for the control center for the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ll cells have a similar structure to one an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o important about D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ells eventually die.  How do you think they reproduce themselv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designing life, how would you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DNA? And Why is it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it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ei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s: BIO .4 d, BIO .6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 .4 d the cell membran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low Up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to be able to name the important parts of the cell and know their function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Cells vs.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the differences between mitosis and mei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learned that all living things are composed of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begun to explore the structure of cells and the importance of the cell membr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not only serves as a barrier, but also, it is the median for diffusion, osmosis, and active tran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continual research in cellular bi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ongoing studies, do an internet search for the “Human Genome Project” or “Alzeihmer’s Diseas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following videos, you will get a deeper/visual understanding of the cell and its’ com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introduced to other structures within th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of cell division will be int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living and non-living things? (Characteristics of lif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efinition of a cell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ell is also said to be the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have an extra component around their cell membrane that offers protection and rigidity.  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20:58:43Z</dcterms:created>
  <dc:creator>Authorized User</dc:creator>
  <dc:description/>
  <dc:language>en-US</dc:language>
  <cp:lastModifiedBy>Owner</cp:lastModifiedBy>
  <dcterms:modified xsi:type="dcterms:W3CDTF">2007-09-27T14:58:42Z</dcterms:modified>
  <cp:revision>18</cp:revision>
  <dc:subject/>
  <dc:title>Digital Streaming Template Title Here</dc:title>
</cp:coreProperties>
</file>