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DF4-A0E2-4C6B-860B-071E28E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AAE-3EB5-4C2A-9F09-5832DF71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660-D69A-4AA2-9F8C-F0CD28C6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1B1-5163-4D0C-AA8A-B800CDB7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483-0243-42E0-BC2B-2910AE0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4A7-71B0-4D7E-AC6E-C553CA4C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2DA-8917-4B6C-BC79-F14906F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0A4-B5EA-4B8F-8ED1-BA6D9E19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85C-7773-4D7A-836F-A930DEA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59F-1544-45F6-81E0-A008ECB1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7FD-0BE6-4D25-852A-B42D78F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79A-5832-498B-94D4-676CBF1A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61B-6716-4A88-A9A5-AFD66A46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: A Closer 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733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omeost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an plants grow up to 100’s of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ucture controls movement of things in &amp; out of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functions of the following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s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Vacu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plasmic Reticulum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other name for the control center for the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cells have a similar structure to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 important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eventually die.  How do you think they reproduce themselv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designing life, how woul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NA? And 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t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s: BIO .4 d, BIO .6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 .4 d the cell membra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low U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be able to name the important parts of the cell and know their function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vs.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differences between mitosis and mei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learned that all living things are composed 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gun to explore the structure of cells and the importance of the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ot only serves as a barrier, but also, it is the median for diffusion, osmosis, and 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inual research in cellular bi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going studies, do an internet search for the “Human Genome Project” or “Alzeihmer’s Disea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llowing videos, you will get a deeper/visual understanding of the cell and its’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introduced to other structure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cell division will be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living and non-living things? (Characteristics of lif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a c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also said to b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an extra component around their cell membrane that offers protection and rigidity. 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Owner</cp:lastModifiedBy>
  <dcterms:modified xsi:type="dcterms:W3CDTF">2007-09-27T14:58:42Z</dcterms:modified>
  <cp:revision>18</cp:revision>
  <dc:subject/>
  <dc:title>Digital Streaming Template Title Here</dc:title>
</cp:coreProperties>
</file>