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C2F-2DCA-450B-B5BD-625C7EEC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4D7-D44B-4935-B30F-E1BC90C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A50-3F6B-40C7-8555-538D5F5D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FFB-8950-429C-93A8-5DDABEC4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E9F-96B5-4AF7-B878-546DF214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A27-C4CC-4EC2-8C33-9E03A67D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D75-2759-4AD6-B3E3-BDE89D6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809-27B4-4FB6-B1C7-D0A6A2D5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8BC-F5ED-454B-B1CD-47D065F6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98E-7277-4343-A9C6-555B253C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F61-7F2E-476B-88A7-9FBC3ED1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3C3-8DDF-4026-BC94-4BA778AC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F17B-5AAA-43A2-BA67-765F1E9C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biblio.org/wm/paint/auth/monet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.wiki/Edgar_Degas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00680" cy="2847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4597200" cy="33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3218040" cy="35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00600" y="4267080"/>
            <a:ext cx="37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Fre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mpressioni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Monet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44628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514600"/>
            <a:ext cx="2293920" cy="290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431800" cy="328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1909800" cy="145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Monet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Pierre-Auguste Re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2431800" cy="30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99040"/>
            <a:ext cx="3610080" cy="2658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Renoir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568600" cy="338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809720" cy="207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0199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Edgar Deg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Degas’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280040"/>
            <a:ext cx="3949560" cy="257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133720"/>
            <a:ext cx="2705040" cy="1761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2816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Last 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o what is an Impressionist?  What do all of these artist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Write your answer on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42900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440080" cy="321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5052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4:54:41Z</dcterms:created>
  <dc:creator>Kelley L Turner</dc:creator>
  <dc:description/>
  <dc:language>en-US</dc:language>
  <cp:lastModifiedBy>Labuser</cp:lastModifiedBy>
  <dcterms:modified xsi:type="dcterms:W3CDTF">2007-12-10T19:41:23Z</dcterms:modified>
  <cp:revision>6</cp:revision>
  <dc:subject/>
  <dc:title>French Impressionists</dc:title>
</cp:coreProperties>
</file>