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9B6-78E7-491E-99B7-484D8AD8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12C-099C-43D6-AFBA-06630DB9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BD4-F7C2-41DB-B4F5-7349F93C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2FE-5868-4E85-9460-4B897E48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62B-710D-4D89-8FF5-47D933F0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25B-6071-4554-B776-0779F02F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AF2-A723-42CF-8222-5EDCB86C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1FF-ABC7-489A-A06D-A791F416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37C-C2E6-4323-87C9-55ACE698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AE8-5940-4E8D-95F1-B0BFE80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A66-0CB6-4258-AA4A-3FBBD75F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476-810E-475B-84C2-A9C5D539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AD11-03D2-49E6-8E57-C7CEE346F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biblio.org/wm/paint/auth/monet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.wiki/Edgar_Degas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00680" cy="2847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91120" y="533520"/>
            <a:ext cx="4597200" cy="3316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3218040" cy="352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800600" y="4267080"/>
            <a:ext cx="3772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Fren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mpressioni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Claude Mo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066680"/>
            <a:ext cx="6705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Monet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44628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2514600"/>
            <a:ext cx="2293920" cy="290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477120" y="2438280"/>
            <a:ext cx="2431800" cy="328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4920" y="2286000"/>
            <a:ext cx="1909800" cy="145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Monet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Pierre-Auguste Reno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2743200"/>
            <a:ext cx="2431800" cy="305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199040"/>
            <a:ext cx="3610080" cy="2658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Renoir’s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2568600" cy="3389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1809720" cy="207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01992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Edgar Deg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838080"/>
            <a:ext cx="6705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on Degas’ self portrait and answer the questions on your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280040"/>
            <a:ext cx="3949560" cy="257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5943600"/>
            <a:ext cx="1060560" cy="70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4800" y="60199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Click on the French flag when you have finished Renoir’s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2133720"/>
            <a:ext cx="2705040" cy="1761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095880" y="2362320"/>
            <a:ext cx="281628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Last Ques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o what is an Impressionist?  What do all of these artists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Write your answer on your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429000"/>
            <a:ext cx="2459160" cy="32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440080" cy="321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09480" y="3429000"/>
            <a:ext cx="250524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4:54:41Z</dcterms:created>
  <dc:creator>Kelley L Turner</dc:creator>
  <dc:description/>
  <dc:language>en-US</dc:language>
  <cp:lastModifiedBy>Labuser</cp:lastModifiedBy>
  <dcterms:modified xsi:type="dcterms:W3CDTF">2007-12-10T19:41:23Z</dcterms:modified>
  <cp:revision>6</cp:revision>
  <dc:subject/>
  <dc:title>French Impressionists</dc:title>
</cp:coreProperties>
</file>