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83E-3AB7-49FE-B230-7A8A1340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3CB-7F53-49CC-B1F1-019CCEA6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A1C-BCF1-489F-A913-2A263D42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5DD-484C-4F69-9001-76930057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778-02CC-478E-ADE4-A95FA49F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FEE-FD39-4030-AF38-484E2A3A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BEB-C5AB-490B-ADA0-60B4CA72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75B-ADA9-497F-9C3E-2ACE9F1D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DA9-E56C-47C5-8892-C6B0A5B8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CCB-0D61-46BA-8C51-E9AB6696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190-ED8A-43CF-BB16-2C1997E8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CD0-0765-4E2D-8823-12194760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E768-4936-4F01-89EC-7F35BC6CD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ibiblio.org/wm/paint/auth/monet/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.wiki/Edgar_Degas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000680" cy="2847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191120" y="533520"/>
            <a:ext cx="4597200" cy="3316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43000" y="3124080"/>
            <a:ext cx="3218040" cy="352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800600" y="4267080"/>
            <a:ext cx="37720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Fren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Impressioni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Claude Mo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1066680"/>
            <a:ext cx="6705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Monet’s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446280" cy="2654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9880" y="2514600"/>
            <a:ext cx="2293920" cy="2908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477120" y="2438280"/>
            <a:ext cx="2431800" cy="3289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4920" y="2286000"/>
            <a:ext cx="1909800" cy="1459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14800" y="60199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Monet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Pierre-Auguste Reno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2743200"/>
            <a:ext cx="2431800" cy="305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199040"/>
            <a:ext cx="3610080" cy="2658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838080"/>
            <a:ext cx="6705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Renoir’s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657600" y="2209680"/>
            <a:ext cx="2568600" cy="3389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66680" y="1828800"/>
            <a:ext cx="1809720" cy="2075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601992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Renoir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Edgar Deg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838080"/>
            <a:ext cx="6705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Degas’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280040"/>
            <a:ext cx="3949560" cy="257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2459160" cy="3205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14800" y="60199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Renoir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3520" y="2133720"/>
            <a:ext cx="2705040" cy="1761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095880" y="2362320"/>
            <a:ext cx="281628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Last Ques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o what is an Impressionist?  What do all of these artists have in com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Write your answer on your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3429000"/>
            <a:ext cx="2459160" cy="3205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2440080" cy="321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09480" y="3429000"/>
            <a:ext cx="25052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4:54:41Z</dcterms:created>
  <dc:creator>Kelley L Turner</dc:creator>
  <dc:description/>
  <dc:language>en-US</dc:language>
  <cp:lastModifiedBy>Labuser</cp:lastModifiedBy>
  <dcterms:modified xsi:type="dcterms:W3CDTF">2007-12-10T19:41:23Z</dcterms:modified>
  <cp:revision>6</cp:revision>
  <dc:subject/>
  <dc:title>French Impressionists</dc:title>
</cp:coreProperties>
</file>