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DB6-30B4-4866-8DD9-82EC5C3A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51A5-D025-4094-9C7F-20C67C57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EA4-3C8B-4F85-AFE7-026D05B2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0382-43D4-4695-B144-D2E9D83E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5BB-A66B-4C2C-8F54-D177CFC4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01EE-3945-449E-B063-0909E077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87B-49ED-4A45-A5CB-4E0B2F3A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C04-6C37-470E-A6A1-8CFCF13F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B8E3-5553-4B8D-9840-9E0AC061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B53E-4FC4-4CBC-AD40-157D8A96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DA7-515E-4E6D-A8F6-C5178AA4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013-8B13-4A17-B8DF-6520AFA3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95E8-8159-43D5-82EF-A8E3A8D26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ibiblio.org/wm/paint/auth/monet/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.wiki/Edgar_Degas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000680" cy="2847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191120" y="533520"/>
            <a:ext cx="4597200" cy="3316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143000" y="3124080"/>
            <a:ext cx="3218040" cy="352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800600" y="4267080"/>
            <a:ext cx="37720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adley Hand ITC"/>
              </a:rPr>
              <a:t>Fren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adley Hand ITC"/>
              <a:ea typeface="Bradley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adley Hand ITC"/>
              </a:rPr>
              <a:t>Impressionis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adley Hand ITC"/>
              <a:ea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Claude Mo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1066680"/>
            <a:ext cx="6705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on Monet’s self portrait and answer the questions on your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446280" cy="2654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9880" y="2514600"/>
            <a:ext cx="2293920" cy="2908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477120" y="2438280"/>
            <a:ext cx="2431800" cy="3289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04920" y="2286000"/>
            <a:ext cx="1909800" cy="1459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772400" y="5943600"/>
            <a:ext cx="1060560" cy="706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14800" y="601992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Click on the French flag when you have finished Monet’s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Pierre-Auguste Reno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2743200"/>
            <a:ext cx="2431800" cy="305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199040"/>
            <a:ext cx="3610080" cy="2658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838080"/>
            <a:ext cx="6705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on Renoir’s self portrait and answer the questions on your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657600" y="2209680"/>
            <a:ext cx="2568600" cy="3389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066680" y="1828800"/>
            <a:ext cx="1809720" cy="2075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772400" y="5943600"/>
            <a:ext cx="1060560" cy="706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38480" y="601992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Click on the French flag when you have finished Renoir’s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Edgar Deg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838080"/>
            <a:ext cx="6705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on Degas’ self portrait and answer the questions on your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280040"/>
            <a:ext cx="3949560" cy="257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581280" y="2133720"/>
            <a:ext cx="2459160" cy="3205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772400" y="5943600"/>
            <a:ext cx="1060560" cy="706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14800" y="601992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Click on the French flag when you have finished Renoir’s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33520" y="2133720"/>
            <a:ext cx="2705040" cy="1761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095880" y="2362320"/>
            <a:ext cx="281628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Last Ques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o what is an Impressionist?  What do all of these artists have in comm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Write your answer on your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3429000"/>
            <a:ext cx="2459160" cy="3205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429000" y="3429000"/>
            <a:ext cx="2440080" cy="3219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09480" y="3429000"/>
            <a:ext cx="250524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4:54:41Z</dcterms:created>
  <dc:creator>Kelley L Turner</dc:creator>
  <dc:description/>
  <dc:language>en-US</dc:language>
  <cp:lastModifiedBy>Labuser</cp:lastModifiedBy>
  <dcterms:modified xsi:type="dcterms:W3CDTF">2007-12-10T19:41:23Z</dcterms:modified>
  <cp:revision>6</cp:revision>
  <dc:subject/>
  <dc:title>French Impressionists</dc:title>
</cp:coreProperties>
</file>