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7D4-1950-4B90-9D38-114A1D0F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F34-1BA6-4BD4-A0AC-34CAB316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9BD-7D02-47AB-A63B-9D37EEA9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A29-4B7B-49B9-9F44-ADF11E0D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68B-EC84-4869-881F-0D566EE0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22C-1A4C-469A-B85E-3AD25EC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DFC-1738-4A95-9EEC-2A0B1883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205-0CE3-4A22-A142-CDCB4BB0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8D5-4D0F-4254-8CAF-CD17080A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973-6F40-49A1-BF3F-9206F90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761-D574-457F-9DC1-27D8443F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BCB-D454-408B-A463-46B2949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320D-BDED-4FC8-B8A9-8941C227E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biblio.org/wm/paint/auth/monet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.wiki/Edgar_Degas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00680" cy="2847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4597200" cy="33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3218040" cy="35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00600" y="4267080"/>
            <a:ext cx="37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Fre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mpressioni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Monet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44628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514600"/>
            <a:ext cx="2293920" cy="290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431800" cy="328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1909800" cy="145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Monet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Pierre-Auguste Re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2431800" cy="30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99040"/>
            <a:ext cx="3610080" cy="2658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Renoir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568600" cy="338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809720" cy="207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0199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Edgar Deg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Degas’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280040"/>
            <a:ext cx="3949560" cy="257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133720"/>
            <a:ext cx="2705040" cy="1761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2816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Last 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o what is an Impressionist?  What do all of these artist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Write your answer on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42900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440080" cy="321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5052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4:54:41Z</dcterms:created>
  <dc:creator>Kelley L Turner</dc:creator>
  <dc:description/>
  <dc:language>en-US</dc:language>
  <cp:lastModifiedBy>Labuser</cp:lastModifiedBy>
  <dcterms:modified xsi:type="dcterms:W3CDTF">2007-12-10T19:41:23Z</dcterms:modified>
  <cp:revision>6</cp:revision>
  <dc:subject/>
  <dc:title>French Impressionists</dc:title>
</cp:coreProperties>
</file>