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0A1B-0F9A-47CD-8910-5997F709D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1: African American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African Americans were lynched between the years of 1901-192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ear was the NAACP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is date signific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ities in Virginia adopted laws to segregate neighborhoo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resident ordered the federal segregation of work places, rest rooms and restaura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2: Harlem Rena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me did Jacob Lawrence paint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eries of artwork is Jacob Lawrence best know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slavery did Lawrence believe to be present during the Harlem Renaiss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3: Harlem Renaissance and Poli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formed the Black Nationalist movement coined “Back to Africa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key group/profession changed the way in which African Americans were view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DuBois mean when he said "all art is propaganda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F18-0822-475F-B127-569D3904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F21-2954-46DE-84AC-13D735FE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7FF-93F0-4E36-A4E1-BE7D5AF1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CF7-E10A-493D-93EB-EF2AFC01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479-397B-4AD2-967B-E38C0F30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928-AE35-4C1E-99BB-6C54277C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D56-1957-4AB8-AA13-B4B77E08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4B0-057B-4ACA-9B42-95E030A0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354-A83C-4BE8-81CB-DBE2DE4D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2A7D-090F-46F6-B766-61837E4A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049-D165-4D93-BF2E-B88E239B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42C-2CAA-4D53-803C-096C7BA2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3D48-6AD6-4CEF-88B1-E4B5560F21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ignificance of the Harlem Renaissance – Internet Activity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links on each slide to navigate to the desired web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each webpage and answer the questions associated with each slide (Hint: they go in order with the exception of question one on slide 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completing the questions for each slide, answer the Deeper Thinking questions in a paragraph each using your own words and thoughts on the su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64240" y="6284880"/>
            <a:ext cx="1549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495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frican American Timel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2286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author Zora Neale Hurston and use the website to answer the ‘Slide 1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19112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9246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arlem Renaissanc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3962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hot spot The Cotton Club and use the website to answer the ‘Slide 2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6095880"/>
            <a:ext cx="2438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924680" y="5638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arlem Renaissance and Politic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a jazz club and use the website to answer the ‘Slide 3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completed, answer the ‘Deeper Thinking’ questions on your worksheet – TO BE DISCUSSED WITH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67080" cy="6324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43000" y="6172200"/>
            <a:ext cx="23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Harlem Renaissance Projec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om one of the topics below to create a one page biography of a person or history of place key to the Harlem Renaissance using Microsoft Word. Email to teacher when comple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biography should contain information as to the influences in each person’s life and their contributions to the African American socie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ra Neale Hurst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b Callowa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 Bas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ston Hugh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ke Ellington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uis Armstr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us Garve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phine Bak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ie Holi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.E.B. DuBo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sie Smi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in Loc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cob Lawr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llo Thea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tton Cl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22:15:02Z</dcterms:created>
  <dc:creator>Gateway_User</dc:creator>
  <dc:description/>
  <dc:language>en-US</dc:language>
  <cp:lastModifiedBy>Gateway_User</cp:lastModifiedBy>
  <dcterms:modified xsi:type="dcterms:W3CDTF">2007-10-07T00:28:11Z</dcterms:modified>
  <cp:revision>8</cp:revision>
  <dc:subject/>
  <dc:title>Harlem Renaissance</dc:title>
</cp:coreProperties>
</file>