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C0962-8F6D-4BF7-8C9B-006916AD4F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1: African American Time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African Americans were lynched between the years of 1901-1925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year was the NAACP formed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this date significa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cities in Virginia adopted laws to segregate neighborhood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president ordered the federal segregation of work places, rest rooms and restaura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2: Harlem Renaiss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eme did Jacob Lawrence paint?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eries of artwork is Jacob Lawrence best known f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 of slavery did Lawrence believe to be present during the Harlem Renaissa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3: Harlem Renaissance and Poli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formed the Black Nationalist movement coined “Back to Africa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key group/profession changed the way in which African Americans were view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d DuBois mean when he said "all art is propaganda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4575-95E3-49C7-B051-2A8BC2A0D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A311-9DFD-4CD7-881A-504B6D603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5284-B967-44F7-9652-53834AC90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BD05-779B-45EB-9D0E-43BB84626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6021-E351-45D0-A2DD-AECE961E7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BA22-EC25-4537-8728-196784098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8FB4-610E-4616-AD41-1EDAF18DF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43BE-B7BF-44B5-A10F-661889415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62CF-3DA5-4E5E-AE61-A477A6E50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4D9B-E5A1-440B-93AE-3284DB18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1AAD-6277-4235-B921-AF8110EFF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3024-46EA-475A-88B3-0B88658BC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90E0E-EABB-41E4-8AB6-7DA74FBA5E6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Significance of the Harlem Renaissance – Internet Activity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he links on each slide to navigate to the desired web pa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d each webpage and answer the questions associated with each slide (Hint: they go in order with the exception of question one on slide 1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ter completing the questions for each slide, answer the Deeper Thinking questions in a paragraph each using your own words and thoughts on the subje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564240" y="6284880"/>
            <a:ext cx="15494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beg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48320" y="0"/>
            <a:ext cx="44956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African American Timelin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8320" y="22860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on the picture of author Zora Neale Hurston and use the website to answer the ‘Slide 1’ questions on your worksheet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here when d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4191120" cy="6172200"/>
          </a:xfrm>
          <a:prstGeom prst="rect">
            <a:avLst/>
          </a:prstGeom>
          <a:ln w="0">
            <a:noFill/>
          </a:ln>
        </p:spPr>
      </p:pic>
      <p:sp>
        <p:nvSpPr>
          <p:cNvPr id="55" name="">
            <a:hlinkClick r:id="" action="ppaction://hlinkshowjump?jump=nextslide"/>
          </p:cNvPr>
          <p:cNvSpPr/>
          <p:nvPr/>
        </p:nvSpPr>
        <p:spPr>
          <a:xfrm>
            <a:off x="7924680" y="55627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Harlem Renaissance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8229600" cy="39625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4495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on the picture of hot spot The Cotton Club and use the website to answer the ‘Slide 2’ questions on your worksheet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410080" y="6095880"/>
            <a:ext cx="24386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here when d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7924680" y="56386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723920" y="27432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Harlem Renaissance and Politics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48320" y="1904760"/>
            <a:ext cx="4495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on the picture of a jazz club and use the website to answer the ‘Slide 3’ questions on your worksheet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completed, answer the ‘Deeper Thinking’ questions on your worksheet – TO BE DISCUSSED WITH CL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267080" cy="6324480"/>
          </a:xfrm>
          <a:prstGeom prst="rect">
            <a:avLst/>
          </a:prstGeom>
          <a:ln w="0">
            <a:noFill/>
          </a:ln>
        </p:spPr>
      </p:pic>
      <p:sp>
        <p:nvSpPr>
          <p:cNvPr id="64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643000" y="6172200"/>
            <a:ext cx="23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here when d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Harlem Renaissance Projec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oose from one of the topics below to create a one page biography of a person or history of place key to the Harlem Renaissance using Microsoft Word. Email to teacher when complet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biography should contain information as to the influences in each person’s life and their contributions to the African American societ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ora Neale Hurst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b Callowa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unt Bas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ngston Hugh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ke Ellington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uis Armstro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cus Garve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sephine Bak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llie Holi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.E.B. DuBo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ssie Smi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ain Loc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cob Lawren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ollo Theat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tton Cl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6T22:15:02Z</dcterms:created>
  <dc:creator>Gateway_User</dc:creator>
  <dc:description/>
  <dc:language>en-US</dc:language>
  <cp:lastModifiedBy>Gateway_User</cp:lastModifiedBy>
  <dcterms:modified xsi:type="dcterms:W3CDTF">2007-10-07T00:28:11Z</dcterms:modified>
  <cp:revision>8</cp:revision>
  <dc:subject/>
  <dc:title>Harlem Renaissance</dc:title>
</cp:coreProperties>
</file>