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C127-6DD2-4206-B40E-0778C17D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1: African American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African Americans were lynched between the years of 1901-192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ear was the NAACP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date signific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ities in Virginia adopted laws to segregate neighborhoo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resident ordered the federal segregation of work places, rest rooms and restaur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2: Harlem Rena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me did Jacob Lawrence paint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eries of artwork is Jacob Lawrence best know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lavery did Lawrence believe to be present during the Harlem Renaiss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3: Harlem Renaissance and Poli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rmed the Black Nationalist movement coined “Back to Afric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key group/profession changed the way in which African Americans were view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DuBois mean when he said "all art is propagand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D12-18A2-43E1-AAB6-01C38494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FA3-C685-41F5-9597-EA7F2D7C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021-A695-4720-AF87-A3FAD713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4B1-5992-4954-9C9F-4B67E66B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B11-BE14-4897-907E-B6257F19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1FB-EC0A-4BD8-8154-9B789C8D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0E4-6B2D-47ED-9BF0-B28E81BF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641-3BB8-404B-8E4A-6E4B1E30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828-580D-4B7D-94CE-6AECA772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266-3EF8-458C-9AB0-747131D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170-00A6-4663-8F72-8293249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978-61E7-4836-B799-E784F577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A3CC-A814-498D-AA2C-02D395A7D4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gnificance of the Harlem Renaissance – Internet Activit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links on each slide to navigate to the desired web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each webpage and answer the questions associated with each slide (Hint: they go in order with the exception of question one on slide 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ompleting the questions for each slide, answer the Deeper Thinking questions in a paragraph each using your own words and thoughts on the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4240" y="6284880"/>
            <a:ext cx="1549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frican American Timel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uthor Zora Neale Hurston and use the website to answer the ‘Slide 1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hot spot The Cotton Club and use the website to answer the ‘Slide 2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6095880"/>
            <a:ext cx="2438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 and Politic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 jazz club and use the website to answer the ‘Slide 3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completed, answer the ‘Deeper Thinking’ questions on your worksheet – TO BE DISCUSSED WITH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3000" y="617220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arlem Renaissance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om one of the topics below to create a one page biography of a person or history of place key to the Harlem Renaissance using Microsoft Word. Email to teacher when comple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biography should contain information as to the influences in each person’s life and their contributions to the African American socie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ra Neale Hurs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 Callowa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Bas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ston Hugh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ke Ellington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 Arm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us Garv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phine Bak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ie Holi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. DuB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sie Sm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in Loc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 Law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The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tton Cl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2:15:02Z</dcterms:created>
  <dc:creator>Gateway_User</dc:creator>
  <dc:description/>
  <dc:language>en-US</dc:language>
  <cp:lastModifiedBy>Gateway_User</cp:lastModifiedBy>
  <dcterms:modified xsi:type="dcterms:W3CDTF">2007-10-07T00:28:11Z</dcterms:modified>
  <cp:revision>8</cp:revision>
  <dc:subject/>
  <dc:title>Harlem Renaissance</dc:title>
</cp:coreProperties>
</file>