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46F7-42BA-42A9-9E0E-88EEB36D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1: African American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African Americans were lynched between the years of 1901-192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ear was the NAACP form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date signific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ies in Virginia adopted laws to segregate neighborhoo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resident ordered the federal segregation of work places, rest rooms and restaura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2: Harlem Rena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me did Jacob Lawrence paint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ries of artwork is Jacob Lawrence best know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lavery did Lawrence believe to be present during the Harlem Renaiss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3: Harlem Renaissance and Poli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formed the Black Nationalist movement coined “Back to Afric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key group/profession changed the way in which African Americans were view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DuBois mean when he said "all art is propaganda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D52-EA44-4D45-B0FD-FA7CF046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009-3864-4947-96BA-AEAFB67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16C-188D-4370-90B8-319D0AAA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4BF-8490-4FD9-903E-6BAF76AB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D1A-FDB0-4EBD-9255-7252D43D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9E4-6A77-4B29-9AC2-C4849F7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2C4-37EF-4A28-9B7D-7FC58D1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40D-F2CF-4110-BE76-09FE7822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85A-9424-4451-8319-1D3632C9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99E-E242-45DB-A981-AD765774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113-ADA9-49A3-8001-DA8E4D5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B9A-0D6F-4F82-91DF-3ED2A88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5F17-C1EA-4A23-BFC3-B926F027D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ignificance of the Harlem Renaissance – Internet Activit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links on each slide to navigate to the desired web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each webpage and answer the questions associated with each slide (Hint: they go in order with the exception of question one on slide 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completing the questions for each slide, answer the Deeper Thinking questions in a paragraph each using your own words and thoughts on the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4240" y="6284880"/>
            <a:ext cx="1549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African American Timel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uthor Zora Neale Hurston and use the website to answer the ‘Slide 1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9246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3962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hot spot The Cotton Club and use the website to answer the ‘Slide 2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6095880"/>
            <a:ext cx="2438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9246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arlem Renaissance and Politic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picture of a jazz club and use the website to answer the ‘Slide 3’ questions on your workshe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ompleted, answer the ‘Deeper Thinking’ questions on your worksheet – TO BE DISCUSSED WITH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6708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3000" y="6172200"/>
            <a:ext cx="23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here when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Harlem Renaissance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om one of the topics below to create a one page biography of a person or history of place key to the Harlem Renaissance using Microsoft Word. Email to teacher when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biography should contain information as to the influences in each person’s life and their contributions to the African American socie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ra Neale Hurs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 Callowa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Ba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ke Ellington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uis Arm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us Garv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ine Bak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ie Hol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.E.B. DuB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sie Sm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in Loc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 Lawr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The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tton Cl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2:15:02Z</dcterms:created>
  <dc:creator>Gateway_User</dc:creator>
  <dc:description/>
  <dc:language>en-US</dc:language>
  <cp:lastModifiedBy>Gateway_User</cp:lastModifiedBy>
  <dcterms:modified xsi:type="dcterms:W3CDTF">2007-10-07T00:28:11Z</dcterms:modified>
  <cp:revision>8</cp:revision>
  <dc:subject/>
  <dc:title>Harlem Renaissance</dc:title>
</cp:coreProperties>
</file>