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F8E1-238E-4465-B689-D490FAA5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: African American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African Americans were lynched between the years of 1901-192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ear was the NAACP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date signific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ies in Virginia adopted laws to segregate neighborhoo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resident ordered the federal segregation of work places, rest rooms and restaur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: Harlem Rena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me did Jacob Lawrence paint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ies of artwork is Jacob Lawrence best know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lavery did Lawrence believe to be present during the Harlem Renaiss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: Harlem Renaissance and Poli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rmed the Black Nationalist movement coined “Back to Afric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key group/profession changed the way in which African Americans were view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DuBois mean when he said "all art is propagand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35F-54A0-4230-B18F-BD335021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E27-DCFC-4DD9-BEFD-A1F81721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106-2ED2-4E4F-A53F-EEF0714B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4BB-1D02-41A4-96F7-678FE13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246-B7D5-4457-9204-6CBC9D48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93B-F2CE-4C42-8534-3144F5C1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875-42C2-480F-84DC-3F130C07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C5A-B2A8-434C-A990-176BEC9D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FB3-419E-447B-B73C-6C68159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E80-267D-4A30-844B-6C499273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98B-0D9A-467D-8E01-95E6FE8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6CF-AEB1-41B0-80CB-1942736B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057F-F497-4C5B-8A61-5058A51AA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gnificance of the Harlem Renaissance – Internet Activit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inks on each slide to navigate to the desired web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each webpage and answer the questions associated with each slide (Hint: they go in order with the exception of question one on slide 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ng the questions for each slide, answer the Deeper Thinking questions in a paragraph each using your own words and thoughts on the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6284880"/>
            <a:ext cx="1549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ican American Timel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uthor Zora Neale Hurston and use the website to answer the ‘Slide 1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hot spot The Cotton Club and use the website to answer the ‘Slide 2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6095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 and Politic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 jazz club and use the website to answer the ‘Slide 3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ompleted, answer the ‘Deeper Thinking’ questions on your worksheet – TO BE DISCUSSED WITH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3000" y="617220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arlem Renaissance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one of the topics below to create a one page biography of a person or history of place key to the Harlem Renaissance using Microsoft Word. Email to teacher when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graphy should contain information as to the influences in each person’s life and their contributions to the African American socie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ra Neale Hur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 Callow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Ba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Ellington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 Arm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Ga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ine Bak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e Hol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. DuB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ie Sm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in Lo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Law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The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15:02Z</dcterms:created>
  <dc:creator>Gateway_User</dc:creator>
  <dc:description/>
  <dc:language>en-US</dc:language>
  <cp:lastModifiedBy>Gateway_User</cp:lastModifiedBy>
  <dcterms:modified xsi:type="dcterms:W3CDTF">2007-10-07T00:28:11Z</dcterms:modified>
  <cp:revision>8</cp:revision>
  <dc:subject/>
  <dc:title>Harlem Renaissance</dc:title>
</cp:coreProperties>
</file>