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6.png" ContentType="image/png"/>
  <Override PartName="/ppt/media/image5.png" ContentType="image/png"/>
  <Override PartName="/ppt/media/image7.png" ContentType="image/png"/>
  <Override PartName="/ppt/media/image1.jpeg" ContentType="image/jpeg"/>
  <Override PartName="/ppt/media/image15.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79E9-CDA8-47B7-B0CF-BF5114F9E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am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m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labo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in the camp was terrible</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overcrow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food ration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oners underwent interrogations to discover and information</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el medical experiments conducted</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3BC60-5B7F-4B99-B4DB-9E35B7712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F10A5-F9F8-44E5-BC79-F82670B3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98C6B-08F8-41F5-830A-17264099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BF4AB-9353-4972-AADC-0B37ABFB3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14A53-5804-4F34-BAEA-8528B87FF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C94E-CADE-4402-A430-0F8A2EE3B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F9FB-0D44-4759-A632-C8C2A4166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DF79B-B2DF-4742-9062-479081CA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42F5-375E-4982-9CF5-143C099C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D8EE-241C-4BA4-A36E-A6FDD9583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AD41-1DEF-48A8-80D4-A0656B7D0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4CC2F-787E-4028-92E8-8E2E95AC9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5582-41AA-4B7B-8525-A450D0CC87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hyperlink" Target="http://www.pbs.org/wgbh/pages/frontline/camp/view/" TargetMode="External"/><Relationship Id="rId4" Type="http://schemas.openxmlformats.org/officeDocument/2006/relationships/hyperlink" Target="http://www.pbs.org/auschwitz/maps/" TargetMode="External"/><Relationship Id="rId5" Type="http://schemas.openxmlformats.org/officeDocument/2006/relationships/slideLayout" Target="../slideLayouts/slideLayout7.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hyperlink" Target="http://www.historyplace.com/worldwar2/holocaust/h-zyklon.htm" TargetMode="External"/><Relationship Id="rId2" Type="http://schemas.openxmlformats.org/officeDocument/2006/relationships/hyperlink" Target="http://www.historyplace.com/worldwar2/holocaust/h-zyklon.htm"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ushmm.org/wlc/media_oi.php?lang=en&amp;ModuleId=10005145&amp;MediaId=1080"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sc.edu/schools/college/vhi/pyramidofhate/vhfmain.htm" TargetMode="Externa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hmm.org/wlc/media_da.php?lang=en&amp;ModuleId=10005175&amp;MediaId=107" TargetMode="External"/><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1.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04960" y="5790960"/>
            <a:ext cx="56386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
          <p:cNvSpPr txBox="1"/>
          <p:nvPr/>
        </p:nvSpPr>
        <p:spPr>
          <a:xfrm>
            <a:off x="2133720" y="2209680"/>
            <a:ext cx="5257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e Holocaus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hat is Genocide?</a:t>
            </a:r>
            <a:endParaRPr b="0" lang="en-US" sz="4400" spc="-1" strike="noStrike">
              <a:solidFill>
                <a:srgbClr val="e3ebf1"/>
              </a:solidFill>
              <a:latin typeface="Arial"/>
            </a:endParaRPr>
          </a:p>
        </p:txBody>
      </p:sp>
      <p:sp>
        <p:nvSpPr>
          <p:cNvPr id="85" name="PlaceHolder 2"/>
          <p:cNvSpPr>
            <a:spLocks noGrp="1"/>
          </p:cNvSpPr>
          <p:nvPr>
            <p:ph/>
          </p:nvPr>
        </p:nvSpPr>
        <p:spPr>
          <a:xfrm>
            <a:off x="456840" y="1599840"/>
            <a:ext cx="8381880" cy="35053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atic and purposeful destruction of a racial, political, religious, or cultural group.</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t and Current Genocide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locaus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1" action="ppaction://hlinksldjump"/>
              </a:rPr>
              <a:t>Armenia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2" action="ppaction://hlinksldjump"/>
              </a:rPr>
              <a:t>Soviet Un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3" action="ppaction://hlinksldjump"/>
              </a:rPr>
              <a:t>Cambod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4" action="ppaction://hlinksldjump"/>
              </a:rPr>
              <a:t>Rwand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5" action="ppaction://hlinksldjump"/>
              </a:rPr>
              <a:t>Yugoslavi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ccff"/>
                </a:solidFill>
                <a:uFillTx/>
                <a:latin typeface="Arial"/>
                <a:hlinkClick r:id="rId6" action="ppaction://hlinksldjump"/>
              </a:rPr>
              <a:t>Dafur</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87" name="PlaceHolder 2"/>
          <p:cNvSpPr>
            <a:spLocks noGrp="1"/>
          </p:cNvSpPr>
          <p:nvPr>
            <p:ph/>
          </p:nvPr>
        </p:nvSpPr>
        <p:spPr>
          <a:xfrm>
            <a:off x="457200" y="2743200"/>
            <a:ext cx="8229600" cy="1828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on how you believe the transportation of millions of people was actually able to take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
          <p:cNvSpPr/>
          <p:nvPr/>
        </p:nvSpPr>
        <p:spPr>
          <a:xfrm>
            <a:off x="5931000" y="5827680"/>
            <a:ext cx="23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ction="ppaction://hlinksldjump"/>
              </a:rPr>
              <a:t>Click Here for Ans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hetto</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ea within a city that all Jews were forced to liv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rations and living conditions were very po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Ghetto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saw</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dz</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vno</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1"/>
          <a:stretch/>
        </p:blipFill>
        <p:spPr>
          <a:xfrm>
            <a:off x="5105520" y="1676520"/>
            <a:ext cx="3033720" cy="4152960"/>
          </a:xfrm>
          <a:prstGeom prst="rect">
            <a:avLst/>
          </a:prstGeom>
          <a:ln w="0">
            <a:noFill/>
          </a:ln>
        </p:spPr>
      </p:pic>
      <p:sp>
        <p:nvSpPr>
          <p:cNvPr id="92"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ncentration Camps</a:t>
            </a:r>
            <a:endParaRPr b="0" lang="en-US" sz="4400" spc="-1" strike="noStrike">
              <a:solidFill>
                <a:srgbClr val="e3ebf1"/>
              </a:solidFill>
              <a:latin typeface="Arial"/>
            </a:endParaRPr>
          </a:p>
        </p:txBody>
      </p:sp>
      <p:pic>
        <p:nvPicPr>
          <p:cNvPr id="94" name="" descr=""/>
          <p:cNvPicPr/>
          <p:nvPr/>
        </p:nvPicPr>
        <p:blipFill>
          <a:blip r:embed="rId1"/>
          <a:stretch/>
        </p:blipFill>
        <p:spPr>
          <a:xfrm>
            <a:off x="609480" y="1295280"/>
            <a:ext cx="3657600" cy="2925720"/>
          </a:xfrm>
          <a:prstGeom prst="rect">
            <a:avLst/>
          </a:prstGeom>
          <a:ln w="0">
            <a:noFill/>
          </a:ln>
        </p:spPr>
      </p:pic>
      <p:pic>
        <p:nvPicPr>
          <p:cNvPr id="95" name="" descr=""/>
          <p:cNvPicPr/>
          <p:nvPr/>
        </p:nvPicPr>
        <p:blipFill>
          <a:blip r:embed="rId2"/>
          <a:stretch/>
        </p:blipFill>
        <p:spPr>
          <a:xfrm>
            <a:off x="838080" y="4267080"/>
            <a:ext cx="3048120" cy="2006640"/>
          </a:xfrm>
          <a:prstGeom prst="rect">
            <a:avLst/>
          </a:prstGeom>
          <a:ln w="0">
            <a:noFill/>
          </a:ln>
        </p:spPr>
      </p:pic>
      <p:sp>
        <p:nvSpPr>
          <p:cNvPr id="96" name="PlaceHolder 2"/>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ntration/Lab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mination/Death</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Cam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3"/>
              </a:rPr>
              <a:t>Dauchau-Buchenwa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4"/>
              </a:rPr>
              <a:t>Auschwitz</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blink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kenau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8153280" y="58672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portation</a:t>
            </a:r>
            <a:endParaRPr b="0" lang="en-US" sz="4400" spc="-1" strike="noStrike">
              <a:solidFill>
                <a:srgbClr val="e3ebf1"/>
              </a:solidFill>
              <a:latin typeface="Arial"/>
            </a:endParaRPr>
          </a:p>
        </p:txBody>
      </p:sp>
      <p:sp>
        <p:nvSpPr>
          <p:cNvPr id="99" name="PlaceHolder 2"/>
          <p:cNvSpPr>
            <a:spLocks noGrp="1"/>
          </p:cNvSpPr>
          <p:nvPr>
            <p:ph/>
          </p:nvPr>
        </p:nvSpPr>
        <p:spPr>
          <a:xfrm>
            <a:off x="4571640" y="1600200"/>
            <a:ext cx="43434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De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xc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in one c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s were bolted shu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lace to sit dow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people were forced to pay for their transport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water give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685800" y="1295280"/>
            <a:ext cx="3400560" cy="2551320"/>
          </a:xfrm>
          <a:prstGeom prst="rect">
            <a:avLst/>
          </a:prstGeom>
          <a:ln w="0">
            <a:noFill/>
          </a:ln>
        </p:spPr>
      </p:pic>
      <p:pic>
        <p:nvPicPr>
          <p:cNvPr id="101" name="" descr=""/>
          <p:cNvPicPr/>
          <p:nvPr/>
        </p:nvPicPr>
        <p:blipFill>
          <a:blip r:embed="rId2"/>
          <a:stretch/>
        </p:blipFill>
        <p:spPr>
          <a:xfrm>
            <a:off x="685800" y="3962520"/>
            <a:ext cx="3340080" cy="2359080"/>
          </a:xfrm>
          <a:prstGeom prst="rect">
            <a:avLst/>
          </a:prstGeom>
          <a:ln w="0">
            <a:noFill/>
          </a:ln>
        </p:spPr>
      </p:pic>
      <p:sp>
        <p:nvSpPr>
          <p:cNvPr id="102"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as Chambers</a:t>
            </a:r>
            <a:endParaRPr b="0" lang="en-US" sz="4400" spc="-1" strike="noStrike">
              <a:solidFill>
                <a:srgbClr val="e3ebf1"/>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victims did not know of their deat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 Chambers were referred to as Baths/Showers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Zyklon</a:t>
            </a:r>
            <a:r>
              <a:rPr b="0" lang="en-US" sz="2800" spc="-1" strike="noStrike" u="sng">
                <a:solidFill>
                  <a:srgbClr val="66ccff"/>
                </a:solidFill>
                <a:uFillTx/>
                <a:latin typeface="Arial"/>
                <a:hlinkClick r:id="rId2"/>
              </a:rPr>
              <a:t> B </a:t>
            </a:r>
            <a:r>
              <a:rPr b="0" lang="en-US" sz="2800" spc="-1" strike="noStrike">
                <a:solidFill>
                  <a:srgbClr val="ffffff"/>
                </a:solidFill>
                <a:latin typeface="Arial"/>
              </a:rPr>
              <a:t>– was used as a poi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of people came to their dea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 descr=""/>
          <p:cNvPicPr/>
          <p:nvPr/>
        </p:nvPicPr>
        <p:blipFill>
          <a:blip r:embed="rId3"/>
          <a:stretch/>
        </p:blipFill>
        <p:spPr>
          <a:xfrm>
            <a:off x="5181480" y="1219320"/>
            <a:ext cx="3246480" cy="2436840"/>
          </a:xfrm>
          <a:prstGeom prst="rect">
            <a:avLst/>
          </a:prstGeom>
          <a:ln w="0">
            <a:noFill/>
          </a:ln>
        </p:spPr>
      </p:pic>
      <p:pic>
        <p:nvPicPr>
          <p:cNvPr id="106" name="" descr=""/>
          <p:cNvPicPr/>
          <p:nvPr/>
        </p:nvPicPr>
        <p:blipFill>
          <a:blip r:embed="rId4"/>
          <a:stretch/>
        </p:blipFill>
        <p:spPr>
          <a:xfrm>
            <a:off x="5105520" y="3809880"/>
            <a:ext cx="3328920" cy="2365560"/>
          </a:xfrm>
          <a:prstGeom prst="rect">
            <a:avLst/>
          </a:prstGeom>
          <a:ln w="0">
            <a:noFill/>
          </a:ln>
        </p:spPr>
      </p:pic>
      <p:sp>
        <p:nvSpPr>
          <p:cNvPr id="107" name=""/>
          <p:cNvSpPr/>
          <p:nvPr/>
        </p:nvSpPr>
        <p:spPr>
          <a:xfrm>
            <a:off x="3808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7493"/>
                </a:moveTo>
                <a:lnTo>
                  <a:pt x="8502" y="7493"/>
                </a:lnTo>
                <a:lnTo>
                  <a:pt x="8502" y="12828"/>
                </a:lnTo>
                <a:cubicBezTo>
                  <a:pt x="8502" y="13751"/>
                  <a:pt x="9303" y="14482"/>
                  <a:pt x="10339" y="14482"/>
                </a:cubicBezTo>
                <a:lnTo>
                  <a:pt x="12001" y="14482"/>
                </a:lnTo>
                <a:cubicBezTo>
                  <a:pt x="13037" y="14482"/>
                  <a:pt x="13838" y="13751"/>
                  <a:pt x="13838" y="12828"/>
                </a:cubicBezTo>
                <a:lnTo>
                  <a:pt x="13838" y="7493"/>
                </a:lnTo>
                <a:lnTo>
                  <a:pt x="12001" y="7493"/>
                </a:lnTo>
                <a:lnTo>
                  <a:pt x="15509" y="3985"/>
                </a:lnTo>
                <a:lnTo>
                  <a:pt x="19182" y="7493"/>
                </a:lnTo>
                <a:lnTo>
                  <a:pt x="17345" y="7493"/>
                </a:lnTo>
                <a:lnTo>
                  <a:pt x="17345" y="12828"/>
                </a:lnTo>
                <a:cubicBezTo>
                  <a:pt x="17345" y="15596"/>
                  <a:pt x="14769" y="18155"/>
                  <a:pt x="12001" y="18155"/>
                </a:cubicBezTo>
                <a:lnTo>
                  <a:pt x="10339" y="18155"/>
                </a:lnTo>
                <a:cubicBezTo>
                  <a:pt x="7571" y="18155"/>
                  <a:pt x="4995" y="15596"/>
                  <a:pt x="49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rematoriums</a:t>
            </a:r>
            <a:endParaRPr b="0" lang="en-US" sz="4400" spc="-1" strike="noStrike">
              <a:solidFill>
                <a:srgbClr val="e3ebf1"/>
              </a:solidFill>
              <a:latin typeface="Arial"/>
            </a:endParaRPr>
          </a:p>
        </p:txBody>
      </p:sp>
      <p:sp>
        <p:nvSpPr>
          <p:cNvPr id="109" name="PlaceHolder 2"/>
          <p:cNvSpPr>
            <a:spLocks noGrp="1"/>
          </p:cNvSpPr>
          <p:nvPr>
            <p:ph/>
          </p:nvPr>
        </p:nvSpPr>
        <p:spPr>
          <a:xfrm>
            <a:off x="4876920" y="233208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soners were forced to staff the crematorium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job was to remove all valuables from the victi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 name="" descr=""/>
          <p:cNvPicPr/>
          <p:nvPr/>
        </p:nvPicPr>
        <p:blipFill>
          <a:blip r:embed="rId1"/>
          <a:stretch/>
        </p:blipFill>
        <p:spPr>
          <a:xfrm>
            <a:off x="457200" y="1523880"/>
            <a:ext cx="4038480" cy="2845080"/>
          </a:xfrm>
          <a:prstGeom prst="rect">
            <a:avLst/>
          </a:prstGeom>
          <a:ln w="0">
            <a:noFill/>
          </a:ln>
        </p:spPr>
      </p:pic>
      <p:sp>
        <p:nvSpPr>
          <p:cNvPr id="111" name=""/>
          <p:cNvSpPr/>
          <p:nvPr/>
        </p:nvSpPr>
        <p:spPr>
          <a:xfrm>
            <a:off x="1064160" y="5029200"/>
            <a:ext cx="274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a:hlinkClick r:id="rId2"/>
              </a:rPr>
              <a:t>Click here</a:t>
            </a:r>
            <a:r>
              <a:rPr b="0" lang="en-US" sz="2000" spc="-1" strike="noStrike" u="sng">
                <a:solidFill>
                  <a:srgbClr val="ffffff"/>
                </a:solidFill>
                <a:uFillTx/>
                <a:latin typeface="Arial"/>
              </a:rPr>
              <a:t> to watch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vivors Testimony…</a:t>
            </a:r>
            <a:endParaRPr b="0" lang="en-US" sz="2000" spc="-1" strike="noStrike">
              <a:solidFill>
                <a:srgbClr val="ffffff"/>
              </a:solidFill>
              <a:latin typeface="Arial"/>
            </a:endParaRPr>
          </a:p>
        </p:txBody>
      </p:sp>
      <p:sp>
        <p:nvSpPr>
          <p:cNvPr id="112" name=""/>
          <p:cNvSpPr/>
          <p:nvPr/>
        </p:nvSpPr>
        <p:spPr>
          <a:xfrm>
            <a:off x="792468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menian Genocide</a:t>
            </a:r>
            <a:endParaRPr b="0" lang="en-US" sz="4400" spc="-1" strike="noStrike">
              <a:solidFill>
                <a:srgbClr val="e3ebf1"/>
              </a:solidFill>
              <a:latin typeface="Arial"/>
            </a:endParaRPr>
          </a:p>
        </p:txBody>
      </p:sp>
      <p:sp>
        <p:nvSpPr>
          <p:cNvPr id="114"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15 – 192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0 men, women and children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00 survivors expelled form their homes</a:t>
            </a:r>
            <a:endParaRPr b="0" lang="en-US" sz="2800" spc="-1" strike="noStrike">
              <a:solidFill>
                <a:srgbClr val="ffffff"/>
              </a:solidFill>
              <a:latin typeface="Arial"/>
            </a:endParaRPr>
          </a:p>
        </p:txBody>
      </p:sp>
      <p:sp>
        <p:nvSpPr>
          <p:cNvPr id="115" name="">
            <a:hlinkClick r:id="rId1" action="ppaction://hlinksldjump"/>
          </p:cNvPr>
          <p:cNvSpPr/>
          <p:nvPr/>
        </p:nvSpPr>
        <p:spPr>
          <a:xfrm>
            <a:off x="792468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oviet Union (Famine)</a:t>
            </a:r>
            <a:endParaRPr b="0" lang="en-US" sz="4400" spc="-1" strike="noStrike">
              <a:solidFill>
                <a:srgbClr val="e3ebf1"/>
              </a:solidFill>
              <a:latin typeface="Arial"/>
            </a:endParaRPr>
          </a:p>
        </p:txBody>
      </p:sp>
      <p:sp>
        <p:nvSpPr>
          <p:cNvPr id="117"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sants, government and military leaders, and members of the elite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32 – 1933</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made famine – Soviet troops seized all of the crops</a:t>
            </a:r>
            <a:endParaRPr b="0" lang="en-US" sz="2800" spc="-1" strike="noStrike">
              <a:solidFill>
                <a:srgbClr val="ffffff"/>
              </a:solidFill>
              <a:latin typeface="Arial"/>
            </a:endParaRPr>
          </a:p>
        </p:txBody>
      </p:sp>
      <p:sp>
        <p:nvSpPr>
          <p:cNvPr id="118" name="">
            <a:hlinkClick r:id="rId1" action="ppaction://hlinksldjump"/>
          </p:cNvPr>
          <p:cNvSpPr/>
          <p:nvPr/>
        </p:nvSpPr>
        <p:spPr>
          <a:xfrm>
            <a:off x="7848720" y="57150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7493"/>
                </a:moveTo>
                <a:lnTo>
                  <a:pt x="8284" y="7493"/>
                </a:lnTo>
                <a:lnTo>
                  <a:pt x="8284" y="12828"/>
                </a:lnTo>
                <a:cubicBezTo>
                  <a:pt x="8284" y="13751"/>
                  <a:pt x="9085" y="14482"/>
                  <a:pt x="10121" y="14482"/>
                </a:cubicBezTo>
                <a:lnTo>
                  <a:pt x="11783" y="14482"/>
                </a:lnTo>
                <a:cubicBezTo>
                  <a:pt x="12819" y="14482"/>
                  <a:pt x="13620" y="13751"/>
                  <a:pt x="13620" y="12828"/>
                </a:cubicBezTo>
                <a:lnTo>
                  <a:pt x="13620" y="7493"/>
                </a:lnTo>
                <a:lnTo>
                  <a:pt x="11783" y="7493"/>
                </a:lnTo>
                <a:lnTo>
                  <a:pt x="15291" y="3985"/>
                </a:lnTo>
                <a:lnTo>
                  <a:pt x="18964" y="7493"/>
                </a:lnTo>
                <a:lnTo>
                  <a:pt x="17127" y="7493"/>
                </a:lnTo>
                <a:lnTo>
                  <a:pt x="17127" y="12828"/>
                </a:lnTo>
                <a:cubicBezTo>
                  <a:pt x="17127" y="15596"/>
                  <a:pt x="14551" y="18155"/>
                  <a:pt x="11783" y="18155"/>
                </a:cubicBezTo>
                <a:lnTo>
                  <a:pt x="10121" y="18155"/>
                </a:lnTo>
                <a:cubicBezTo>
                  <a:pt x="7353" y="18155"/>
                  <a:pt x="4777" y="15596"/>
                  <a:pt x="4777"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ambodia</a:t>
            </a:r>
            <a:endParaRPr b="0" lang="en-US" sz="4400" spc="-1" strike="noStrike">
              <a:solidFill>
                <a:srgbClr val="e3ebf1"/>
              </a:solidFill>
              <a:latin typeface="Arial"/>
            </a:endParaRPr>
          </a:p>
        </p:txBody>
      </p:sp>
      <p:sp>
        <p:nvSpPr>
          <p:cNvPr id="12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d, artists, technicians, formers government officials, monks, and minoritie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5- 1979</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00,000 murdered – this includes those who died by slave labor</a:t>
            </a:r>
            <a:endParaRPr b="0" lang="en-US" sz="2800" spc="-1" strike="noStrike">
              <a:solidFill>
                <a:srgbClr val="ffffff"/>
              </a:solidFill>
              <a:latin typeface="Arial"/>
            </a:endParaRPr>
          </a:p>
        </p:txBody>
      </p:sp>
      <p:sp>
        <p:nvSpPr>
          <p:cNvPr id="121" name="">
            <a:hlinkClick r:id="rId1" action="ppaction://hlinksldjump"/>
          </p:cNvPr>
          <p:cNvSpPr/>
          <p:nvPr/>
        </p:nvSpPr>
        <p:spPr>
          <a:xfrm>
            <a:off x="7924680" y="563868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Question</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examples in History, in which people were discriminated against, hated because of their race, religion or political 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with a partner what it means to discriminate against?</a:t>
            </a:r>
            <a:endParaRPr b="0" lang="en-US" sz="3200" spc="-1" strike="noStrike">
              <a:solidFill>
                <a:srgbClr val="ffffff"/>
              </a:solidFill>
              <a:latin typeface="Arial"/>
            </a:endParaRPr>
          </a:p>
        </p:txBody>
      </p:sp>
      <p:sp>
        <p:nvSpPr>
          <p:cNvPr id="53" name="">
            <a:hlinkClick r:id="rId1" action="ppaction://hlinksldjump"/>
          </p:cNvPr>
          <p:cNvSpPr/>
          <p:nvPr/>
        </p:nvSpPr>
        <p:spPr>
          <a:xfrm>
            <a:off x="8153280" y="5943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wanda</a:t>
            </a: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tsi and moderate Hutu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4</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ed only 100 days</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37,000 murdered – largest amounts of people to die in genocide per day</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4" name="">
            <a:hlinkClick r:id="rId1" action="ppaction://hlinksldjump"/>
          </p:cNvPr>
          <p:cNvSpPr/>
          <p:nvPr/>
        </p:nvSpPr>
        <p:spPr>
          <a:xfrm>
            <a:off x="7772400" y="556272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Yugoslavia</a:t>
            </a:r>
            <a:endParaRPr b="0" lang="en-US" sz="4400" spc="-1" strike="noStrike">
              <a:solidFill>
                <a:srgbClr val="e3ebf1"/>
              </a:solidFill>
              <a:latin typeface="Arial"/>
            </a:endParaRPr>
          </a:p>
        </p:txBody>
      </p:sp>
      <p:sp>
        <p:nvSpPr>
          <p:cNvPr id="126" name="PlaceHolder 2"/>
          <p:cNvSpPr>
            <a:spLocks noGrp="1"/>
          </p:cNvSpPr>
          <p:nvPr>
            <p:ph/>
          </p:nvPr>
        </p:nvSpPr>
        <p:spPr>
          <a:xfrm>
            <a:off x="685800" y="233208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nian Muslims and Croat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 – 1995 </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rebrenica Massacre – 8,000 murdered</a:t>
            </a:r>
            <a:endParaRPr b="0" lang="en-US" sz="2800" spc="-1" strike="noStrike">
              <a:solidFill>
                <a:srgbClr val="ffffff"/>
              </a:solidFill>
              <a:latin typeface="Arial"/>
            </a:endParaRPr>
          </a:p>
        </p:txBody>
      </p:sp>
      <p:sp>
        <p:nvSpPr>
          <p:cNvPr id="127" name="">
            <a:hlinkClick r:id="rId1" action="ppaction://hlinksldjump"/>
          </p:cNvPr>
          <p:cNvSpPr/>
          <p:nvPr/>
        </p:nvSpPr>
        <p:spPr>
          <a:xfrm>
            <a:off x="8001000" y="57150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7493"/>
                </a:moveTo>
                <a:lnTo>
                  <a:pt x="8202" y="7493"/>
                </a:lnTo>
                <a:lnTo>
                  <a:pt x="8202" y="12828"/>
                </a:lnTo>
                <a:cubicBezTo>
                  <a:pt x="8202" y="13751"/>
                  <a:pt x="9003" y="14482"/>
                  <a:pt x="10039" y="14482"/>
                </a:cubicBezTo>
                <a:lnTo>
                  <a:pt x="11701" y="14482"/>
                </a:lnTo>
                <a:cubicBezTo>
                  <a:pt x="12737" y="14482"/>
                  <a:pt x="13538" y="13751"/>
                  <a:pt x="13538" y="12828"/>
                </a:cubicBezTo>
                <a:lnTo>
                  <a:pt x="13538" y="7493"/>
                </a:lnTo>
                <a:lnTo>
                  <a:pt x="11701" y="7493"/>
                </a:lnTo>
                <a:lnTo>
                  <a:pt x="15209" y="3985"/>
                </a:lnTo>
                <a:lnTo>
                  <a:pt x="18882" y="7493"/>
                </a:lnTo>
                <a:lnTo>
                  <a:pt x="17045" y="7493"/>
                </a:lnTo>
                <a:lnTo>
                  <a:pt x="17045" y="12828"/>
                </a:lnTo>
                <a:cubicBezTo>
                  <a:pt x="17045" y="15596"/>
                  <a:pt x="14469" y="18155"/>
                  <a:pt x="11701" y="18155"/>
                </a:cubicBezTo>
                <a:lnTo>
                  <a:pt x="10039" y="18155"/>
                </a:lnTo>
                <a:cubicBezTo>
                  <a:pt x="7271" y="18155"/>
                  <a:pt x="4695" y="15596"/>
                  <a:pt x="4695"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arfur</a:t>
            </a:r>
            <a:endParaRPr b="0" lang="en-US" sz="4400" spc="-1" strike="noStrike">
              <a:solidFill>
                <a:srgbClr val="e3ebf1"/>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 black African groups (including – Fur, Zaghawa and Massalit)</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0 murder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0,000 displaced</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ongoing </a:t>
            </a:r>
            <a:endParaRPr b="0" lang="en-US" sz="28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 began in February 2003 </a:t>
            </a:r>
            <a:endParaRPr b="0" lang="en-US" sz="2400" spc="-1" strike="noStrike">
              <a:solidFill>
                <a:srgbClr val="ffffff"/>
              </a:solidFill>
              <a:latin typeface="Arial"/>
            </a:endParaRPr>
          </a:p>
          <a:p>
            <a:pPr lvl="2" marL="13716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s from the 1980’s</a:t>
            </a:r>
            <a:endParaRPr b="0" lang="en-US" sz="24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s 200,000 killed – this is a conservative estimat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0" name="">
            <a:hlinkClick r:id="rId1" action="ppaction://hlinksldjump"/>
          </p:cNvPr>
          <p:cNvSpPr/>
          <p:nvPr/>
        </p:nvSpPr>
        <p:spPr>
          <a:xfrm>
            <a:off x="8077320" y="57913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66ccff"/>
                </a:solidFill>
                <a:uFillTx/>
                <a:latin typeface="Arial"/>
                <a:hlinkClick r:id="rId1"/>
              </a:rPr>
              <a:t>Pyramid of Hate</a:t>
            </a:r>
            <a:endParaRPr b="0" lang="en-US" sz="4400" spc="-1" strike="noStrike">
              <a:solidFill>
                <a:srgbClr val="e3ebf1"/>
              </a:solidFill>
              <a:latin typeface="Arial"/>
            </a:endParaRPr>
          </a:p>
        </p:txBody>
      </p:sp>
      <p:pic>
        <p:nvPicPr>
          <p:cNvPr id="55" name="" descr=""/>
          <p:cNvPicPr/>
          <p:nvPr/>
        </p:nvPicPr>
        <p:blipFill>
          <a:blip r:embed="rId2"/>
          <a:stretch/>
        </p:blipFill>
        <p:spPr>
          <a:xfrm>
            <a:off x="1143000" y="1600200"/>
            <a:ext cx="3851280" cy="4800600"/>
          </a:xfrm>
          <a:prstGeom prst="rect">
            <a:avLst/>
          </a:prstGeom>
          <a:ln w="0">
            <a:noFill/>
          </a:ln>
        </p:spPr>
      </p:pic>
      <p:sp>
        <p:nvSpPr>
          <p:cNvPr id="56" name=""/>
          <p:cNvSpPr/>
          <p:nvPr/>
        </p:nvSpPr>
        <p:spPr>
          <a:xfrm>
            <a:off x="5334120" y="2666880"/>
            <a:ext cx="3504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This pyramid shows how hate can escalate into something more than just discrimination but into extermination.</a:t>
            </a:r>
            <a:endParaRPr b="0" lang="en-US" sz="2400" spc="-1" strike="noStrike">
              <a:solidFill>
                <a:srgbClr val="ffffff"/>
              </a:solidFill>
              <a:latin typeface="Arial"/>
            </a:endParaRPr>
          </a:p>
        </p:txBody>
      </p:sp>
      <p:sp>
        <p:nvSpPr>
          <p:cNvPr id="57" name="">
            <a:hlinkClick r:id="rId3" action="ppaction://hlinksldjump"/>
          </p:cNvPr>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lements Leading to the Holocaust</a:t>
            </a:r>
            <a:endParaRPr b="0" lang="en-US" sz="4000" spc="-1" strike="noStrike">
              <a:solidFill>
                <a:srgbClr val="e3ebf1"/>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ction="ppaction://hlinksldjump"/>
              </a:rPr>
              <a:t>Totalitarianism</a:t>
            </a:r>
            <a:r>
              <a:rPr b="0" lang="en-US" sz="3200" spc="-1" strike="noStrike" u="sng">
                <a:solidFill>
                  <a:srgbClr val="ffffff"/>
                </a:solidFill>
                <a:uFillTx/>
                <a:latin typeface="Arial"/>
              </a:rPr>
              <a:t> combined with </a:t>
            </a:r>
            <a:r>
              <a:rPr b="0" lang="en-US" sz="3200" spc="-1" strike="noStrike" u="sng">
                <a:solidFill>
                  <a:srgbClr val="66ccff"/>
                </a:solidFill>
                <a:uFillTx/>
                <a:latin typeface="Arial"/>
                <a:hlinkClick r:id="rId2" action="ppaction://hlinksldjump"/>
              </a:rPr>
              <a:t>Nation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t>
            </a:r>
            <a:r>
              <a:rPr b="0" lang="en-US" sz="3200" spc="-1" strike="noStrike" u="sng">
                <a:solidFill>
                  <a:srgbClr val="66ccff"/>
                </a:solidFill>
                <a:uFillTx/>
                <a:latin typeface="Arial"/>
                <a:hlinkClick r:id="rId3" action="ppaction://hlinksldjump"/>
              </a:rPr>
              <a:t>Anti-Semi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eat in World War 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ler’s belief in the </a:t>
            </a:r>
            <a:r>
              <a:rPr b="0" lang="en-US" sz="3200" spc="-1" strike="noStrike" u="sng">
                <a:solidFill>
                  <a:srgbClr val="66ccff"/>
                </a:solidFill>
                <a:uFillTx/>
                <a:latin typeface="Arial"/>
                <a:hlinkClick r:id="rId4" action="ppaction://hlinksldjump"/>
              </a:rPr>
              <a:t>Master R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5" action="ppaction://hlinksldjump"/>
              </a:rPr>
              <a:t>Final Solution</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talitarianism</a:t>
            </a:r>
            <a:endParaRPr b="0" lang="en-US" sz="4400" spc="-1" strike="noStrike">
              <a:solidFill>
                <a:srgbClr val="e3ebf1"/>
              </a:solidFill>
              <a:latin typeface="Arial"/>
            </a:endParaRPr>
          </a:p>
        </p:txBody>
      </p:sp>
      <p:sp>
        <p:nvSpPr>
          <p:cNvPr id="61"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alized control by an autocratic authority and the political concept that the citizens should be totally subjected to an absolute state authority </a:t>
            </a:r>
            <a:endParaRPr b="0" lang="en-US" sz="2800" spc="-1" strike="noStrike">
              <a:solidFill>
                <a:srgbClr val="ffffff"/>
              </a:solidFill>
              <a:latin typeface="Arial"/>
            </a:endParaRPr>
          </a:p>
        </p:txBody>
      </p:sp>
      <p:pic>
        <p:nvPicPr>
          <p:cNvPr id="62" name="" descr=""/>
          <p:cNvPicPr/>
          <p:nvPr/>
        </p:nvPicPr>
        <p:blipFill>
          <a:blip r:embed="rId1"/>
          <a:stretch/>
        </p:blipFill>
        <p:spPr>
          <a:xfrm>
            <a:off x="5334120" y="1523880"/>
            <a:ext cx="2950920" cy="4743720"/>
          </a:xfrm>
          <a:prstGeom prst="rect">
            <a:avLst/>
          </a:prstGeom>
          <a:ln w="0">
            <a:noFill/>
          </a:ln>
        </p:spPr>
      </p:pic>
      <p:sp>
        <p:nvSpPr>
          <p:cNvPr id="63" name="">
            <a:hlinkClick r:id="rId2" action="ppaction://hlinksldjump"/>
          </p:cNvPr>
          <p:cNvSpPr/>
          <p:nvPr/>
        </p:nvSpPr>
        <p:spPr>
          <a:xfrm>
            <a:off x="4572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ationalism</a:t>
            </a:r>
            <a:endParaRPr b="0" lang="en-US" sz="4400" spc="-1" strike="noStrike">
              <a:solidFill>
                <a:srgbClr val="e3ebf1"/>
              </a:solidFill>
              <a:latin typeface="Arial"/>
            </a:endParaRPr>
          </a:p>
        </p:txBody>
      </p:sp>
      <p:sp>
        <p:nvSpPr>
          <p:cNvPr id="6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46160" y="1600200"/>
            <a:ext cx="4040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yalty and devotion to a nation; and a sense of national consciousness exalting ones nation above all others and placing primary emphasis on promotion of its culture and interests as opposed to those of other nations or supranational group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67" name="" descr=""/>
          <p:cNvPicPr/>
          <p:nvPr/>
        </p:nvPicPr>
        <p:blipFill>
          <a:blip r:embed="rId1"/>
          <a:stretch/>
        </p:blipFill>
        <p:spPr>
          <a:xfrm>
            <a:off x="609480" y="1600200"/>
            <a:ext cx="3873600" cy="4495680"/>
          </a:xfrm>
          <a:prstGeom prst="rect">
            <a:avLst/>
          </a:prstGeom>
          <a:ln w="0">
            <a:noFill/>
          </a:ln>
        </p:spPr>
      </p:pic>
      <p:sp>
        <p:nvSpPr>
          <p:cNvPr id="68" name="">
            <a:hlinkClick r:id="rId2" action="ppaction://hlinksldjump"/>
          </p:cNvPr>
          <p:cNvSpPr/>
          <p:nvPr/>
        </p:nvSpPr>
        <p:spPr>
          <a:xfrm>
            <a:off x="8077320" y="5867280"/>
            <a:ext cx="761760" cy="762120"/>
          </a:xfrm>
          <a:custGeom>
            <a:avLst/>
            <a:gdLst>
              <a:gd name="textAreaLeft" fmla="*/ 49320 w 761760"/>
              <a:gd name="textAreaRight" fmla="*/ 712440 w 761760"/>
              <a:gd name="textAreaTop" fmla="*/ 49320 h 762120"/>
              <a:gd name="textAreaBottom" fmla="*/ 712800 h 76212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498"/>
                </a:moveTo>
                <a:lnTo>
                  <a:pt x="7301" y="7498"/>
                </a:lnTo>
                <a:lnTo>
                  <a:pt x="7301" y="12833"/>
                </a:lnTo>
                <a:cubicBezTo>
                  <a:pt x="7301" y="13756"/>
                  <a:pt x="8102" y="14487"/>
                  <a:pt x="9138" y="14487"/>
                </a:cubicBezTo>
                <a:lnTo>
                  <a:pt x="10800" y="14487"/>
                </a:lnTo>
                <a:cubicBezTo>
                  <a:pt x="11836" y="14487"/>
                  <a:pt x="12636" y="13756"/>
                  <a:pt x="12636" y="12833"/>
                </a:cubicBezTo>
                <a:lnTo>
                  <a:pt x="12636" y="7498"/>
                </a:lnTo>
                <a:lnTo>
                  <a:pt x="10800" y="7498"/>
                </a:lnTo>
                <a:lnTo>
                  <a:pt x="14308" y="3990"/>
                </a:lnTo>
                <a:lnTo>
                  <a:pt x="17981" y="7498"/>
                </a:lnTo>
                <a:lnTo>
                  <a:pt x="16144" y="7498"/>
                </a:lnTo>
                <a:lnTo>
                  <a:pt x="16144" y="12833"/>
                </a:lnTo>
                <a:cubicBezTo>
                  <a:pt x="16144" y="15601"/>
                  <a:pt x="13568" y="18160"/>
                  <a:pt x="10800" y="18160"/>
                </a:cubicBezTo>
                <a:lnTo>
                  <a:pt x="9138" y="18160"/>
                </a:lnTo>
                <a:cubicBezTo>
                  <a:pt x="6370" y="18160"/>
                  <a:pt x="3794" y="15601"/>
                  <a:pt x="3794" y="12833"/>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ti-Semitism</a:t>
            </a:r>
            <a:endParaRPr b="0" lang="en-US" sz="4400" spc="-1" strike="noStrike">
              <a:solidFill>
                <a:srgbClr val="e3ebf1"/>
              </a:solidFill>
              <a:latin typeface="Arial"/>
            </a:endParaRPr>
          </a:p>
        </p:txBody>
      </p:sp>
      <p:sp>
        <p:nvSpPr>
          <p:cNvPr id="70" name="PlaceHolder 2"/>
          <p:cNvSpPr>
            <a:spLocks noGrp="1"/>
          </p:cNvSpPr>
          <p:nvPr>
            <p:ph/>
          </p:nvPr>
        </p:nvSpPr>
        <p:spPr>
          <a:xfrm>
            <a:off x="5181120" y="1600200"/>
            <a:ext cx="34290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tility toward or discrimination against Jews as a religious, ethnic, or racial group. </a:t>
            </a:r>
            <a:endParaRPr b="0" lang="en-US" sz="2800" spc="-1" strike="noStrike">
              <a:solidFill>
                <a:srgbClr val="ffffff"/>
              </a:solidFill>
              <a:latin typeface="Arial"/>
            </a:endParaRPr>
          </a:p>
        </p:txBody>
      </p:sp>
      <p:pic>
        <p:nvPicPr>
          <p:cNvPr id="71" name="" descr=""/>
          <p:cNvPicPr/>
          <p:nvPr/>
        </p:nvPicPr>
        <p:blipFill>
          <a:blip r:embed="rId1"/>
          <a:stretch/>
        </p:blipFill>
        <p:spPr>
          <a:xfrm>
            <a:off x="685800" y="1219320"/>
            <a:ext cx="3657600" cy="2689200"/>
          </a:xfrm>
          <a:prstGeom prst="rect">
            <a:avLst/>
          </a:prstGeom>
          <a:ln w="0">
            <a:noFill/>
          </a:ln>
        </p:spPr>
      </p:pic>
      <p:pic>
        <p:nvPicPr>
          <p:cNvPr id="72" name="" descr="">
            <a:hlinkClick r:id="rId2"/>
          </p:cNvPr>
          <p:cNvPicPr/>
          <p:nvPr/>
        </p:nvPicPr>
        <p:blipFill>
          <a:blip r:embed="rId3"/>
          <a:stretch/>
        </p:blipFill>
        <p:spPr>
          <a:xfrm>
            <a:off x="685800" y="4114800"/>
            <a:ext cx="3657600" cy="2467080"/>
          </a:xfrm>
          <a:prstGeom prst="rect">
            <a:avLst/>
          </a:prstGeom>
          <a:ln w="0">
            <a:noFill/>
          </a:ln>
        </p:spPr>
      </p:pic>
      <p:sp>
        <p:nvSpPr>
          <p:cNvPr id="73" name=""/>
          <p:cNvSpPr/>
          <p:nvPr/>
        </p:nvSpPr>
        <p:spPr>
          <a:xfrm>
            <a:off x="974880" y="1712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74"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ster Race</a:t>
            </a:r>
            <a:endParaRPr b="0" lang="en-US" sz="4400" spc="-1" strike="noStrike">
              <a:solidFill>
                <a:srgbClr val="e3ebf1"/>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Nazism to designate a supposed master race of Non-Jewish Caucasians usually </a:t>
            </a:r>
            <a:r>
              <a:rPr b="0" lang="en-US" sz="2800" spc="-1" strike="noStrike">
                <a:solidFill>
                  <a:srgbClr val="ffffff"/>
                </a:solidFill>
                <a:latin typeface="Arial"/>
              </a:rPr>
              <a:t>	</a:t>
            </a:r>
            <a:r>
              <a:rPr b="0" lang="en-US" sz="2800" spc="-1" strike="noStrike">
                <a:solidFill>
                  <a:srgbClr val="ffffff"/>
                </a:solidFill>
                <a:latin typeface="Arial"/>
              </a:rPr>
              <a:t>having Nordic feature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nd hair and Blue ey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n as the Aryan Race </a:t>
            </a:r>
            <a:endParaRPr b="0" lang="en-US" sz="2400" spc="-1" strike="noStrike">
              <a:solidFill>
                <a:srgbClr val="ffffff"/>
              </a:solidFill>
              <a:latin typeface="Arial"/>
            </a:endParaRPr>
          </a:p>
        </p:txBody>
      </p:sp>
      <p:pic>
        <p:nvPicPr>
          <p:cNvPr id="77" name="" descr=""/>
          <p:cNvPicPr/>
          <p:nvPr/>
        </p:nvPicPr>
        <p:blipFill>
          <a:blip r:embed="rId1"/>
          <a:stretch/>
        </p:blipFill>
        <p:spPr>
          <a:xfrm>
            <a:off x="838080" y="1447920"/>
            <a:ext cx="3389400" cy="4525920"/>
          </a:xfrm>
          <a:prstGeom prst="rect">
            <a:avLst/>
          </a:prstGeom>
          <a:ln w="0">
            <a:noFill/>
          </a:ln>
        </p:spPr>
      </p:pic>
      <p:sp>
        <p:nvSpPr>
          <p:cNvPr id="78" name=""/>
          <p:cNvSpPr/>
          <p:nvPr/>
        </p:nvSpPr>
        <p:spPr>
          <a:xfrm>
            <a:off x="537480" y="6095880"/>
            <a:ext cx="402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Showing the Races of Germany</a:t>
            </a:r>
            <a:endParaRPr b="0" lang="en-US" sz="1800" spc="-1" strike="noStrike">
              <a:solidFill>
                <a:srgbClr val="ffffff"/>
              </a:solidFill>
              <a:latin typeface="Arial"/>
            </a:endParaRPr>
          </a:p>
        </p:txBody>
      </p:sp>
      <p:sp>
        <p:nvSpPr>
          <p:cNvPr id="79" name=""/>
          <p:cNvSpPr/>
          <p:nvPr/>
        </p:nvSpPr>
        <p:spPr>
          <a:xfrm>
            <a:off x="8077320" y="5943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4989" y="7493"/>
                </a:moveTo>
                <a:lnTo>
                  <a:pt x="8497" y="7493"/>
                </a:lnTo>
                <a:lnTo>
                  <a:pt x="8497" y="12828"/>
                </a:lnTo>
                <a:cubicBezTo>
                  <a:pt x="8497" y="13751"/>
                  <a:pt x="9297" y="14482"/>
                  <a:pt x="10333" y="14482"/>
                </a:cubicBezTo>
                <a:lnTo>
                  <a:pt x="11996" y="14482"/>
                </a:lnTo>
                <a:cubicBezTo>
                  <a:pt x="13031" y="14482"/>
                  <a:pt x="13832" y="13751"/>
                  <a:pt x="13832" y="12828"/>
                </a:cubicBezTo>
                <a:lnTo>
                  <a:pt x="13832" y="7493"/>
                </a:lnTo>
                <a:lnTo>
                  <a:pt x="11996" y="7493"/>
                </a:lnTo>
                <a:lnTo>
                  <a:pt x="15503" y="3985"/>
                </a:lnTo>
                <a:lnTo>
                  <a:pt x="19176" y="7493"/>
                </a:lnTo>
                <a:lnTo>
                  <a:pt x="17340" y="7493"/>
                </a:lnTo>
                <a:lnTo>
                  <a:pt x="17340" y="12828"/>
                </a:lnTo>
                <a:cubicBezTo>
                  <a:pt x="17340" y="15596"/>
                  <a:pt x="14763" y="18155"/>
                  <a:pt x="11996" y="18155"/>
                </a:cubicBezTo>
                <a:lnTo>
                  <a:pt x="10333" y="18155"/>
                </a:lnTo>
                <a:cubicBezTo>
                  <a:pt x="7565" y="18155"/>
                  <a:pt x="4989" y="15596"/>
                  <a:pt x="4989" y="12828"/>
                </a:cubicBez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nal Solution</a:t>
            </a:r>
            <a:endParaRPr b="0" lang="en-US" sz="4400" spc="-1" strike="noStrike">
              <a:solidFill>
                <a:srgbClr val="e3ebf1"/>
              </a:solidFill>
              <a:latin typeface="Arial"/>
            </a:endParaRPr>
          </a:p>
        </p:txBody>
      </p:sp>
      <p:pic>
        <p:nvPicPr>
          <p:cNvPr id="81" name="" descr=""/>
          <p:cNvPicPr/>
          <p:nvPr/>
        </p:nvPicPr>
        <p:blipFill>
          <a:blip r:embed="rId1"/>
          <a:stretch/>
        </p:blipFill>
        <p:spPr>
          <a:xfrm>
            <a:off x="228600" y="1828800"/>
            <a:ext cx="5562720" cy="3841920"/>
          </a:xfrm>
          <a:prstGeom prst="rect">
            <a:avLst/>
          </a:prstGeom>
          <a:ln w="0">
            <a:noFill/>
          </a:ln>
        </p:spPr>
      </p:pic>
      <p:sp>
        <p:nvSpPr>
          <p:cNvPr id="82" name="PlaceHolder 2"/>
          <p:cNvSpPr>
            <a:spLocks noGrp="1"/>
          </p:cNvSpPr>
          <p:nvPr>
            <p:ph/>
          </p:nvPr>
        </p:nvSpPr>
        <p:spPr>
          <a:xfrm>
            <a:off x="5866920" y="144792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2" action="ppaction://hlinksldjump"/>
              </a:rPr>
              <a:t>Ghett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3" action="ppaction://hlinksldjump"/>
              </a:rPr>
              <a:t>Cam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4" action="ppaction://hlinksldjump"/>
              </a:rPr>
              <a:t>Transpor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5" action="ppaction://hlinksldjump"/>
              </a:rPr>
              <a:t>Gas Cha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6" action="ppaction://hlinksldjump"/>
              </a:rPr>
              <a:t>Cremato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8153280" y="59436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3:17:57Z</dcterms:created>
  <dc:creator>volunteer</dc:creator>
  <dc:description/>
  <dc:language>en-US</dc:language>
  <cp:lastModifiedBy> matthew Atkinson</cp:lastModifiedBy>
  <dcterms:modified xsi:type="dcterms:W3CDTF">2007-12-06T22:53:01Z</dcterms:modified>
  <cp:revision>3</cp:revision>
  <dc:subject/>
  <dc:title>Slide 1</dc:title>
</cp:coreProperties>
</file>