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B484-2181-47CD-B9B2-938F0DAA7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How old was Fitzgerald when his forst story was published into pri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Why did Zelda break off their engage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en was the publication of This Side od Paradise?  How old was Fitzgeral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Why was 1936 - 1937 considered Fitzgerald's "crack-up" y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A207-FCB1-48D0-A695-003D25C18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ADBE-CC13-4916-8E10-16D3C4DF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12D9-23DD-4876-85E0-B80FB498C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116F-C347-43BE-AEB8-88980AEA9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FCA7-26E8-4CC9-9F6A-81DED257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0AFE-A699-483E-859A-A7BB4843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24FD-5676-4121-8509-07CD56BA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630C-6919-4E54-A616-23AB54B4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CBF7-F751-4E26-A8C6-464C8AFA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97D7-5D6F-440F-BD2D-7B948A8C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B959-2151-4D56-B75B-142995D7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768C-18DE-491A-8358-F3AF414D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30CD-819F-4280-8324-2A8A2FD00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c.edu/fitzgerald/biography.html" TargetMode="External"/><Relationship Id="rId2" Type="http://schemas.openxmlformats.org/officeDocument/2006/relationships/image" Target="../media/image2.png"/><Relationship Id="rId3" Type="http://schemas.openxmlformats.org/officeDocument/2006/relationships/slide" Target="slide3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5.xm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81280" y="2286000"/>
            <a:ext cx="4953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89480" y="2093760"/>
            <a:ext cx="4511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457200"/>
            <a:ext cx="5562720" cy="16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sto MT"/>
              </a:rPr>
              <a:t>F. Scott Fitzgera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The author and his lif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sto MT"/>
              </a:rPr>
              <a:t>A Brief Life of F. Scott Fitzgerald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click the 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98880" y="5554800"/>
            <a:ext cx="74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905120"/>
            <a:ext cx="4248000" cy="4572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105520" y="45720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Click here when you have answered all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705720" y="5334120"/>
            <a:ext cx="596880" cy="847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sto MT"/>
              </a:rPr>
              <a:t>Flappers and Philoso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2592360" cy="3505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04920" y="5029200"/>
            <a:ext cx="3657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Click here when you have answered all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752480" y="5715000"/>
            <a:ext cx="752760" cy="974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4648320" y="1752480"/>
            <a:ext cx="3686040" cy="4915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2120" y="13716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Click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13716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Click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Art imitating life in Fitzgerald's novels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click the photograph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90840" y="1600200"/>
            <a:ext cx="5962320" cy="4525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72000" y="6248520"/>
            <a:ext cx="426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6019920"/>
            <a:ext cx="7924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63244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Click the icon when you have 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96080" y="5867280"/>
            <a:ext cx="1105200" cy="70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sto MT"/>
              </a:rPr>
              <a:t>Fitzgerald and Hemingway's turbulent friendsh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5038560" cy="40370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665600" y="2057400"/>
            <a:ext cx="3800520" cy="3840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09480" y="19051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Click on Fitzgerald for th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533412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Click the icon when you have 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828800" y="5715000"/>
            <a:ext cx="8143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391520" cy="33530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05120" y="60948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The 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0:19:42Z</dcterms:created>
  <dc:creator>Kevin Baucom</dc:creator>
  <dc:description/>
  <dc:language>en-US</dc:language>
  <cp:lastModifiedBy>Kevin Baucom</cp:lastModifiedBy>
  <dcterms:modified xsi:type="dcterms:W3CDTF">2007-10-11T03:09:07Z</dcterms:modified>
  <cp:revision>6</cp:revision>
  <dc:subject/>
  <dc:title>Slide 1</dc:title>
</cp:coreProperties>
</file>