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2762-B047-44DE-9866-D6914B80F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How old was Fitzgerald when his forst story was published into pr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hy did Zelda break off their engag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en was the publication of This Side od Paradise?  How old was Fitzgera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y was 1936 - 1937 considered Fitzgerald's "crack-up"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95E-C5F5-4AE1-8188-CCD6E169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BF8-0118-4000-9ABF-067ADFBF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9F0D-CE8B-4CE8-8C3E-152C4218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CC9A-C654-40B3-BA15-672BB252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065-4857-444E-B56C-55FE6A5C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62D5-61D2-4068-9293-4B36B5E8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2E0-B1FD-4834-89AA-153FBB24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08C-87FD-4EED-A78C-7C0ABB67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0F4D-AEBD-4606-89EE-98FBD02B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01F-3137-4AC8-8B3C-BBAA388F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51E-834C-40BE-A961-E0402F05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295F-6D0D-4E20-B00C-BEF437DF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20F5-6E4A-4518-A61B-A10438173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c.edu/fitzgerald/biography.html" TargetMode="External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81280" y="2286000"/>
            <a:ext cx="4953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89480" y="2093760"/>
            <a:ext cx="451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457200"/>
            <a:ext cx="556272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F. Scott Fitzgera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The author and his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A Brief Life of F. Scott Fitzgerald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lick the 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98880" y="5554800"/>
            <a:ext cx="7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05120"/>
            <a:ext cx="4248000" cy="4572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05520" y="45720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here when you have answered all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05720" y="5334120"/>
            <a:ext cx="596880" cy="84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Flappers and Philoso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2592360" cy="350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50292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here when you have answered all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52480" y="5715000"/>
            <a:ext cx="752760" cy="974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648320" y="1752480"/>
            <a:ext cx="3686040" cy="4915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1371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1371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Art imitating life in Fitzgerald's novels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lick the photograph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90840" y="1600200"/>
            <a:ext cx="596232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0" y="6248520"/>
            <a:ext cx="426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60199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6324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the icon when you have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96080" y="5867280"/>
            <a:ext cx="11052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Fitzgerald and Hemingway's turbulent friend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5038560" cy="4037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65600" y="2057400"/>
            <a:ext cx="3800520" cy="3840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9480" y="19051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on Fitzgerald for th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53341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the icon when you have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814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391520" cy="3353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05120" y="6094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0:19:42Z</dcterms:created>
  <dc:creator>Kevin Baucom</dc:creator>
  <dc:description/>
  <dc:language>en-US</dc:language>
  <cp:lastModifiedBy>Kevin Baucom</cp:lastModifiedBy>
  <dcterms:modified xsi:type="dcterms:W3CDTF">2007-10-11T03:09:07Z</dcterms:modified>
  <cp:revision>6</cp:revision>
  <dc:subject/>
  <dc:title>Slide 1</dc:title>
</cp:coreProperties>
</file>