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FFAD-BA14-488D-A2FE-6FF4C2BC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ow old was Fitzgerald when his forst story was published into pr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y did Zelda break off their enga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was the publication of This Side od Paradise?  How old was Fitzgera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y was 1936 - 1937 considered Fitzgerald's "crack-up"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468-2191-4A1C-BBAD-3172C244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ECB-DFE4-4C63-ADFD-C65A742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AC0-A8DC-4EB3-83DC-FB0D5F0F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8FA-22EE-4190-9560-D2CD6E1D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005-46CE-4F66-8DF1-8C43DDB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C61-F663-4480-871C-BE8784B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D75-4793-43D0-9306-956BC64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34-56AF-4ED1-B886-7C930B6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9D6-526A-4365-B8C4-F0B6C147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C7B-457C-4478-86F8-CC6FC2D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CAE-7C9F-449B-BC3B-459B142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055-31A7-425F-876D-CE17332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EAA-51E4-4ED2-A7DD-4D5E31BA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du/fitzgerald/biography.html" TargetMode="Externa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1280" y="2286000"/>
            <a:ext cx="49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093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57200"/>
            <a:ext cx="556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F. Scott Fitzgera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author and hi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A Brief Life of F. Scott Fitzgeral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8880" y="5554800"/>
            <a:ext cx="7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05120"/>
            <a:ext cx="42480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4572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5334120"/>
            <a:ext cx="596880" cy="84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Flappers and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0292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5715000"/>
            <a:ext cx="75276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6860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rt imitating life in Fitzgerald's nove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hoto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0840" y="1600200"/>
            <a:ext cx="59623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6248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019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5867280"/>
            <a:ext cx="1105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Fitzgerald and Hemingway's turbulent friend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038560" cy="40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5600" y="2057400"/>
            <a:ext cx="380052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905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on Fitzgerald for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4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8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91520" cy="33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6094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19:42Z</dcterms:created>
  <dc:creator>Kevin Baucom</dc:creator>
  <dc:description/>
  <dc:language>en-US</dc:language>
  <cp:lastModifiedBy>Kevin Baucom</cp:lastModifiedBy>
  <dcterms:modified xsi:type="dcterms:W3CDTF">2007-10-11T03:09:07Z</dcterms:modified>
  <cp:revision>6</cp:revision>
  <dc:subject/>
  <dc:title>Slide 1</dc:title>
</cp:coreProperties>
</file>