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D62BE-7AC7-4D87-8AC7-DA0B05037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How old was Fitzgerald when his forst story was published into pri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Why did Zelda break off their engage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When was the publication of This Side od Paradise?  How old was Fitzgeral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Why was 1936 - 1937 considered Fitzgerald's "crack-up" ye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E6D7-B9E5-4FB7-A261-E148EAAA5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E08A-2F29-46BF-85F3-AE624F6E4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9E20-CEBA-4FE1-AC6B-023639709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1F7E-B50F-471B-8856-8ED7EC76B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D880-0D17-4501-9A17-B7ED8A784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4770-260C-4F4D-8EED-E4D85F444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C64D-1196-480A-9DE3-9E1AA920A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DFFA-7BD5-4EA6-B931-CD01B0CAE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5161-34EF-4B89-B33D-1F4142D2B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1439-E8B4-4E33-BCE4-FCDC250E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D112-3A32-4B71-8649-E8A5CBB1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F899-1B79-40AE-AB03-ADC44FA8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509EB-ABFD-438B-8F73-A62982C66C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c.edu/fitzgerald/biography.html" TargetMode="External"/><Relationship Id="rId2" Type="http://schemas.openxmlformats.org/officeDocument/2006/relationships/image" Target="../media/image2.png"/><Relationship Id="rId3" Type="http://schemas.openxmlformats.org/officeDocument/2006/relationships/slide" Target="slide3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4.xm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5.xm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9436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81280" y="2286000"/>
            <a:ext cx="4953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89480" y="2093760"/>
            <a:ext cx="4511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52680" y="457200"/>
            <a:ext cx="5562720" cy="16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sto MT"/>
              </a:rPr>
              <a:t>F. Scott Fitzgera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The author and his lif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sto MT"/>
              </a:rPr>
              <a:t>A Brief Life of F. Scott Fitzgerald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Calisto MT"/>
              </a:rPr>
              <a:t>click the picture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898880" y="5554800"/>
            <a:ext cx="74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905120"/>
            <a:ext cx="4248000" cy="4572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105520" y="457200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Click here when you have answered all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705720" y="5334120"/>
            <a:ext cx="596880" cy="847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sto MT"/>
              </a:rPr>
              <a:t>Flappers and Philosop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2592360" cy="3505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04920" y="5029200"/>
            <a:ext cx="3657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Click here when you have answered all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752480" y="5715000"/>
            <a:ext cx="752760" cy="974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4648320" y="1752480"/>
            <a:ext cx="3686040" cy="4915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2120" y="13716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Click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8320" y="13716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Click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Art imitating life in Fitzgerald's novels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Calisto MT"/>
              </a:rPr>
              <a:t>click the photograph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90840" y="1600200"/>
            <a:ext cx="5962320" cy="4525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572000" y="6248520"/>
            <a:ext cx="426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6019920"/>
            <a:ext cx="7924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63244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Click the icon when you have 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96080" y="5867280"/>
            <a:ext cx="1105200" cy="70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sto MT"/>
              </a:rPr>
              <a:t>Fitzgerald and Hemingway's turbulent friendsh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5038560" cy="40370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665600" y="2057400"/>
            <a:ext cx="3800520" cy="38401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09480" y="19051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Click on Fitzgerald for th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533412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Click the icon when you have 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828800" y="5715000"/>
            <a:ext cx="8143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7391520" cy="33530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905120" y="609480"/>
            <a:ext cx="60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The 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0:19:42Z</dcterms:created>
  <dc:creator>Kevin Baucom</dc:creator>
  <dc:description/>
  <dc:language>en-US</dc:language>
  <cp:lastModifiedBy>Kevin Baucom</cp:lastModifiedBy>
  <dcterms:modified xsi:type="dcterms:W3CDTF">2007-10-11T03:09:07Z</dcterms:modified>
  <cp:revision>6</cp:revision>
  <dc:subject/>
  <dc:title>Slide 1</dc:title>
</cp:coreProperties>
</file>