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409E-BA08-4E3C-9006-1FE16A06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2D47-4984-4D76-A2B4-359D70CA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2C4-7C5D-4FD2-BBB1-3C25D6EF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5268-36F6-4FE8-8FA2-6204725D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4C2-24E3-4F1F-9EAB-C6245DB5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D3E-B3B6-4B89-A1D6-3BEB056D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D12B-159B-4E0B-BC2A-1D5EBC53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E90-9422-4C33-9704-8CDDCC43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B0C-B68E-4AC4-88EA-5A425A92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E92-6DDC-47A2-902B-78BE6863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0B9A-5DF6-4360-A2E1-F02DE507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A82-AC15-4C11-B185-0DF82A2A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393B-347F-463C-979D-89D8BF2DC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jimcrowhistory.org/geography/geography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stigating Jim C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the image to the right and answer the questions on your workshee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inished, 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im%20Crow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8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stigating Jim C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the image to the left and answer the questions on your workshee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inished, 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water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8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stigating Jim C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the image to the right and answer the questions on your worksh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inished, click 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jimcrow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981080"/>
            <a:ext cx="3868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’re finishe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, alm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nd your partner will create a PowerPoint presentation on what you learned to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here to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rise%20and%20fall%20of%20jim%20crow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962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Point Presentation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sentation must be a minimum of three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issues must be inclu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ere African Americans discrimin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under Jim Cr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African Americans respond to Ji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w and se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wo important African Americans and h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responded to segreg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od Lu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7:50:14Z</dcterms:created>
  <dc:creator>ai</dc:creator>
  <dc:description/>
  <dc:language>en-US</dc:language>
  <cp:lastModifiedBy>ai</cp:lastModifiedBy>
  <dcterms:modified xsi:type="dcterms:W3CDTF">2007-10-10T18:51:48Z</dcterms:modified>
  <cp:revision>4</cp:revision>
  <dc:subject/>
  <dc:title>Investigating Jim Crow</dc:title>
</cp:coreProperties>
</file>