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990-E15C-43AE-B8AE-B4D6B39F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AF0-D0A0-42B9-BA3A-C3D36DC3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9C7-A137-40EB-B8C2-41E8E3FA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93F-C6A9-4ED0-BD14-8D2CB620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7DA-4D57-4B7E-8B6B-CE21624F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033-15ED-438E-8B0A-D9A092D7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5AB-8C2C-4B47-843A-4102B377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C1E-EDE2-4C93-B924-D9EB255C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F4D-431A-4AB5-B548-1395B5B8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253-4570-4DD3-AD7D-984961F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815-87F2-4950-AAB0-BB40A1B2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CB9-B744-4CEC-8E4A-3605DD9C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BC10-AE04-41FD-AD1A-86A69BD53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imcrowhistory.org/geography/geography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right and answer the questions on your workshe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im%20Crow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left and answer the questions on your workshe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ater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right and answer the questions on your worksh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imcro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81080"/>
            <a:ext cx="386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’re finish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 alm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nd your partner will create a PowerPoint presentation on what you learned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ise%20and%20fall%20of%20jim%20crow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Point Presentation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sentation must be a minimum of three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ssues must be inclu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African Americans discrimin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under Jim C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African Americans respond to Ji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w and se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wo important African Americans and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sponded to segre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7:50:14Z</dcterms:created>
  <dc:creator>ai</dc:creator>
  <dc:description/>
  <dc:language>en-US</dc:language>
  <cp:lastModifiedBy>ai</cp:lastModifiedBy>
  <dcterms:modified xsi:type="dcterms:W3CDTF">2007-10-10T18:51:48Z</dcterms:modified>
  <cp:revision>4</cp:revision>
  <dc:subject/>
  <dc:title>Investigating Jim Crow</dc:title>
</cp:coreProperties>
</file>