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215-00D7-4A41-9C20-479BD894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41B-19C4-45E6-8565-601CB9F9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0E1-271F-44D7-A98A-AA05F9E5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741-F7A9-4473-A103-763BB5D3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7B9-FE0C-41B3-8655-DF58327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3C-6AC5-4E44-A6A4-8218DB6F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20B-CB7C-468A-93D3-01476BA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0F2-8B95-454F-BED4-47AC102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32A-9F75-42A5-B685-C04C1A2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56E-391D-426E-9174-DAD5999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465-7CB0-4D23-8746-205B31D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300-F1B6-46BC-A0B0-5198D16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AF4-12C1-49CF-A346-A8F06E0A4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imcrowhistory.org/geography/geography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im%20Crow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lef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ater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imcro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810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’re finish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 alm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nd your partner will create a PowerPoint presentation on what you learned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ise%20and%20fall%20of%20jim%20crow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 Presentation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entation must be a minimum of thre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ssues must be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African Americans discrimin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under Jim C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African Americans respond to J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 and se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wo important African Americans and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sponded to segre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50:14Z</dcterms:created>
  <dc:creator>ai</dc:creator>
  <dc:description/>
  <dc:language>en-US</dc:language>
  <cp:lastModifiedBy>ai</cp:lastModifiedBy>
  <dcterms:modified xsi:type="dcterms:W3CDTF">2007-10-10T18:51:48Z</dcterms:modified>
  <cp:revision>4</cp:revision>
  <dc:subject/>
  <dc:title>Investigating Jim Crow</dc:title>
</cp:coreProperties>
</file>