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4CE9-9A71-481E-83C9-E73B30396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26D0-4DEC-4D80-AB79-3BD24733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28CB-7C40-4402-87A6-AAAD27054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5666-505A-44A7-A670-E6052ED8B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CAB9-1C47-4BEB-9FC2-AED50CA0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51C3-F65D-4368-824C-FFF8C965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ABFA-22A4-4EB2-8FCC-0434CE2C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2660-46A6-42E3-B931-70B83DAC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5A05-4807-490A-89FB-16ECE3C3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6435-A49F-40B6-984C-FA0FCA74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EED4-13C9-4E98-9491-06AC4AC1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5ED5-BB3F-4FFE-9558-94926344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2532-4840-4C11-A7C2-22DE09876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jimcrowhistory.org/geography/geography.htm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stigating Jim Cr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on the image to the right and answer the questions on your workshee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finished, 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her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Jim%20Crow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8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stigating Jim Cr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on the image to the left and answer the questions on your workshee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finished, 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her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water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388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stigating Jim Cr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on the image to the right and answer the questions on your workshe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finished, click 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jimcrow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981080"/>
            <a:ext cx="38685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’re finishe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, almo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and your partner will create a PowerPoint presentation on what you learned to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here to contin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rise%20and%20fall%20of%20jim%20crow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39625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werPoint Presentation Dir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esentation must be a minimum of three sl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issues must be includ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were African Americans discrimin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under Jim Cr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id African Americans respond to Ji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w and se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two important African Americans and h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responded to segreg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od Lu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17:50:14Z</dcterms:created>
  <dc:creator>ai</dc:creator>
  <dc:description/>
  <dc:language>en-US</dc:language>
  <cp:lastModifiedBy>ai</cp:lastModifiedBy>
  <dcterms:modified xsi:type="dcterms:W3CDTF">2007-10-10T18:51:48Z</dcterms:modified>
  <cp:revision>4</cp:revision>
  <dc:subject/>
  <dc:title>Investigating Jim Crow</dc:title>
</cp:coreProperties>
</file>