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5410080" y="6324480"/>
            <a:ext cx="1625760" cy="343080"/>
          </a:xfrm>
          <a:custGeom>
            <a:avLst/>
            <a:gdLst>
              <a:gd name="textAreaLeft" fmla="*/ 21960 w 1625760"/>
              <a:gd name="textAreaRight" fmla="*/ 1603800 w 16257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102272" h="21600">
                <a:moveTo>
                  <a:pt x="0" y="0"/>
                </a:moveTo>
                <a:lnTo>
                  <a:pt x="102272" y="0"/>
                </a:lnTo>
                <a:lnTo>
                  <a:pt x="102272" y="21600"/>
                </a:lnTo>
                <a:lnTo>
                  <a:pt x="0" y="21600"/>
                </a:lnTo>
                <a:close/>
              </a:path>
              <a:path fill="lightenLess" w="102272" h="21600">
                <a:moveTo>
                  <a:pt x="0" y="0"/>
                </a:moveTo>
                <a:lnTo>
                  <a:pt x="102272" y="0"/>
                </a:lnTo>
                <a:lnTo>
                  <a:pt x="100872" y="1400"/>
                </a:lnTo>
                <a:lnTo>
                  <a:pt x="1400" y="1400"/>
                </a:lnTo>
                <a:close/>
              </a:path>
              <a:path fill="darken" w="102272" h="21600">
                <a:moveTo>
                  <a:pt x="102272" y="0"/>
                </a:moveTo>
                <a:lnTo>
                  <a:pt x="102272" y="21600"/>
                </a:lnTo>
                <a:lnTo>
                  <a:pt x="100872" y="20200"/>
                </a:lnTo>
                <a:lnTo>
                  <a:pt x="100872" y="1400"/>
                </a:lnTo>
                <a:close/>
              </a:path>
              <a:path fill="darkenLess" w="102272" h="21600">
                <a:moveTo>
                  <a:pt x="102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2" y="20200"/>
                </a:lnTo>
                <a:close/>
              </a:path>
              <a:path fill="lighten" w="102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72" h="21600">
                <a:moveTo>
                  <a:pt x="44129" y="3794"/>
                </a:moveTo>
                <a:lnTo>
                  <a:pt x="58142" y="10800"/>
                </a:lnTo>
                <a:lnTo>
                  <a:pt x="44129" y="17806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511960" y="603900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1930320" y="6324480"/>
            <a:ext cx="1625760" cy="343080"/>
          </a:xfrm>
          <a:custGeom>
            <a:avLst/>
            <a:gdLst>
              <a:gd name="textAreaLeft" fmla="*/ 21960 w 1625760"/>
              <a:gd name="textAreaRight" fmla="*/ 1603800 w 16257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102272" h="21600">
                <a:moveTo>
                  <a:pt x="0" y="0"/>
                </a:moveTo>
                <a:lnTo>
                  <a:pt x="102272" y="0"/>
                </a:lnTo>
                <a:lnTo>
                  <a:pt x="102272" y="21600"/>
                </a:lnTo>
                <a:lnTo>
                  <a:pt x="0" y="21600"/>
                </a:lnTo>
                <a:close/>
              </a:path>
              <a:path fill="lightenLess" w="102272" h="21600">
                <a:moveTo>
                  <a:pt x="0" y="0"/>
                </a:moveTo>
                <a:lnTo>
                  <a:pt x="102272" y="0"/>
                </a:lnTo>
                <a:lnTo>
                  <a:pt x="100872" y="1400"/>
                </a:lnTo>
                <a:lnTo>
                  <a:pt x="1400" y="1400"/>
                </a:lnTo>
                <a:close/>
              </a:path>
              <a:path fill="darken" w="102272" h="21600">
                <a:moveTo>
                  <a:pt x="102272" y="0"/>
                </a:moveTo>
                <a:lnTo>
                  <a:pt x="102272" y="21600"/>
                </a:lnTo>
                <a:lnTo>
                  <a:pt x="100872" y="20200"/>
                </a:lnTo>
                <a:lnTo>
                  <a:pt x="100872" y="1400"/>
                </a:lnTo>
                <a:close/>
              </a:path>
              <a:path fill="darkenLess" w="102272" h="21600">
                <a:moveTo>
                  <a:pt x="102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2" y="20200"/>
                </a:lnTo>
                <a:close/>
              </a:path>
              <a:path fill="lighten" w="102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72" h="21600">
                <a:moveTo>
                  <a:pt x="44129" y="10800"/>
                </a:moveTo>
                <a:lnTo>
                  <a:pt x="58142" y="3794"/>
                </a:lnTo>
                <a:lnTo>
                  <a:pt x="58142" y="17806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06640" y="6019920"/>
            <a:ext cx="23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back a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29600" y="65152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5410080" y="6324480"/>
            <a:ext cx="1625760" cy="343080"/>
          </a:xfrm>
          <a:custGeom>
            <a:avLst/>
            <a:gdLst>
              <a:gd name="textAreaLeft" fmla="*/ 21960 w 1625760"/>
              <a:gd name="textAreaRight" fmla="*/ 1603800 w 16257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102272" h="21600">
                <a:moveTo>
                  <a:pt x="0" y="0"/>
                </a:moveTo>
                <a:lnTo>
                  <a:pt x="102272" y="0"/>
                </a:lnTo>
                <a:lnTo>
                  <a:pt x="102272" y="21600"/>
                </a:lnTo>
                <a:lnTo>
                  <a:pt x="0" y="21600"/>
                </a:lnTo>
                <a:close/>
              </a:path>
              <a:path fill="lightenLess" w="102272" h="21600">
                <a:moveTo>
                  <a:pt x="0" y="0"/>
                </a:moveTo>
                <a:lnTo>
                  <a:pt x="102272" y="0"/>
                </a:lnTo>
                <a:lnTo>
                  <a:pt x="100872" y="1400"/>
                </a:lnTo>
                <a:lnTo>
                  <a:pt x="1400" y="1400"/>
                </a:lnTo>
                <a:close/>
              </a:path>
              <a:path fill="darken" w="102272" h="21600">
                <a:moveTo>
                  <a:pt x="102272" y="0"/>
                </a:moveTo>
                <a:lnTo>
                  <a:pt x="102272" y="21600"/>
                </a:lnTo>
                <a:lnTo>
                  <a:pt x="100872" y="20200"/>
                </a:lnTo>
                <a:lnTo>
                  <a:pt x="100872" y="1400"/>
                </a:lnTo>
                <a:close/>
              </a:path>
              <a:path fill="darkenLess" w="102272" h="21600">
                <a:moveTo>
                  <a:pt x="102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2" y="20200"/>
                </a:lnTo>
                <a:close/>
              </a:path>
              <a:path fill="lighten" w="102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72" h="21600">
                <a:moveTo>
                  <a:pt x="44129" y="3794"/>
                </a:moveTo>
                <a:lnTo>
                  <a:pt x="58142" y="10800"/>
                </a:lnTo>
                <a:lnTo>
                  <a:pt x="44129" y="17806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11960" y="603900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1930320" y="6324480"/>
            <a:ext cx="1625760" cy="343080"/>
          </a:xfrm>
          <a:custGeom>
            <a:avLst/>
            <a:gdLst>
              <a:gd name="textAreaLeft" fmla="*/ 21960 w 1625760"/>
              <a:gd name="textAreaRight" fmla="*/ 1603800 w 16257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102272" h="21600">
                <a:moveTo>
                  <a:pt x="0" y="0"/>
                </a:moveTo>
                <a:lnTo>
                  <a:pt x="102272" y="0"/>
                </a:lnTo>
                <a:lnTo>
                  <a:pt x="102272" y="21600"/>
                </a:lnTo>
                <a:lnTo>
                  <a:pt x="0" y="21600"/>
                </a:lnTo>
                <a:close/>
              </a:path>
              <a:path fill="lightenLess" w="102272" h="21600">
                <a:moveTo>
                  <a:pt x="0" y="0"/>
                </a:moveTo>
                <a:lnTo>
                  <a:pt x="102272" y="0"/>
                </a:lnTo>
                <a:lnTo>
                  <a:pt x="100872" y="1400"/>
                </a:lnTo>
                <a:lnTo>
                  <a:pt x="1400" y="1400"/>
                </a:lnTo>
                <a:close/>
              </a:path>
              <a:path fill="darken" w="102272" h="21600">
                <a:moveTo>
                  <a:pt x="102272" y="0"/>
                </a:moveTo>
                <a:lnTo>
                  <a:pt x="102272" y="21600"/>
                </a:lnTo>
                <a:lnTo>
                  <a:pt x="100872" y="20200"/>
                </a:lnTo>
                <a:lnTo>
                  <a:pt x="100872" y="1400"/>
                </a:lnTo>
                <a:close/>
              </a:path>
              <a:path fill="darkenLess" w="102272" h="21600">
                <a:moveTo>
                  <a:pt x="102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872" y="20200"/>
                </a:lnTo>
                <a:close/>
              </a:path>
              <a:path fill="lighten" w="102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272" h="21600">
                <a:moveTo>
                  <a:pt x="44129" y="10800"/>
                </a:moveTo>
                <a:lnTo>
                  <a:pt x="58142" y="3794"/>
                </a:lnTo>
                <a:lnTo>
                  <a:pt x="58142" y="17806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06640" y="6019920"/>
            <a:ext cx="23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back a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9240" y="6324480"/>
            <a:ext cx="1041480" cy="343080"/>
          </a:xfrm>
          <a:custGeom>
            <a:avLst/>
            <a:gdLst>
              <a:gd name="textAreaLeft" fmla="*/ 21960 w 1041480"/>
              <a:gd name="textAreaRight" fmla="*/ 1019520 w 104148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65525" h="21600">
                <a:moveTo>
                  <a:pt x="0" y="0"/>
                </a:moveTo>
                <a:lnTo>
                  <a:pt x="65525" y="0"/>
                </a:lnTo>
                <a:lnTo>
                  <a:pt x="65525" y="21600"/>
                </a:lnTo>
                <a:lnTo>
                  <a:pt x="0" y="21600"/>
                </a:lnTo>
                <a:close/>
              </a:path>
              <a:path fill="lightenLess" w="65525" h="21600">
                <a:moveTo>
                  <a:pt x="0" y="0"/>
                </a:moveTo>
                <a:lnTo>
                  <a:pt x="65525" y="0"/>
                </a:lnTo>
                <a:lnTo>
                  <a:pt x="64125" y="1400"/>
                </a:lnTo>
                <a:lnTo>
                  <a:pt x="1400" y="1400"/>
                </a:lnTo>
                <a:close/>
              </a:path>
              <a:path fill="darken" w="65525" h="21600">
                <a:moveTo>
                  <a:pt x="65525" y="0"/>
                </a:moveTo>
                <a:lnTo>
                  <a:pt x="65525" y="21600"/>
                </a:lnTo>
                <a:lnTo>
                  <a:pt x="64125" y="20200"/>
                </a:lnTo>
                <a:lnTo>
                  <a:pt x="64125" y="1400"/>
                </a:lnTo>
                <a:close/>
              </a:path>
              <a:path fill="darkenLess" w="65525" h="21600">
                <a:moveTo>
                  <a:pt x="65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25" y="20200"/>
                </a:lnTo>
                <a:close/>
              </a:path>
              <a:path fill="lighten" w="65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6039000"/>
            <a:ext cx="16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cassotradicionyvanguardia.com/tradicionPrado_EN.php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&amp; Exhib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et started thinking about how to mount our group art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67080" y="45684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eople kissing and an image of an eye.  Neither of these has imagery related to the theme of death, dying or decompos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r do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closer look at one of these painting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457200"/>
            <a:ext cx="3885840" cy="5486040"/>
            <a:chOff x="380880" y="457200"/>
            <a:chExt cx="3885840" cy="5486040"/>
          </a:xfrm>
        </p:grpSpPr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380880" y="457200"/>
              <a:ext cx="3141360" cy="351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419760" y="3595680"/>
              <a:ext cx="3846960" cy="23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19520" y="4572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you were putting together this show about death?  Could you make an argument for including the artwork on the bottom? Why might this piece be included?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cuss th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your groups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dd group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for” its inclusion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n group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against” it.  Gi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ee or mo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asons support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r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413080" cy="273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4920" y="2630520"/>
            <a:ext cx="5029200" cy="3389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280" y="2514600"/>
            <a:ext cx="541044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ing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ibits can also be organized based on what the curator wants to accomp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pieces are organized chronologically to sho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ow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time.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xample: Clic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y are organized to educate about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chn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y are organized with sketches and related images to show artistic development 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curator of this show trying to accomp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05740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review a pamphlet from this Northeast Georgia Mus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606840" y="3168720"/>
            <a:ext cx="4165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Pamphlet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4343400" cy="1295640"/>
          </a:xfrm>
          <a:custGeom>
            <a:avLst/>
            <a:gdLst>
              <a:gd name="textAreaLeft" fmla="*/ 83880 w 4343400"/>
              <a:gd name="textAreaRight" fmla="*/ 4259520 w 43434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72396" h="21600">
                <a:moveTo>
                  <a:pt x="0" y="0"/>
                </a:moveTo>
                <a:lnTo>
                  <a:pt x="72396" y="0"/>
                </a:lnTo>
                <a:lnTo>
                  <a:pt x="72396" y="21600"/>
                </a:lnTo>
                <a:lnTo>
                  <a:pt x="0" y="21600"/>
                </a:lnTo>
                <a:close/>
              </a:path>
              <a:path fill="lightenLess" w="72396" h="21600">
                <a:moveTo>
                  <a:pt x="0" y="0"/>
                </a:moveTo>
                <a:lnTo>
                  <a:pt x="72396" y="0"/>
                </a:lnTo>
                <a:lnTo>
                  <a:pt x="70996" y="1400"/>
                </a:lnTo>
                <a:lnTo>
                  <a:pt x="1400" y="1400"/>
                </a:lnTo>
                <a:close/>
              </a:path>
              <a:path fill="darken" w="72396" h="21600">
                <a:moveTo>
                  <a:pt x="72396" y="0"/>
                </a:moveTo>
                <a:lnTo>
                  <a:pt x="72396" y="21600"/>
                </a:lnTo>
                <a:lnTo>
                  <a:pt x="70996" y="20200"/>
                </a:lnTo>
                <a:lnTo>
                  <a:pt x="70996" y="1400"/>
                </a:lnTo>
                <a:close/>
              </a:path>
              <a:path fill="darkenLess" w="72396" h="21600">
                <a:moveTo>
                  <a:pt x="7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996" y="20200"/>
                </a:lnTo>
                <a:close/>
              </a:path>
              <a:path fill="lighten" w="7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open this document and keep it open as you progress through the rest of this PowerPoint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cuss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questions on this document to initiate your group discu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4495680"/>
            <a:ext cx="83822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Museo des Artes el Pais.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33720"/>
            <a:ext cx="3505320" cy="30456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48336" h="21600">
                <a:moveTo>
                  <a:pt x="0" y="0"/>
                </a:moveTo>
                <a:lnTo>
                  <a:pt x="248336" y="0"/>
                </a:lnTo>
                <a:lnTo>
                  <a:pt x="248336" y="21600"/>
                </a:lnTo>
                <a:lnTo>
                  <a:pt x="0" y="21600"/>
                </a:lnTo>
                <a:close/>
              </a:path>
              <a:path fill="lightenLess" w="248336" h="21600">
                <a:moveTo>
                  <a:pt x="0" y="0"/>
                </a:moveTo>
                <a:lnTo>
                  <a:pt x="248336" y="0"/>
                </a:lnTo>
                <a:lnTo>
                  <a:pt x="246936" y="1400"/>
                </a:lnTo>
                <a:lnTo>
                  <a:pt x="1400" y="1400"/>
                </a:lnTo>
                <a:close/>
              </a:path>
              <a:path fill="darken" w="248336" h="21600">
                <a:moveTo>
                  <a:pt x="248336" y="0"/>
                </a:moveTo>
                <a:lnTo>
                  <a:pt x="248336" y="21600"/>
                </a:lnTo>
                <a:lnTo>
                  <a:pt x="246936" y="20200"/>
                </a:lnTo>
                <a:lnTo>
                  <a:pt x="246936" y="1400"/>
                </a:lnTo>
                <a:close/>
              </a:path>
              <a:path fill="darkenLess" w="248336" h="21600">
                <a:moveTo>
                  <a:pt x="248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36" y="20200"/>
                </a:lnTo>
                <a:close/>
              </a:path>
              <a:path fill="lighten" w="248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 (part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digital pictures of all the artworks you are planning to have in the sh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hem and save them into your folder titled “Exhibit Phot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 new PowerPoint and title it “Mygroupshow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the la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des from this PowerPoint as your template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in class de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 (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few pages will help you to begin planning your exhib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“Insert&gt;Picture&gt;From File command to place your artworks on the wall.  Resize them as needed. Add a border or “frame” to the images by using Line Style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in class de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as you deem appropriate for the sh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ext boxes and Word Art to include labels and banners if necessary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in class de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 (part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the walls or the background if you wish, but remember how that may affect the artwork, the mood, or the theme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in class de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aper boxes to represent podiums for 3-D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these out to be placed on your model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in class de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 to the next slide for PowerPoint &amp; Model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Exhibition Sp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1880" y="1143000"/>
            <a:ext cx="8681400" cy="4876560"/>
            <a:chOff x="461880" y="1143000"/>
            <a:chExt cx="8681400" cy="4876560"/>
          </a:xfrm>
        </p:grpSpPr>
        <p:sp>
          <p:nvSpPr>
            <p:cNvPr id="164" name=""/>
            <p:cNvSpPr/>
            <p:nvPr/>
          </p:nvSpPr>
          <p:spPr>
            <a:xfrm>
              <a:off x="461880" y="1297440"/>
              <a:ext cx="8217000" cy="4722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34960" y="1143000"/>
              <a:ext cx="8608320" cy="4798800"/>
              <a:chOff x="534960" y="1143000"/>
              <a:chExt cx="8608320" cy="4798800"/>
            </a:xfrm>
          </p:grpSpPr>
          <p:sp>
            <p:nvSpPr>
              <p:cNvPr id="166" name=""/>
              <p:cNvSpPr/>
              <p:nvPr/>
            </p:nvSpPr>
            <p:spPr>
              <a:xfrm>
                <a:off x="1865160" y="1143000"/>
                <a:ext cx="7278120" cy="419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534960" y="1592640"/>
                <a:ext cx="8138160" cy="4349160"/>
                <a:chOff x="534960" y="1592640"/>
                <a:chExt cx="8138160" cy="434916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534960" y="1592640"/>
                  <a:ext cx="8138160" cy="4349160"/>
                  <a:chOff x="534960" y="1592640"/>
                  <a:chExt cx="8138160" cy="43491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V="1">
                    <a:off x="534960" y="3844800"/>
                    <a:ext cx="8138160" cy="2096640"/>
                  </a:xfrm>
                  <a:custGeom>
                    <a:avLst/>
                    <a:gdLst>
                      <a:gd name="textAreaLeft" fmla="*/ 1770840 w 8138160"/>
                      <a:gd name="textAreaRight" fmla="*/ 6367320 w 8138160"/>
                      <a:gd name="textAreaTop" fmla="*/ 456120 h 2096640"/>
                      <a:gd name="textAreaBottom" fmla="*/ 1640520 h 209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89" y="21600"/>
                        </a:lnTo>
                        <a:lnTo>
                          <a:pt x="5311" y="2160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481480" y="1670400"/>
                    <a:ext cx="4157280" cy="2174400"/>
                  </a:xfrm>
                  <a:prstGeom prst="rect">
                    <a:avLst/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0920" y="1670400"/>
                    <a:ext cx="2122200" cy="427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2541">
                        <a:moveTo>
                          <a:pt x="576" y="2541"/>
                        </a:moveTo>
                        <a:lnTo>
                          <a:pt x="576" y="33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419840" y="1592640"/>
                    <a:ext cx="707400" cy="77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34960" y="1689120"/>
                    <a:ext cx="1956240" cy="425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0" h="2722">
                        <a:moveTo>
                          <a:pt x="0" y="2722"/>
                        </a:moveTo>
                        <a:lnTo>
                          <a:pt x="0" y="322"/>
                        </a:lnTo>
                        <a:lnTo>
                          <a:pt x="120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2256480" y="2267280"/>
                  <a:ext cx="234720" cy="134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491560" y="1817280"/>
                  <a:ext cx="0" cy="187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17240" y="2342160"/>
                  <a:ext cx="1252080" cy="119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961000" y="2342160"/>
                  <a:ext cx="1251720" cy="119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691200" y="2267280"/>
                  <a:ext cx="1642320" cy="2698560"/>
                  <a:chOff x="691200" y="2267280"/>
                  <a:chExt cx="1642320" cy="269856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691200" y="2267280"/>
                    <a:ext cx="1642320" cy="2698560"/>
                    <a:chOff x="691200" y="2267280"/>
                    <a:chExt cx="1642320" cy="269856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91200" y="2341800"/>
                      <a:ext cx="1642320" cy="2624040"/>
                      <a:chOff x="691200" y="2341800"/>
                      <a:chExt cx="1642320" cy="26240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 flipH="1">
                        <a:off x="691200" y="3391200"/>
                        <a:ext cx="1642320" cy="15746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 flipH="1">
                        <a:off x="691200" y="2341800"/>
                        <a:ext cx="1642320" cy="42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3" name=""/>
                      <p:cNvGrpSpPr/>
                      <p:nvPr/>
                    </p:nvGrpSpPr>
                    <p:grpSpPr>
                      <a:xfrm>
                        <a:off x="691200" y="2416320"/>
                        <a:ext cx="1407600" cy="2549160"/>
                        <a:chOff x="691200" y="2416320"/>
                        <a:chExt cx="1407600" cy="2549160"/>
                      </a:xfrm>
                    </p:grpSpPr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2098800" y="2416320"/>
                          <a:ext cx="0" cy="119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1629720" y="2491200"/>
                          <a:ext cx="0" cy="1574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1473120" y="2566440"/>
                          <a:ext cx="0" cy="164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1473120" y="2491200"/>
                          <a:ext cx="156600" cy="74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V="1">
                          <a:off x="2098800" y="2416320"/>
                          <a:ext cx="0" cy="119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9" name=""/>
                        <p:cNvGrpSpPr/>
                        <p:nvPr/>
                      </p:nvGrpSpPr>
                      <p:grpSpPr>
                        <a:xfrm>
                          <a:off x="691200" y="2791440"/>
                          <a:ext cx="938160" cy="2174040"/>
                          <a:chOff x="691200" y="2791440"/>
                          <a:chExt cx="938160" cy="2174040"/>
                        </a:xfrm>
                      </p:grpSpPr>
                      <p:sp>
                        <p:nvSpPr>
                          <p:cNvPr id="190" name=""/>
                          <p:cNvSpPr/>
                          <p:nvPr/>
                        </p:nvSpPr>
                        <p:spPr>
                          <a:xfrm>
                            <a:off x="691200" y="2791440"/>
                            <a:ext cx="0" cy="21740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" name=""/>
                          <p:cNvSpPr/>
                          <p:nvPr/>
                        </p:nvSpPr>
                        <p:spPr>
                          <a:xfrm>
                            <a:off x="1472760" y="4065480"/>
                            <a:ext cx="156600" cy="224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" name=""/>
                          <p:cNvSpPr/>
                          <p:nvPr/>
                        </p:nvSpPr>
                        <p:spPr>
                          <a:xfrm flipV="1">
                            <a:off x="1472760" y="3990600"/>
                            <a:ext cx="0" cy="224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1629720" y="2490840"/>
                          <a:ext cx="0" cy="299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9160" y="2267280"/>
                      <a:ext cx="234360" cy="142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5" name=""/>
                  <p:cNvSpPr/>
                  <p:nvPr/>
                </p:nvSpPr>
                <p:spPr>
                  <a:xfrm>
                    <a:off x="2099520" y="2417040"/>
                    <a:ext cx="0" cy="11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6717960" y="2267280"/>
                  <a:ext cx="1642320" cy="2698560"/>
                  <a:chOff x="6717960" y="2267280"/>
                  <a:chExt cx="1642320" cy="269856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6717960" y="2267280"/>
                    <a:ext cx="1642320" cy="2698560"/>
                    <a:chOff x="6717960" y="2267280"/>
                    <a:chExt cx="1642320" cy="2698560"/>
                  </a:xfrm>
                </p:grpSpPr>
                <p:grpSp>
                  <p:nvGrpSpPr>
                    <p:cNvPr id="198" name=""/>
                    <p:cNvGrpSpPr/>
                    <p:nvPr/>
                  </p:nvGrpSpPr>
                  <p:grpSpPr>
                    <a:xfrm>
                      <a:off x="6717960" y="2341800"/>
                      <a:ext cx="1642320" cy="2624040"/>
                      <a:chOff x="6717960" y="2341800"/>
                      <a:chExt cx="1642320" cy="2624040"/>
                    </a:xfrm>
                  </p:grpSpPr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6717960" y="3391200"/>
                        <a:ext cx="1642320" cy="15746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6717960" y="2341800"/>
                        <a:ext cx="1642320" cy="421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6952680" y="2416320"/>
                        <a:ext cx="1407600" cy="2549160"/>
                        <a:chOff x="6952680" y="2416320"/>
                        <a:chExt cx="1407600" cy="254916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6952680" y="2416320"/>
                          <a:ext cx="0" cy="119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7421760" y="2491200"/>
                          <a:ext cx="0" cy="1574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7578360" y="2566440"/>
                          <a:ext cx="0" cy="164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 flipH="1">
                          <a:off x="7421400" y="2491200"/>
                          <a:ext cx="156600" cy="74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 flipV="1">
                          <a:off x="6952680" y="2416320"/>
                          <a:ext cx="0" cy="1199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7" name=""/>
                        <p:cNvGrpSpPr/>
                        <p:nvPr/>
                      </p:nvGrpSpPr>
                      <p:grpSpPr>
                        <a:xfrm>
                          <a:off x="7422120" y="2791440"/>
                          <a:ext cx="938160" cy="2174040"/>
                          <a:chOff x="7422120" y="2791440"/>
                          <a:chExt cx="938160" cy="2174040"/>
                        </a:xfrm>
                      </p:grpSpPr>
                      <p:sp>
                        <p:nvSpPr>
                          <p:cNvPr id="208" name=""/>
                          <p:cNvSpPr/>
                          <p:nvPr/>
                        </p:nvSpPr>
                        <p:spPr>
                          <a:xfrm>
                            <a:off x="8360280" y="2791440"/>
                            <a:ext cx="0" cy="21740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" name=""/>
                          <p:cNvSpPr/>
                          <p:nvPr/>
                        </p:nvSpPr>
                        <p:spPr>
                          <a:xfrm flipH="1">
                            <a:off x="7421760" y="4065480"/>
                            <a:ext cx="156600" cy="224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0" name=""/>
                          <p:cNvSpPr/>
                          <p:nvPr/>
                        </p:nvSpPr>
                        <p:spPr>
                          <a:xfrm flipV="1">
                            <a:off x="7578720" y="3990600"/>
                            <a:ext cx="0" cy="224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7421760" y="2490840"/>
                          <a:ext cx="0" cy="299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12" name=""/>
                    <p:cNvSpPr/>
                    <p:nvPr/>
                  </p:nvSpPr>
                  <p:spPr>
                    <a:xfrm flipH="1">
                      <a:off x="6717600" y="2267280"/>
                      <a:ext cx="234360" cy="142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6951960" y="2417040"/>
                    <a:ext cx="0" cy="11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14" name=""/>
          <p:cNvSpPr txBox="1"/>
          <p:nvPr/>
        </p:nvSpPr>
        <p:spPr>
          <a:xfrm>
            <a:off x="2705040" y="4038480"/>
            <a:ext cx="377208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lick here to find out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how to build this model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038480"/>
            <a:ext cx="4190760" cy="1676520"/>
          </a:xfrm>
          <a:custGeom>
            <a:avLst/>
            <a:gdLst>
              <a:gd name="textAreaLeft" fmla="*/ 108360 w 4190760"/>
              <a:gd name="textAreaRight" fmla="*/ 4082400 w 41907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53986" h="21600">
                <a:moveTo>
                  <a:pt x="0" y="0"/>
                </a:moveTo>
                <a:lnTo>
                  <a:pt x="53986" y="0"/>
                </a:lnTo>
                <a:lnTo>
                  <a:pt x="53986" y="21600"/>
                </a:lnTo>
                <a:lnTo>
                  <a:pt x="0" y="21600"/>
                </a:lnTo>
                <a:close/>
              </a:path>
              <a:path fill="lightenLess" w="53986" h="21600">
                <a:moveTo>
                  <a:pt x="0" y="0"/>
                </a:moveTo>
                <a:lnTo>
                  <a:pt x="53986" y="0"/>
                </a:lnTo>
                <a:lnTo>
                  <a:pt x="52586" y="1400"/>
                </a:lnTo>
                <a:lnTo>
                  <a:pt x="1400" y="1400"/>
                </a:lnTo>
                <a:close/>
              </a:path>
              <a:path fill="darken" w="53986" h="21600">
                <a:moveTo>
                  <a:pt x="53986" y="0"/>
                </a:moveTo>
                <a:lnTo>
                  <a:pt x="53986" y="21600"/>
                </a:lnTo>
                <a:lnTo>
                  <a:pt x="52586" y="20200"/>
                </a:lnTo>
                <a:lnTo>
                  <a:pt x="52586" y="1400"/>
                </a:lnTo>
                <a:close/>
              </a:path>
              <a:path fill="darkenLess" w="53986" h="21600">
                <a:moveTo>
                  <a:pt x="539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6" y="20200"/>
                </a:lnTo>
                <a:close/>
              </a:path>
              <a:path fill="lighten" w="539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of this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this module is to provide you with an overview of things to consider when setting up an exhibition of ar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xamples of galleries and exhibits which you will analyze and borrow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you with a guide and template so that you may make a virtual exhibit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ion Proposal by: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 inf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447920"/>
            <a:ext cx="8305920" cy="3962160"/>
            <a:chOff x="457200" y="1447920"/>
            <a:chExt cx="8305920" cy="3962160"/>
          </a:xfrm>
        </p:grpSpPr>
        <p:sp>
          <p:nvSpPr>
            <p:cNvPr id="222" name=""/>
            <p:cNvSpPr/>
            <p:nvPr/>
          </p:nvSpPr>
          <p:spPr>
            <a:xfrm>
              <a:off x="457200" y="1447920"/>
              <a:ext cx="830592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743200" y="2895480"/>
              <a:ext cx="3606840" cy="12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insert picture here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 inf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57200" y="1447920"/>
            <a:ext cx="8305920" cy="3962160"/>
            <a:chOff x="457200" y="1447920"/>
            <a:chExt cx="8305920" cy="3962160"/>
          </a:xfrm>
        </p:grpSpPr>
        <p:sp>
          <p:nvSpPr>
            <p:cNvPr id="227" name=""/>
            <p:cNvSpPr/>
            <p:nvPr/>
          </p:nvSpPr>
          <p:spPr>
            <a:xfrm>
              <a:off x="457200" y="1447920"/>
              <a:ext cx="830592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743200" y="2895480"/>
              <a:ext cx="3606840" cy="12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insert picture here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 inf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1447920"/>
            <a:ext cx="8305920" cy="3962160"/>
            <a:chOff x="457200" y="1447920"/>
            <a:chExt cx="8305920" cy="3962160"/>
          </a:xfrm>
        </p:grpSpPr>
        <p:sp>
          <p:nvSpPr>
            <p:cNvPr id="232" name=""/>
            <p:cNvSpPr/>
            <p:nvPr/>
          </p:nvSpPr>
          <p:spPr>
            <a:xfrm>
              <a:off x="457200" y="1447920"/>
              <a:ext cx="830592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2743200" y="2895480"/>
              <a:ext cx="3606840" cy="12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insert picture here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 inf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57200" y="1447920"/>
            <a:ext cx="8305920" cy="3962160"/>
            <a:chOff x="457200" y="1447920"/>
            <a:chExt cx="8305920" cy="3962160"/>
          </a:xfrm>
        </p:grpSpPr>
        <p:sp>
          <p:nvSpPr>
            <p:cNvPr id="237" name=""/>
            <p:cNvSpPr/>
            <p:nvPr/>
          </p:nvSpPr>
          <p:spPr>
            <a:xfrm>
              <a:off x="457200" y="1447920"/>
              <a:ext cx="830592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43200" y="2895480"/>
              <a:ext cx="3606840" cy="12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insert picture here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 inf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" y="1447920"/>
            <a:ext cx="8305920" cy="3962160"/>
            <a:chOff x="457200" y="1447920"/>
            <a:chExt cx="8305920" cy="3962160"/>
          </a:xfrm>
        </p:grpSpPr>
        <p:sp>
          <p:nvSpPr>
            <p:cNvPr id="242" name=""/>
            <p:cNvSpPr/>
            <p:nvPr/>
          </p:nvSpPr>
          <p:spPr>
            <a:xfrm>
              <a:off x="457200" y="1447920"/>
              <a:ext cx="830592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743200" y="2895480"/>
              <a:ext cx="3606840" cy="12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insert picture here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work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53341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 inf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7200" y="1447920"/>
            <a:ext cx="8305920" cy="3962160"/>
            <a:chOff x="457200" y="1447920"/>
            <a:chExt cx="8305920" cy="3962160"/>
          </a:xfrm>
        </p:grpSpPr>
        <p:sp>
          <p:nvSpPr>
            <p:cNvPr id="247" name=""/>
            <p:cNvSpPr/>
            <p:nvPr/>
          </p:nvSpPr>
          <p:spPr>
            <a:xfrm>
              <a:off x="457200" y="1447920"/>
              <a:ext cx="830592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2743200" y="2895480"/>
              <a:ext cx="3606840" cy="1251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insert picture here</a:t>
              </a:r>
              <a:endPara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838080"/>
            <a:ext cx="8229600" cy="518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523880"/>
            <a:ext cx="2667240" cy="289584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1523880"/>
            <a:ext cx="2666880" cy="289584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38280" y="2666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1002">
                    <a:alpha val="67000"/>
                  </a:srgbClr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71002">
                  <a:alpha val="6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24480" y="2666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1002">
                    <a:alpha val="67000"/>
                  </a:srgbClr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71002">
                  <a:alpha val="67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er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914400"/>
            <a:ext cx="8229600" cy="51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1523880"/>
            <a:ext cx="1752840" cy="289584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1600200"/>
            <a:ext cx="1371600" cy="28195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4457520" y="2094840"/>
            <a:ext cx="2057400" cy="106704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514600"/>
            <a:ext cx="11430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2590920"/>
            <a:ext cx="114300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efvqe fvqefvvvv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 eqrg qerg q g3rgrg3rg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g q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34g34g3g qerg3g3g34gvevrvr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46483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work is not always the same size.  You may have to group more than two works and decide where to put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057400" y="28195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1002">
                    <a:alpha val="67000"/>
                  </a:srgbClr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71002">
                  <a:alpha val="6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010280" y="28195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1002">
                    <a:alpha val="67000"/>
                  </a:srgbClr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71002">
                  <a:alpha val="6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4120" y="2362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1002">
                    <a:alpha val="67000"/>
                  </a:srgbClr>
                </a:soli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71002">
                  <a:alpha val="67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838080"/>
            <a:ext cx="8229600" cy="518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523880"/>
            <a:ext cx="2666880" cy="289584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1523880"/>
            <a:ext cx="2666880" cy="16002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3559320"/>
            <a:ext cx="1143000" cy="137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s Efvevv f wf ww ww thtvv efvevvvy46y4llvsfvsf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also decide how to align your ar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1523880"/>
            <a:ext cx="80769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105520" y="1143000"/>
            <a:ext cx="0" cy="41148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4419720"/>
            <a:ext cx="807732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37040" y="3328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21932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c5"/>
                </a:solidFill>
                <a:latin typeface="Arial"/>
              </a:rPr>
              <a:t>al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 rot="12000">
            <a:off x="6330960" y="4038120"/>
            <a:ext cx="151776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c5"/>
                </a:solidFill>
                <a:latin typeface="Arial"/>
              </a:rPr>
              <a:t>Not al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3756240" y="252036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c5"/>
                </a:solidFill>
                <a:latin typeface="Arial"/>
              </a:rPr>
              <a:t>al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514600" y="27432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1002">
                    <a:alpha val="67000"/>
                  </a:srgbClr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71002">
                  <a:alpha val="6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324480" y="19810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1002">
                    <a:alpha val="67000"/>
                  </a:srgbClr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71002">
                  <a:alpha val="67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ing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he most popular and the easiest way to arrange art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j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diu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not the only things to consider, but they are a good start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a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appropriate im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three pictures might relate to the theme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Click on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33520" y="2895480"/>
            <a:ext cx="2287440" cy="3048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29000" y="2895480"/>
            <a:ext cx="22874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6324480" y="2819520"/>
            <a:ext cx="2286000" cy="3047760"/>
            <a:chOff x="6324480" y="2819520"/>
            <a:chExt cx="2286000" cy="3047760"/>
          </a:xfrm>
        </p:grpSpPr>
        <p:sp>
          <p:nvSpPr>
            <p:cNvPr id="98" name=""/>
            <p:cNvSpPr/>
            <p:nvPr/>
          </p:nvSpPr>
          <p:spPr>
            <a:xfrm>
              <a:off x="6324480" y="2819520"/>
              <a:ext cx="2286000" cy="30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6553080" y="3048120"/>
              <a:ext cx="182880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6324480" y="2819520"/>
            <a:ext cx="2286000" cy="3124080"/>
          </a:xfrm>
          <a:custGeom>
            <a:avLst/>
            <a:gdLst>
              <a:gd name="textAreaLeft" fmla="*/ 147960 w 2286000"/>
              <a:gd name="textAreaRight" fmla="*/ 2138040 w 2286000"/>
              <a:gd name="textAreaTop" fmla="*/ 147960 h 3124080"/>
              <a:gd name="textAreaBottom" fmla="*/ 2976120 h 3124080"/>
            </a:gdLst>
            <a:ahLst/>
            <a:rect l="textAreaLeft" t="textAreaTop" r="textAreaRight" b="textAreaBottom"/>
            <a:pathLst>
              <a:path w="21600" h="29518">
                <a:moveTo>
                  <a:pt x="0" y="0"/>
                </a:moveTo>
                <a:lnTo>
                  <a:pt x="21600" y="0"/>
                </a:lnTo>
                <a:lnTo>
                  <a:pt x="21600" y="29518"/>
                </a:lnTo>
                <a:lnTo>
                  <a:pt x="0" y="29518"/>
                </a:lnTo>
                <a:close/>
              </a:path>
              <a:path fill="lightenLess" w="21600" h="295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18">
                <a:moveTo>
                  <a:pt x="21600" y="0"/>
                </a:moveTo>
                <a:lnTo>
                  <a:pt x="21600" y="29518"/>
                </a:lnTo>
                <a:lnTo>
                  <a:pt x="20200" y="28118"/>
                </a:lnTo>
                <a:lnTo>
                  <a:pt x="20200" y="1400"/>
                </a:lnTo>
                <a:close/>
              </a:path>
              <a:path fill="darkenLess" w="21600" h="29518">
                <a:moveTo>
                  <a:pt x="21600" y="29518"/>
                </a:moveTo>
                <a:lnTo>
                  <a:pt x="0" y="29518"/>
                </a:lnTo>
                <a:lnTo>
                  <a:pt x="1400" y="28118"/>
                </a:lnTo>
                <a:lnTo>
                  <a:pt x="20200" y="28118"/>
                </a:lnTo>
                <a:close/>
              </a:path>
              <a:path fill="lighten" w="21600" h="29518">
                <a:moveTo>
                  <a:pt x="0" y="295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1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059360" cy="5408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1640" y="60948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K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y Gustave Klim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9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two people ki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could definitely fall under the theme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 rot="20383800">
            <a:off x="609480" y="3504960"/>
            <a:ext cx="369252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good job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39625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3022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0456" h="21600">
                <a:moveTo>
                  <a:pt x="31333" y="14281"/>
                </a:moveTo>
                <a:lnTo>
                  <a:pt x="31333" y="12323"/>
                </a:lnTo>
                <a:cubicBezTo>
                  <a:pt x="31333" y="11496"/>
                  <a:pt x="31664" y="10800"/>
                  <a:pt x="32264" y="10800"/>
                </a:cubicBezTo>
                <a:cubicBezTo>
                  <a:pt x="33396" y="10800"/>
                  <a:pt x="34292" y="9434"/>
                  <a:pt x="34292" y="7849"/>
                </a:cubicBezTo>
                <a:cubicBezTo>
                  <a:pt x="34292" y="5534"/>
                  <a:pt x="32439" y="3794"/>
                  <a:pt x="30228" y="3794"/>
                </a:cubicBezTo>
                <a:cubicBezTo>
                  <a:pt x="28017" y="3794"/>
                  <a:pt x="26346" y="5534"/>
                  <a:pt x="26346" y="7849"/>
                </a:cubicBezTo>
                <a:lnTo>
                  <a:pt x="28200" y="7849"/>
                </a:lnTo>
                <a:cubicBezTo>
                  <a:pt x="28200" y="6709"/>
                  <a:pt x="29122" y="5821"/>
                  <a:pt x="30228" y="5821"/>
                </a:cubicBezTo>
                <a:cubicBezTo>
                  <a:pt x="31333" y="5821"/>
                  <a:pt x="32264" y="6709"/>
                  <a:pt x="32264" y="7849"/>
                </a:cubicBezTo>
                <a:cubicBezTo>
                  <a:pt x="32264" y="8589"/>
                  <a:pt x="31794" y="9320"/>
                  <a:pt x="31333" y="9320"/>
                </a:cubicBezTo>
                <a:cubicBezTo>
                  <a:pt x="30228" y="9320"/>
                  <a:pt x="29122" y="10800"/>
                  <a:pt x="29122" y="12323"/>
                </a:cubicBezTo>
                <a:lnTo>
                  <a:pt x="29122" y="14281"/>
                </a:lnTo>
                <a:close/>
              </a:path>
            </a:pathLst>
          </a:custGeom>
          <a:solidFill>
            <a:srgbClr val="706a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5867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to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191120" y="4568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K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Auguste Rodin (19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two people embra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could definitely fall under the theme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 rot="20383800">
            <a:off x="609480" y="3504960"/>
            <a:ext cx="369252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good job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39625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3022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0456" h="21600">
                <a:moveTo>
                  <a:pt x="31333" y="14281"/>
                </a:moveTo>
                <a:lnTo>
                  <a:pt x="31333" y="12323"/>
                </a:lnTo>
                <a:cubicBezTo>
                  <a:pt x="31333" y="11496"/>
                  <a:pt x="31664" y="10800"/>
                  <a:pt x="32264" y="10800"/>
                </a:cubicBezTo>
                <a:cubicBezTo>
                  <a:pt x="33396" y="10800"/>
                  <a:pt x="34292" y="9434"/>
                  <a:pt x="34292" y="7849"/>
                </a:cubicBezTo>
                <a:cubicBezTo>
                  <a:pt x="34292" y="5534"/>
                  <a:pt x="32439" y="3794"/>
                  <a:pt x="30228" y="3794"/>
                </a:cubicBezTo>
                <a:cubicBezTo>
                  <a:pt x="28017" y="3794"/>
                  <a:pt x="26346" y="5534"/>
                  <a:pt x="26346" y="7849"/>
                </a:cubicBezTo>
                <a:lnTo>
                  <a:pt x="28200" y="7849"/>
                </a:lnTo>
                <a:cubicBezTo>
                  <a:pt x="28200" y="6709"/>
                  <a:pt x="29122" y="5821"/>
                  <a:pt x="30228" y="5821"/>
                </a:cubicBezTo>
                <a:cubicBezTo>
                  <a:pt x="31333" y="5821"/>
                  <a:pt x="32264" y="6709"/>
                  <a:pt x="32264" y="7849"/>
                </a:cubicBezTo>
                <a:cubicBezTo>
                  <a:pt x="32264" y="8589"/>
                  <a:pt x="31794" y="9320"/>
                  <a:pt x="31333" y="9320"/>
                </a:cubicBezTo>
                <a:cubicBezTo>
                  <a:pt x="30228" y="9320"/>
                  <a:pt x="29122" y="10800"/>
                  <a:pt x="29122" y="12323"/>
                </a:cubicBezTo>
                <a:lnTo>
                  <a:pt x="29122" y="14281"/>
                </a:lnTo>
                <a:close/>
              </a:path>
            </a:pathLst>
          </a:custGeom>
          <a:solidFill>
            <a:srgbClr val="706a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867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to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343400" y="456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um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Guissepe Archimboldo (159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rtist painted amazing portraits by using fruits, animals and other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ece does not, however,  address the theme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457200"/>
            <a:ext cx="3771720" cy="5028840"/>
            <a:chOff x="457200" y="457200"/>
            <a:chExt cx="3771720" cy="5028840"/>
          </a:xfrm>
        </p:grpSpPr>
        <p:sp>
          <p:nvSpPr>
            <p:cNvPr id="113" name=""/>
            <p:cNvSpPr/>
            <p:nvPr/>
          </p:nvSpPr>
          <p:spPr>
            <a:xfrm>
              <a:off x="457200" y="457200"/>
              <a:ext cx="3771720" cy="502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834120" y="834120"/>
              <a:ext cx="3017160" cy="44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 txBox="1"/>
          <p:nvPr/>
        </p:nvSpPr>
        <p:spPr>
          <a:xfrm rot="20383800">
            <a:off x="609480" y="3504960"/>
            <a:ext cx="369252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ry agai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39625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3022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0456" h="21600">
                <a:moveTo>
                  <a:pt x="31333" y="14281"/>
                </a:moveTo>
                <a:lnTo>
                  <a:pt x="31333" y="12323"/>
                </a:lnTo>
                <a:cubicBezTo>
                  <a:pt x="31333" y="11496"/>
                  <a:pt x="31664" y="10800"/>
                  <a:pt x="32264" y="10800"/>
                </a:cubicBezTo>
                <a:cubicBezTo>
                  <a:pt x="33396" y="10800"/>
                  <a:pt x="34292" y="9434"/>
                  <a:pt x="34292" y="7849"/>
                </a:cubicBezTo>
                <a:cubicBezTo>
                  <a:pt x="34292" y="5534"/>
                  <a:pt x="32439" y="3794"/>
                  <a:pt x="30228" y="3794"/>
                </a:cubicBezTo>
                <a:cubicBezTo>
                  <a:pt x="28017" y="3794"/>
                  <a:pt x="26346" y="5534"/>
                  <a:pt x="26346" y="7849"/>
                </a:cubicBezTo>
                <a:lnTo>
                  <a:pt x="28200" y="7849"/>
                </a:lnTo>
                <a:cubicBezTo>
                  <a:pt x="28200" y="6709"/>
                  <a:pt x="29122" y="5821"/>
                  <a:pt x="30228" y="5821"/>
                </a:cubicBezTo>
                <a:cubicBezTo>
                  <a:pt x="31333" y="5821"/>
                  <a:pt x="32264" y="6709"/>
                  <a:pt x="32264" y="7849"/>
                </a:cubicBezTo>
                <a:cubicBezTo>
                  <a:pt x="32264" y="8589"/>
                  <a:pt x="31794" y="9320"/>
                  <a:pt x="31333" y="9320"/>
                </a:cubicBezTo>
                <a:cubicBezTo>
                  <a:pt x="30228" y="9320"/>
                  <a:pt x="29122" y="10800"/>
                  <a:pt x="29122" y="12323"/>
                </a:cubicBezTo>
                <a:lnTo>
                  <a:pt x="29122" y="14281"/>
                </a:lnTo>
                <a:close/>
              </a:path>
            </a:pathLst>
          </a:custGeom>
          <a:solidFill>
            <a:srgbClr val="706a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5867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to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a them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2 paintings that best represent this t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1447920"/>
            <a:ext cx="3092040" cy="4495320"/>
            <a:chOff x="380880" y="1447920"/>
            <a:chExt cx="3092040" cy="449532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380880" y="1447920"/>
              <a:ext cx="2499840" cy="28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11840" y="4019760"/>
              <a:ext cx="3061080" cy="192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 txBox="1"/>
          <p:nvPr/>
        </p:nvSpPr>
        <p:spPr>
          <a:xfrm>
            <a:off x="3124080" y="1486080"/>
            <a:ext cx="1905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33352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pair of paintings to see if you are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952880" y="1447920"/>
            <a:ext cx="3672000" cy="4522680"/>
            <a:chOff x="4952880" y="1447920"/>
            <a:chExt cx="3672000" cy="4522680"/>
          </a:xfrm>
        </p:grpSpPr>
        <p:grpSp>
          <p:nvGrpSpPr>
            <p:cNvPr id="125" name=""/>
            <p:cNvGrpSpPr/>
            <p:nvPr/>
          </p:nvGrpSpPr>
          <p:grpSpPr>
            <a:xfrm>
              <a:off x="5226120" y="1447920"/>
              <a:ext cx="3387600" cy="2286000"/>
              <a:chOff x="5226120" y="1447920"/>
              <a:chExt cx="3387600" cy="2286000"/>
            </a:xfrm>
          </p:grpSpPr>
          <p:sp>
            <p:nvSpPr>
              <p:cNvPr id="126" name=""/>
              <p:cNvSpPr/>
              <p:nvPr/>
            </p:nvSpPr>
            <p:spPr>
              <a:xfrm>
                <a:off x="5226120" y="1447920"/>
                <a:ext cx="3387600" cy="228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7640" y="1619280"/>
                <a:ext cx="3007800" cy="195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4952880" y="3505320"/>
              <a:ext cx="3672000" cy="24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5105520" y="1447920"/>
            <a:ext cx="3504960" cy="4572000"/>
          </a:xfrm>
          <a:custGeom>
            <a:avLst/>
            <a:gdLst>
              <a:gd name="textAreaLeft" fmla="*/ 227160 w 3504960"/>
              <a:gd name="textAreaRight" fmla="*/ 3277800 w 3504960"/>
              <a:gd name="textAreaTop" fmla="*/ 227160 h 4572000"/>
              <a:gd name="textAreaBottom" fmla="*/ 4344840 h 4572000"/>
            </a:gdLst>
            <a:ahLst/>
            <a:rect l="textAreaLeft" t="textAreaTop" r="textAreaRight" b="textAreaBottom"/>
            <a:pathLst>
              <a:path w="21600" h="28175">
                <a:moveTo>
                  <a:pt x="0" y="0"/>
                </a:moveTo>
                <a:lnTo>
                  <a:pt x="21600" y="0"/>
                </a:lnTo>
                <a:lnTo>
                  <a:pt x="21600" y="28175"/>
                </a:lnTo>
                <a:lnTo>
                  <a:pt x="0" y="28175"/>
                </a:lnTo>
                <a:close/>
              </a:path>
              <a:path fill="lightenLess" w="21600" h="28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75">
                <a:moveTo>
                  <a:pt x="21600" y="0"/>
                </a:moveTo>
                <a:lnTo>
                  <a:pt x="21600" y="28175"/>
                </a:lnTo>
                <a:lnTo>
                  <a:pt x="20200" y="26775"/>
                </a:lnTo>
                <a:lnTo>
                  <a:pt x="20200" y="1400"/>
                </a:lnTo>
                <a:close/>
              </a:path>
              <a:path fill="darkenLess" w="21600" h="28175">
                <a:moveTo>
                  <a:pt x="21600" y="28175"/>
                </a:moveTo>
                <a:lnTo>
                  <a:pt x="0" y="28175"/>
                </a:lnTo>
                <a:lnTo>
                  <a:pt x="1400" y="26775"/>
                </a:lnTo>
                <a:lnTo>
                  <a:pt x="20200" y="26775"/>
                </a:lnTo>
                <a:close/>
              </a:path>
              <a:path fill="lighten" w="21600" h="28175">
                <a:moveTo>
                  <a:pt x="0" y="28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51920" y="5331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n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y Pieter Claesz (1630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Persistence of Mem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Salvador Dali are both about death or contain images related to death.  One shows a skull while the other show decomposing forms and 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952880" y="609480"/>
            <a:ext cx="3672000" cy="4522680"/>
            <a:chOff x="4952880" y="609480"/>
            <a:chExt cx="3672000" cy="4522680"/>
          </a:xfrm>
        </p:grpSpPr>
        <p:grpSp>
          <p:nvGrpSpPr>
            <p:cNvPr id="132" name=""/>
            <p:cNvGrpSpPr/>
            <p:nvPr/>
          </p:nvGrpSpPr>
          <p:grpSpPr>
            <a:xfrm>
              <a:off x="5226120" y="609480"/>
              <a:ext cx="3387600" cy="2286000"/>
              <a:chOff x="5226120" y="609480"/>
              <a:chExt cx="3387600" cy="2286000"/>
            </a:xfrm>
          </p:grpSpPr>
          <p:sp>
            <p:nvSpPr>
              <p:cNvPr id="133" name=""/>
              <p:cNvSpPr/>
              <p:nvPr/>
            </p:nvSpPr>
            <p:spPr>
              <a:xfrm>
                <a:off x="5226120" y="609480"/>
                <a:ext cx="3387600" cy="228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17640" y="780840"/>
                <a:ext cx="3007800" cy="195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4952880" y="2666880"/>
              <a:ext cx="3672000" cy="24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 txBox="1"/>
          <p:nvPr/>
        </p:nvSpPr>
        <p:spPr>
          <a:xfrm rot="1074600">
            <a:off x="4190760" y="4572000"/>
            <a:ext cx="406080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good job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7:31Z</dcterms:created>
  <dc:creator>Jan Johnston</dc:creator>
  <dc:description/>
  <dc:language>en-US</dc:language>
  <cp:lastModifiedBy>Jan Johnston</cp:lastModifiedBy>
  <dcterms:modified xsi:type="dcterms:W3CDTF">2007-09-20T12:44:04Z</dcterms:modified>
  <cp:revision>20</cp:revision>
  <dc:subject/>
  <dc:title>PowerPoint Presentation</dc:title>
</cp:coreProperties>
</file>