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6F5-F61E-4B86-B1CF-A0A86539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49E-4668-4BCA-A07F-718A26E9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37D-C107-4BB5-A4F5-8EF5A464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7DE-A266-419D-96EE-F3B08526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089-606E-4548-B724-79D34B2B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834-2CA8-48C6-B8F6-CC17B851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23A-5060-4C73-96FD-3A3E0F99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352-B37C-4938-90E4-93F0EB19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DCF-8B62-4F33-AE8A-BC8149E2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A8A-E0B2-49EC-BEC1-D024455B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898-22C8-4795-96DA-B5C755F8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2EF-5CE0-409B-B64D-0D06CE60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93B4-9583-4CDE-9D7B-22A1039AC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sentence.htm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tone.htm" TargetMode="External"/><Relationship Id="rId2" Type="http://schemas.openxmlformats.org/officeDocument/2006/relationships/hyperlink" Target="http://www.buzzin.net/english/speech.htm" TargetMode="External"/><Relationship Id="rId3" Type="http://schemas.openxmlformats.org/officeDocument/2006/relationships/hyperlink" Target="http://www.buzzin.net/english/sentence.htm" TargetMode="External"/><Relationship Id="rId4" Type="http://schemas.openxmlformats.org/officeDocument/2006/relationships/hyperlink" Target="http://www.buzzin.net/english/commas.htm" TargetMode="External"/><Relationship Id="rId5" Type="http://schemas.openxmlformats.org/officeDocument/2006/relationships/hyperlink" Target="http://www.buzzin.net/english/semicols.htm" TargetMode="External"/><Relationship Id="rId6" Type="http://schemas.openxmlformats.org/officeDocument/2006/relationships/hyperlink" Target="http://www.buzzin.net/english/colons.htm" TargetMode="External"/><Relationship Id="rId7" Type="http://schemas.openxmlformats.org/officeDocument/2006/relationships/hyperlink" Target="http://www.buzzin.net/english/fullstop.htm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commas.htm" TargetMode="External"/><Relationship Id="rId2" Type="http://schemas.openxmlformats.org/officeDocument/2006/relationships/hyperlink" Target="http://owl.english.purdue.edu/handouts/grammar/g_comma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 Review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Wri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Punctuation Marks.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ing punctuation mar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David Makhanl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DU 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219400" cy="235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9560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913-B54E-4915-A77F-B0E8E4B74A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efini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rm 'grammar' refers to the structure of langu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an be applied to a whole language or to any smaller unit of that langua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mmatical study is often a systematic account of the rule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nt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uctu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, and semanti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EXAMP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udy of grammar in any language focuses 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n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rning time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 to people or th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parts relate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 grammatical stu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following brief statement focuses on the same issu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The cats drank the milk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a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- third person pl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n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b - past t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il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 - third person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ce that the statement follows normal English syntax (word-orde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Now, let us underst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UNCTUATION 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43800" y="8380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361960" cy="20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573-D2E4-4039-8E93-8CB7FF2F94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nctuation is used in writing to show the stress, rhythm, and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ok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lso used to clarify the meaning of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ent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four common marks of punctu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represent pauses of increasing length in a sent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emicol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l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ull stop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ur exercises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n the next sli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705720" y="2666880"/>
            <a:ext cx="1933560" cy="176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80880" y="4724280"/>
            <a:ext cx="2398680" cy="18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6C6-0FBE-4629-B6E0-7AC7FAE389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esearch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lease refer to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s was handed out a few minute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llow the instru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on your Power Point sl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mplete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10280" y="5410080"/>
            <a:ext cx="182268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184464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C66-BF9E-4DCD-AC0A-EEC11E15D7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] 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ew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 of a sentence with a comma correctly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(“click” on word) 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sing Com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to you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464832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89D-DEC8-4156-860D-4425858B8B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he Co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each of the following Websi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lect the most useful, accurate, and credible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Using your worksheet format, complete a correct in-text citation of the history of the comma from ONE of the listed web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short history of the co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artlett's 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Tru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5A4-C03E-4E7D-9003-23AA51321D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next item in your worksheet, which begins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oice I have made for the comma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est choice because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APA Documentation: APA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3C0-233D-49C6-88D4-A42A4E1D32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unctuation Mar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semi-col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9EA-ABEB-4DEC-AD4F-F9404ECCAB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9:20:01Z</dcterms:created>
  <dc:creator>HP Authorized Customer</dc:creator>
  <dc:description/>
  <dc:language>en-US</dc:language>
  <cp:lastModifiedBy>HP Authorized Customer</cp:lastModifiedBy>
  <dcterms:modified xsi:type="dcterms:W3CDTF">2007-10-11T19:25:26Z</dcterms:modified>
  <cp:revision>4</cp:revision>
  <dc:subject/>
  <dc:title>Grammar Review</dc:title>
</cp:coreProperties>
</file>