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14A-997A-4F17-885F-52BE92E8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BE0-1FEB-4346-8E00-2609A37A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735-3BDB-4539-B180-5B884B94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D62-02AB-405C-8306-A427C506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235-1F77-4D62-BAB1-4A59F82B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794-D9EC-4632-9727-E0E9E694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9C6-DF96-4049-B53C-92F47D12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312-C2D3-48E4-AB86-59E68074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EAC-0C12-4E48-B041-3B52C362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426-4862-43BF-BA41-7B2CBCEF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5C7-B927-45E5-A4DE-C5DD775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07A-678A-477C-8F3A-2D984FFB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A4C7-3E13-404A-909A-8545701E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sentence.htm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tone.htm" TargetMode="External"/><Relationship Id="rId2" Type="http://schemas.openxmlformats.org/officeDocument/2006/relationships/hyperlink" Target="http://www.buzzin.net/english/speech.htm" TargetMode="External"/><Relationship Id="rId3" Type="http://schemas.openxmlformats.org/officeDocument/2006/relationships/hyperlink" Target="http://www.buzzin.net/english/sentence.htm" TargetMode="External"/><Relationship Id="rId4" Type="http://schemas.openxmlformats.org/officeDocument/2006/relationships/hyperlink" Target="http://www.buzzin.net/english/commas.htm" TargetMode="External"/><Relationship Id="rId5" Type="http://schemas.openxmlformats.org/officeDocument/2006/relationships/hyperlink" Target="http://www.buzzin.net/english/semicols.htm" TargetMode="External"/><Relationship Id="rId6" Type="http://schemas.openxmlformats.org/officeDocument/2006/relationships/hyperlink" Target="http://www.buzzin.net/english/colons.htm" TargetMode="External"/><Relationship Id="rId7" Type="http://schemas.openxmlformats.org/officeDocument/2006/relationships/hyperlink" Target="http://www.buzzin.net/english/fullstop.htm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commas.htm" TargetMode="External"/><Relationship Id="rId2" Type="http://schemas.openxmlformats.org/officeDocument/2006/relationships/hyperlink" Target="http://owl.english.purdue.edu/handouts/grammar/g_comma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Review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Wri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nctuation Marks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punctuation ma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David Makhanl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U 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194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9560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4F3-C7A0-458B-B950-362F86A908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 'grammar' refers to the structure of langu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applied to a whole language or to any smaller unit of that langu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matical study is often a systematic account of the rule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nt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uc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, and semanti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XAMP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udy of grammar in any language focuses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ing tim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people or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arts relate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 grammatical stu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following brief statement focuses on the same 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e cats drank the milk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- third person pl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n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 -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il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- third person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ce that the statement follows normal English syntax (word-ord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ow, let us underst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361960" cy="20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755-04F0-4D4F-A0DB-1E51BA31C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uation is used in writing to show the stress, rhythm,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lso used to clarify the meaning of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nt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four common marks of punc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present pauses of increasing length in a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ull sto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ur exercises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n the next sl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705720" y="2666880"/>
            <a:ext cx="193356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0880" y="4724280"/>
            <a:ext cx="23986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F64-6541-4A7E-822E-D7B914B7A6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lease refer to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s was handed out a few minut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llow the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your Power Point sl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ete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410080"/>
            <a:ext cx="18226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844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FF4-6ED1-4F55-A70A-C3128BCDBE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w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a sentence with a comma correc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(“click” on word)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sing Com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o you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71C-7257-461A-B870-8A997D87F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each of the following Webs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lect the most useful, accurate, and credibl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Using your worksheet format, complete a correct in-text citation of the history of the comma from ONE of the listed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hort history of the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rtlett's 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Tru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067-7C1F-4408-A970-2D502D405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xt item in your worksheet, which begin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 I have made for the comm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choice because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PA Documentation: AP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709-39A7-4F88-A1F8-CF97C6D9F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unctuation Ma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emi-col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F71-CA83-4098-BD73-3A157AFD8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0:01Z</dcterms:created>
  <dc:creator>HP Authorized Customer</dc:creator>
  <dc:description/>
  <dc:language>en-US</dc:language>
  <cp:lastModifiedBy>HP Authorized Customer</cp:lastModifiedBy>
  <dcterms:modified xsi:type="dcterms:W3CDTF">2007-10-11T19:25:26Z</dcterms:modified>
  <cp:revision>4</cp:revision>
  <dc:subject/>
  <dc:title>Grammar Review</dc:title>
</cp:coreProperties>
</file>