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7199-4483-4B70-8366-B2F87C48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092-AEC1-42E2-8E9F-F27FE68A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C58-73BB-4B00-BC08-71C5398E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32B-1A80-4E97-8FB5-BC5A79B3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3328-6DA3-424D-A420-598FD950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6737-0FB1-4418-A2CC-3672B2B9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E58-5811-4E89-A862-58EE105B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F3A-C3EF-4C69-8295-07416E62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4B5-1633-4146-B0E0-F654F2BC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02A-115A-4E68-B098-E6000925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F20B-A59E-493A-9555-B7F4CE8C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594-0F93-4FD2-BEDE-214F188B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A25B-0E50-44CB-A9BA-A82D43E5A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uzzin.net/english/sentence.htm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uzzin.net/english/tone.htm" TargetMode="External"/><Relationship Id="rId2" Type="http://schemas.openxmlformats.org/officeDocument/2006/relationships/hyperlink" Target="http://www.buzzin.net/english/speech.htm" TargetMode="External"/><Relationship Id="rId3" Type="http://schemas.openxmlformats.org/officeDocument/2006/relationships/hyperlink" Target="http://www.buzzin.net/english/sentence.htm" TargetMode="External"/><Relationship Id="rId4" Type="http://schemas.openxmlformats.org/officeDocument/2006/relationships/hyperlink" Target="http://www.buzzin.net/english/commas.htm" TargetMode="External"/><Relationship Id="rId5" Type="http://schemas.openxmlformats.org/officeDocument/2006/relationships/hyperlink" Target="http://www.buzzin.net/english/semicols.htm" TargetMode="External"/><Relationship Id="rId6" Type="http://schemas.openxmlformats.org/officeDocument/2006/relationships/hyperlink" Target="http://www.buzzin.net/english/colons.htm" TargetMode="External"/><Relationship Id="rId7" Type="http://schemas.openxmlformats.org/officeDocument/2006/relationships/hyperlink" Target="http://www.buzzin.net/english/fullstop.htm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uzzin.net/english/commas.htm" TargetMode="External"/><Relationship Id="rId2" Type="http://schemas.openxmlformats.org/officeDocument/2006/relationships/hyperlink" Target="http://owl.english.purdue.edu/handouts/grammar/g_comma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 Review fo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ay Wri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Punctuation Marks.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ing punctuation mar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David Makhanl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DU 556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2219400" cy="235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2595600" cy="22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117-FE12-47A5-82A8-E2E67BA058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efini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rm 'grammar' refers to the structure of langu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can be applied to a whole language or to any smaller unit of that langua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mmatical study is often a systematic account of the rules of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nt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uctur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, and semantic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EXAMPL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tudy of grammar in any language focuses 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n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rning time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 to people or th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parts relate to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A grammatical stu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following brief statement focuses on the same issu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The cats drank the milk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a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 - third person pl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an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b - past t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mil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 - third person sin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ice that the statement follows normal English syntax (word-order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Now, let us underst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UNCTUATION 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43800" y="8380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2361960" cy="202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E4B-3111-4FAF-9E7F-AEF4851FA5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nctuation is used in writing to show the stress, rhythm, and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ok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also used to clarify the meaning of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enten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four common marks of punctu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represent pauses of increasing length in a sent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       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emicolo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lo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       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full stop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Our exercises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on the next slid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6705720" y="2666880"/>
            <a:ext cx="1933560" cy="1764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80880" y="4724280"/>
            <a:ext cx="2398680" cy="18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D42-5CAD-46A5-B9FC-80AB6E5994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Research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lease refer to your worksh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is was handed out a few minute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ollow the instru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on your Power Point sl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mplete your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10280" y="5410080"/>
            <a:ext cx="182268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184464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DAF-AA84-4BDB-8205-263D6C9095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mm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]  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om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few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n example of a sentence with a comma correctly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(“click” on word) 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sing Com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to you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114800" y="464832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BAF-AD3E-4255-A085-6385C834FE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the Co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each of the following Websi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lect the most useful, accurate, and credible Web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Using your worksheet format, complete a correct in-text citation of the history of the comma from ONE of the listed web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short history of the co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artlett's Com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True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A44-9296-4F26-A10E-EE0B7272EF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next item in your worksheet, which begins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oice I have made for the comma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est choice because______________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o APA Documentation: APA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64A-5035-4C79-B2F4-E465F5B380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unctuation Mar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semi-col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E92-39CE-4401-A037-FCE092E5C1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9:20:01Z</dcterms:created>
  <dc:creator>HP Authorized Customer</dc:creator>
  <dc:description/>
  <dc:language>en-US</dc:language>
  <cp:lastModifiedBy>HP Authorized Customer</cp:lastModifiedBy>
  <dcterms:modified xsi:type="dcterms:W3CDTF">2007-10-11T19:25:26Z</dcterms:modified>
  <cp:revision>4</cp:revision>
  <dc:subject/>
  <dc:title>Grammar Review</dc:title>
</cp:coreProperties>
</file>