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4BB-89BC-430C-AF38-397AB924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986-D38F-4EF1-B0DC-9B0B01A6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D47-A300-4287-8CA2-D67BDB76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D00-B01A-4FD0-9D46-B2E82110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E48-A7D2-4933-8838-3814A62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EF0-CF14-4121-8449-C7CF2682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EA9-42A2-4789-89E5-C38E69D1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A68-42ED-43E1-8B95-102F761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57C-98F1-4011-A6A5-0EB64DD4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05A-F64A-4420-8664-F0E1E32D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66E-CEB6-490E-8B89-0A7BCE3C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07B-5AD4-4436-A926-376256DB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C0D8-71B4-4897-A6E3-40FAAB895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sentence.htm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tone.htm" TargetMode="External"/><Relationship Id="rId2" Type="http://schemas.openxmlformats.org/officeDocument/2006/relationships/hyperlink" Target="http://www.buzzin.net/english/speech.htm" TargetMode="External"/><Relationship Id="rId3" Type="http://schemas.openxmlformats.org/officeDocument/2006/relationships/hyperlink" Target="http://www.buzzin.net/english/sentence.htm" TargetMode="External"/><Relationship Id="rId4" Type="http://schemas.openxmlformats.org/officeDocument/2006/relationships/hyperlink" Target="http://www.buzzin.net/english/commas.htm" TargetMode="External"/><Relationship Id="rId5" Type="http://schemas.openxmlformats.org/officeDocument/2006/relationships/hyperlink" Target="http://www.buzzin.net/english/semicols.htm" TargetMode="External"/><Relationship Id="rId6" Type="http://schemas.openxmlformats.org/officeDocument/2006/relationships/hyperlink" Target="http://www.buzzin.net/english/colons.htm" TargetMode="External"/><Relationship Id="rId7" Type="http://schemas.openxmlformats.org/officeDocument/2006/relationships/hyperlink" Target="http://www.buzzin.net/english/fullstop.htm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commas.htm" TargetMode="External"/><Relationship Id="rId2" Type="http://schemas.openxmlformats.org/officeDocument/2006/relationships/hyperlink" Target="http://owl.english.purdue.edu/handouts/grammar/g_comma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Review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Wri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nctuation Marks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punctuation ma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David Makhanl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DU 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219400" cy="235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9560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639-5090-41B4-8F11-0269F7E669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efini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rm 'grammar' refers to the structure of langu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an be applied to a whole language or to any smaller unit of that langu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matical study is often a systematic account of the rule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nt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uctu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, and semanti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EXAMP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udy of grammar in any language focuses 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n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ning tim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 to people or th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parts relate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 grammatical stu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following brief statement focuses on the same iss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The cats drank the milk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a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- third person pl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n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b - pas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il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 - third person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ce that the statement follows normal English syntax (word-ord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ow, let us underst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UNCTUATION 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8380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361960" cy="20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72E-C59E-4592-BA9F-C94FD78D0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nctuation is used in writing to show the stress, rhythm, and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lso used to clarify the meaning of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nt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four common marks of punctu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represent pauses of increasing length in a sent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mi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ull stop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ur exercises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n the next sli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705720" y="2666880"/>
            <a:ext cx="1933560" cy="17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80880" y="4724280"/>
            <a:ext cx="23986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4F3-6101-488B-A4F5-C193DDAC68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earch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lease refer to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s was handed out a few minute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llow the instr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n your Power Point sl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lete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5410080"/>
            <a:ext cx="18226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18446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56D-45A5-476E-BD19-D8B75326B1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 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w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 of a sentence with a comma correctly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(“click” on word) 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sing Com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o you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464832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541-D864-42BB-BEC7-354CF1983B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he Co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each of the following Websi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lect the most useful, accurate, and credibl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Using your worksheet format, complete a correct in-text citation of the history of the comma from ONE of the listed web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short history of the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artlett's 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Tru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014-499D-448F-B7DA-4544C459EF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next item in your worksheet, which begins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oice I have made for the comm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est choice because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PA Documentation: AP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957-7415-4EAF-B98B-83C7957ED6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unctuation Mar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semi-col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C1E-6E30-4013-8289-1DEEBA2BD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9:20:01Z</dcterms:created>
  <dc:creator>HP Authorized Customer</dc:creator>
  <dc:description/>
  <dc:language>en-US</dc:language>
  <cp:lastModifiedBy>HP Authorized Customer</cp:lastModifiedBy>
  <dcterms:modified xsi:type="dcterms:W3CDTF">2007-10-11T19:25:26Z</dcterms:modified>
  <cp:revision>4</cp:revision>
  <dc:subject/>
  <dc:title>Grammar Review</dc:title>
</cp:coreProperties>
</file>