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779-79F6-4588-A5D6-FF5199D5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130-F146-4FC2-99AC-01BEAA34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E7F-5534-45C1-ABDF-2B97BC20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8CE-09A3-4131-9BD7-7C8553DC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244-42F4-434B-9393-FA37544C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690-3684-4919-B33D-68C5EF08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122-427B-417C-9D21-07F2125E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EEE-470E-4351-89C0-968A5912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B26-C9B3-4203-840A-293E42DF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7AC-A643-444A-A1ED-FB93FD0F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269-C7B5-41BE-A2CD-F08A4E3D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D36-441A-4B27-B400-41BFFE55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8A70-7D25-43C4-9A3C-FBA3063A3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sentence.htm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tone.htm" TargetMode="External"/><Relationship Id="rId2" Type="http://schemas.openxmlformats.org/officeDocument/2006/relationships/hyperlink" Target="http://www.buzzin.net/english/speech.htm" TargetMode="External"/><Relationship Id="rId3" Type="http://schemas.openxmlformats.org/officeDocument/2006/relationships/hyperlink" Target="http://www.buzzin.net/english/sentence.htm" TargetMode="External"/><Relationship Id="rId4" Type="http://schemas.openxmlformats.org/officeDocument/2006/relationships/hyperlink" Target="http://www.buzzin.net/english/commas.htm" TargetMode="External"/><Relationship Id="rId5" Type="http://schemas.openxmlformats.org/officeDocument/2006/relationships/hyperlink" Target="http://www.buzzin.net/english/semicols.htm" TargetMode="External"/><Relationship Id="rId6" Type="http://schemas.openxmlformats.org/officeDocument/2006/relationships/hyperlink" Target="http://www.buzzin.net/english/colons.htm" TargetMode="External"/><Relationship Id="rId7" Type="http://schemas.openxmlformats.org/officeDocument/2006/relationships/hyperlink" Target="http://www.buzzin.net/english/fullstop.htm" TargetMode="External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uzzin.net/english/commas.htm" TargetMode="External"/><Relationship Id="rId2" Type="http://schemas.openxmlformats.org/officeDocument/2006/relationships/hyperlink" Target="http://owl.english.purdue.edu/handouts/grammar/g_comma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 Review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Wri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Punctuation Marks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ing punctuation mar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David Makhanl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DU 556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219400" cy="235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95600" cy="22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6D1-6008-49E2-8FF6-479E728135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Defini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rm 'grammar' refers to the structure of langu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an be applied to a whole language or to any smaller unit of that langua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mmatical study is often a systematic account of the rule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nt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uctur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, and semanti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EXAMP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udy of grammar in any language focuses 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n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rning time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ence to people or th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parts relate to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A grammatical stu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following brief statement focuses on the same iss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The cats drank the milk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a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- third person pl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an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b - past t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il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 - third person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ce that the statement follows normal English syntax (word-orde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Now, let us underst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UNCTUATION 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83808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361960" cy="20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3C8-6D21-49F5-A317-7E0974F576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nctuation is used in writing to show the stress, rhythm, and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ok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lso used to clarify the meaning of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ntenc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four common marks of punctu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represent pauses of increasing length in a sent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emi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l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       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full stop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ur exercises 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n the next sli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705720" y="2666880"/>
            <a:ext cx="1933560" cy="1764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80880" y="4724280"/>
            <a:ext cx="2398680" cy="18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C04-9388-4317-8C22-1204C2AF95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search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lease refer to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is was handed out a few minute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ollow the instru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on your Power Point sl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mplete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010280" y="5410080"/>
            <a:ext cx="18226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18446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E3D-DD96-4A70-B00C-1B36D25199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] 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ew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 of a sentence with a comma correctly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(“click” on word) 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sing Com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to you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464832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0A8-F555-43DD-8C8D-4BAFD854DB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he Co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each of the following Websi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elect the most useful, accurate, and credible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Using your worksheet format, complete a correct in-text citation of the history of the comma from ONE of the listed web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short history of the co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artlett's Com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True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13A-0E9D-4DA7-AF5B-59C47AD5A2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next item in your worksheet, which begins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oice I have made for the comm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est choice because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APA Documentation: APA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4D6-EE29-4DDB-89D8-0E9A09D8D0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unctuation Mar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semi-col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8A6-974E-4BF2-ABAC-DA1AF0CF7F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9:20:01Z</dcterms:created>
  <dc:creator>HP Authorized Customer</dc:creator>
  <dc:description/>
  <dc:language>en-US</dc:language>
  <cp:lastModifiedBy>HP Authorized Customer</cp:lastModifiedBy>
  <dcterms:modified xsi:type="dcterms:W3CDTF">2007-10-11T19:25:26Z</dcterms:modified>
  <cp:revision>4</cp:revision>
  <dc:subject/>
  <dc:title>Grammar Review</dc:title>
</cp:coreProperties>
</file>