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.wmf" ContentType="image/x-wmf"/>
  <Override PartName="/ppt/media/image2.wmf" ContentType="image/x-wmf"/>
  <Override PartName="/ppt/media/image14.wmf" ContentType="image/x-wmf"/>
  <Override PartName="/ppt/media/image3.gif" ContentType="image/gif"/>
  <Override PartName="/ppt/media/image6.wmf" ContentType="image/x-wmf"/>
  <Override PartName="/ppt/media/image11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C210-F473-4C55-8D15-EBA9008BF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7137-6AF1-41F1-99F9-0708F1B4C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07C1-C81E-40F2-86A1-FFBED71F4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E253-D53B-4AF2-9B84-1D799B632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ECEF-FA2D-4C5D-AB75-D812761B9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29DF-D527-408C-800A-0713A0E38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95D7-2116-433B-827D-C183338F1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9968-8007-43A4-A13F-0A07BD01A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1520-C624-464B-AC18-7D20BE021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7D4D-A7DC-4482-8DD5-10CC4920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78D9-8948-4B35-B04E-C0A27995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5904-CC8D-4A13-B3C4-284DD46A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4EAE9-3D06-47D7-A281-843D5A70F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2.lib.udel.edu/e110/quiz/" TargetMode="External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hyperlink" Target="http://ozline.com/electraguide/thesis.html" TargetMode="External"/><Relationship Id="rId5" Type="http://schemas.openxmlformats.org/officeDocument/2006/relationships/hyperlink" Target="http://ozline.com/electraguide/thesis.html" TargetMode="External"/><Relationship Id="rId6" Type="http://schemas.openxmlformats.org/officeDocument/2006/relationships/hyperlink" Target="http://ozline.com/electraguide/thesis.html" TargetMode="External"/><Relationship Id="rId7" Type="http://schemas.openxmlformats.org/officeDocument/2006/relationships/hyperlink" Target="http://ozline.com/electraguide/thesis.html" TargetMode="External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package" Target="../embeddings/oleObject1.ppt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aking%20Notes.doc" TargetMode="External"/><Relationship Id="rId2" Type="http://schemas.openxmlformats.org/officeDocument/2006/relationships/hyperlink" Target="file:///Taking%20Notes.doc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nning Your Research Pap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600200" y="1752480"/>
          <a:ext cx="5943600" cy="3505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752480"/>
                    <a:ext cx="59436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2133720" y="5638680"/>
            <a:ext cx="49528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514600" y="5867280"/>
            <a:ext cx="3952800" cy="628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lease try our interactive links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CC0D-1D1E-4A76-8802-67AD3E9E263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 your research pap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5267-F557-41B4-9F28-1F3BD68A7AB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 your research pap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0B60-2297-40B0-AA62-8EFB66EC27A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 your research pap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 C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9639-858A-4F83-BF54-DB1E9FD69EC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 your research pap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6837-7431-4CE8-8525-8C6DD3D685C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 your research pap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Y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6D4D-C8DE-4E54-8CFE-2C68C8D8751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your research pap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Try Our Qui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lick here to try our qui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mit your answer for a respon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ease review carefu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789360" y="2681280"/>
            <a:ext cx="3678120" cy="280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2C5E-482D-4759-B102-6C38BF0111E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 Your Research Pap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765440" y="1981080"/>
          <a:ext cx="5383080" cy="40388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5440" y="1981080"/>
                    <a:ext cx="538308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2258-D083-434F-95AC-E0AF55414E6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 your research paper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hesis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723960" y="1674720"/>
          <a:ext cx="5904000" cy="44276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960" y="1674720"/>
                    <a:ext cx="5904000" cy="44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086600" y="380880"/>
            <a:ext cx="1523880" cy="2667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010280" y="3200400"/>
            <a:ext cx="167652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elc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Thes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Builde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mak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outl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78A1-97FB-4542-9031-4BA37EFD6C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 your research pap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l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533520" y="1676520"/>
          <a:ext cx="8153280" cy="4419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815328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2177-49F2-4496-A9E0-D3E4AAC959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 your research pap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More on note-taking: click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447920" y="2590920"/>
          <a:ext cx="6629400" cy="350496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2590920"/>
                    <a:ext cx="662940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43BF-DC00-4753-BAAA-64FE407E178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ails on note t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you do your research, take notes any way that works best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Some use index c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Others prefer a pa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One easy way is to copy material and highlight the passages needed</a:t>
            </a:r>
            <a:r>
              <a:rPr b="0" i="1" lang="en-US" sz="32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9999"/>
                </a:solidFill>
                <a:latin typeface="Arial"/>
              </a:rPr>
              <a:t>For more detailed information,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lick here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7CA6-950F-4E80-A249-4D16123FCD6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 your research pap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5029200" y="228600"/>
            <a:ext cx="3867120" cy="12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01D3-BF19-4D27-871B-01BEB4A656A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 your research pap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405D-287B-4D3B-8299-7DE16710911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 your research pap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57200" y="1600200"/>
          <a:ext cx="8229600" cy="4572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8ED9-A12A-4BDF-935D-3BE3F423B20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 your research pap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D567-0EB1-421F-B81C-7E9FDAD24B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8:38:26Z</dcterms:created>
  <dc:creator>HP Authorized Customer</dc:creator>
  <dc:description/>
  <dc:language>en-US</dc:language>
  <cp:lastModifiedBy>HP Authorized Customer</cp:lastModifiedBy>
  <dcterms:modified xsi:type="dcterms:W3CDTF">2007-12-09T01:45:58Z</dcterms:modified>
  <cp:revision>9</cp:revision>
  <dc:subject/>
  <dc:title>Planning Your Research Paper </dc:title>
</cp:coreProperties>
</file>