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B064-52FB-42F6-820C-0BF1EC33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0BF8-B26D-4075-8FF0-7D75DAB1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E26A-59BB-4FD9-B1B9-F4596A5F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AF1-FDDC-4C02-A9A8-73F24546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95A-DC97-4AF0-B04F-DFF07CE4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F46-2581-4B8D-A144-DB3EFE91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C59-09C5-46EC-B214-5698B8F5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80AA-76C7-49DA-A048-0F1BC7BC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6005-EDBA-4754-9DE8-34976515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034-FAA7-4B1C-9B32-DB050547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20F-4C9B-4126-A69B-34314D19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74C-E626-4A2A-80E4-E623EDD2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7FDC-57D8-48D2-8455-1626FC518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2.lib.udel.edu/e110/quiz/" TargetMode="Externa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hyperlink" Target="http://ozline.com/electraguide/thesis.html" TargetMode="External"/><Relationship Id="rId5" Type="http://schemas.openxmlformats.org/officeDocument/2006/relationships/hyperlink" Target="http://ozline.com/electraguide/thesis.html" TargetMode="External"/><Relationship Id="rId6" Type="http://schemas.openxmlformats.org/officeDocument/2006/relationships/hyperlink" Target="http://ozline.com/electraguide/thesis.html" TargetMode="External"/><Relationship Id="rId7" Type="http://schemas.openxmlformats.org/officeDocument/2006/relationships/hyperlink" Target="http://ozline.com/electraguide/thesis.html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aking%20Notes.doc" TargetMode="External"/><Relationship Id="rId2" Type="http://schemas.openxmlformats.org/officeDocument/2006/relationships/hyperlink" Target="file:///Taking%20Notes.doc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00200" y="1752480"/>
          <a:ext cx="5943600" cy="3505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59436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133720" y="5638680"/>
            <a:ext cx="49528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14600" y="5867280"/>
            <a:ext cx="3952800" cy="62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ease try our interactive link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073-7AF4-4123-9240-3CAB33E153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BCE-8AD2-4C73-8883-7CE499C15E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D60-E673-493E-AAF6-38E82C2B92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FBBD-8A13-489F-ABC6-58AF6B47B7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F93-282B-4D0D-B690-33C6FB391D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Y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D19-DC24-4088-8451-A73C10D044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ry Our Qu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to try our qu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 your answer for a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review carefu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89360" y="2681280"/>
            <a:ext cx="3678120" cy="28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32B-65E5-4FC6-8476-CB16C125A3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65440" y="1981080"/>
          <a:ext cx="5383080" cy="4038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1981080"/>
                    <a:ext cx="5383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435-F221-4031-A8CA-4DDBC75724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esis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23960" y="1674720"/>
          <a:ext cx="5904000" cy="4427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674720"/>
                    <a:ext cx="5904000" cy="44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086600" y="380880"/>
            <a:ext cx="1523880" cy="266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010280" y="3200400"/>
            <a:ext cx="167652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el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he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uilde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ut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1AE-2A7E-45C1-AD54-455A050CA3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3520" y="1676520"/>
          <a:ext cx="8153280" cy="4419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1532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5445-F669-4479-AA42-8002AF0AF6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re on note-taking: click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47920" y="2590920"/>
          <a:ext cx="6629400" cy="35049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590920"/>
                    <a:ext cx="66294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ED7-9FBF-4208-AD0D-E0DB5F7F53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s on note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do your research, take notes any way that works best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ome use index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Others prefer a pa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One easy way is to copy material and highlight the passages needed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For more detailed information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2FF9-0AB1-4F5F-A56C-C324588F2B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029200" y="228600"/>
            <a:ext cx="38671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6B4-63B0-4C54-A0B3-9D43DFA0BA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201A-E5E9-48F0-B8F5-AE7495A80D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8FE-A773-42E0-B12C-264E000160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CCD-0916-4AC7-AC74-6C249173A4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8:38:26Z</dcterms:created>
  <dc:creator>HP Authorized Customer</dc:creator>
  <dc:description/>
  <dc:language>en-US</dc:language>
  <cp:lastModifiedBy>HP Authorized Customer</cp:lastModifiedBy>
  <dcterms:modified xsi:type="dcterms:W3CDTF">2007-12-09T01:45:58Z</dcterms:modified>
  <cp:revision>9</cp:revision>
  <dc:subject/>
  <dc:title>Planning Your Research Paper </dc:title>
</cp:coreProperties>
</file>