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C5F-C3B3-4C7C-91B0-BDBE1DA8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945-4ABD-4240-93C4-2AEBBC2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328-EE49-4A02-9542-1A80F003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C82-A3B8-43F0-9F0E-AB25CB47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056-FACA-4BB2-9848-2977CE69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075-C6D0-485F-B6BA-24A28F7E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3B5-A314-4F87-9500-B529F4CA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428-C68C-46F7-9596-C9D512C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7A7-DF57-49FE-8533-D2AA8E6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70B-97CA-4DE7-8F2F-B7F81C8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FCD-913F-4CCA-9561-24F6BBB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CC5-D484-4D65-BDF9-40A139F6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49F-83CD-4CDC-BF02-C16815D4C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2.lib.udel.edu/e110/quiz/" TargetMode="Externa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hyperlink" Target="http://ozline.com/electraguide/thesis.html" TargetMode="External"/><Relationship Id="rId5" Type="http://schemas.openxmlformats.org/officeDocument/2006/relationships/hyperlink" Target="http://ozline.com/electraguide/thesis.html" TargetMode="External"/><Relationship Id="rId6" Type="http://schemas.openxmlformats.org/officeDocument/2006/relationships/hyperlink" Target="http://ozline.com/electraguide/thesis.html" TargetMode="External"/><Relationship Id="rId7" Type="http://schemas.openxmlformats.org/officeDocument/2006/relationships/hyperlink" Target="http://ozline.com/electraguide/thesis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aking%20Notes.doc" TargetMode="External"/><Relationship Id="rId2" Type="http://schemas.openxmlformats.org/officeDocument/2006/relationships/hyperlink" Target="file:///Taking%20Notes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00200" y="1752480"/>
          <a:ext cx="5943600" cy="3505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5943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33720" y="5638680"/>
            <a:ext cx="4952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5867280"/>
            <a:ext cx="3952800" cy="62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se try our interactive link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8A7-B5D0-4762-8631-7057579123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BA6-8565-4481-A21C-DACD00C8DA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184-29A7-4FCA-90C7-5A09F55E0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70F-F9AD-41B6-ACA1-2747FE842F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B07-2B47-4A00-B232-8B46145A11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459-F67F-4C80-836B-E2AF6F15B6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ry Our Qu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our qu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 your answer for a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review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89360" y="2681280"/>
            <a:ext cx="3678120" cy="28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EE0-7E6E-42CF-AA41-D301E24527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65440" y="1981080"/>
          <a:ext cx="5383080" cy="4038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981080"/>
                    <a:ext cx="5383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F4A-A6DD-4C6F-8E5B-D57A31B851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sis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3960" y="1674720"/>
          <a:ext cx="5904000" cy="442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74720"/>
                    <a:ext cx="590400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523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010280" y="3200400"/>
            <a:ext cx="16765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l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ild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26D-77BC-4504-9CA1-B3DD38581B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3520" y="1676520"/>
          <a:ext cx="8153280" cy="441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C8B-563B-4FAE-8801-8CB7045F5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on note-taking: click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2590920"/>
          <a:ext cx="6629400" cy="35049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90920"/>
                    <a:ext cx="66294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943-110C-42F1-B0C2-CD4F96E8D4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s on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do your research, take notes any way that works bes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ome use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thers prefer a p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One easy way is to copy material and highlight the passages needed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For more detailed informatio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E12-F45E-461D-B033-33D5BCEB6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867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5C6-34FC-43CC-AA54-E3205BCC2E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25A-1C21-446D-8D6A-7315C10CC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376-4CE8-4653-B7E4-D14C3153D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your research pa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07C-09E7-42BE-857A-A6F93CD1E9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8:38:26Z</dcterms:created>
  <dc:creator>HP Authorized Customer</dc:creator>
  <dc:description/>
  <dc:language>en-US</dc:language>
  <cp:lastModifiedBy>HP Authorized Customer</cp:lastModifiedBy>
  <dcterms:modified xsi:type="dcterms:W3CDTF">2007-12-09T01:45:58Z</dcterms:modified>
  <cp:revision>9</cp:revision>
  <dc:subject/>
  <dc:title>Planning Your Research Paper </dc:title>
</cp:coreProperties>
</file>