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F5F-0384-4499-947A-33668FA8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6E6-9C4D-4149-813B-10F3B9C5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1CB-DD29-4C6F-B1E2-3C3FEECB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6B3-3B82-484A-973D-83EBFD6E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C4C-E955-4AB3-B60C-775BFD67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8B5-67B1-4440-88EE-10FF6507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828-91AD-43CD-99B4-DB43AF26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523-5B3B-4C2F-86AB-984B37C3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24C-E1E1-4C5C-AFF7-80C7ABC9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C2E-1020-4674-8088-EBEBDE4D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EE1-26CC-4B00-BCE0-3DC6C0D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87C-7599-4EAA-AE9A-C6DF884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694C-7F58-44B5-992A-E7AB5805F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2.lib.udel.edu/e110/quiz/" TargetMode="Externa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hyperlink" Target="http://ozline.com/electraguide/thesis.html" TargetMode="External"/><Relationship Id="rId5" Type="http://schemas.openxmlformats.org/officeDocument/2006/relationships/hyperlink" Target="http://ozline.com/electraguide/thesis.html" TargetMode="External"/><Relationship Id="rId6" Type="http://schemas.openxmlformats.org/officeDocument/2006/relationships/hyperlink" Target="http://ozline.com/electraguide/thesis.html" TargetMode="External"/><Relationship Id="rId7" Type="http://schemas.openxmlformats.org/officeDocument/2006/relationships/hyperlink" Target="http://ozline.com/electraguide/thesis.html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aking%20Notes.doc" TargetMode="External"/><Relationship Id="rId2" Type="http://schemas.openxmlformats.org/officeDocument/2006/relationships/hyperlink" Target="file:///Taking%20Notes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1752480"/>
          <a:ext cx="5943600" cy="3505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5943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133720" y="5638680"/>
            <a:ext cx="4952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14600" y="5867280"/>
            <a:ext cx="395280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ease try our interactive link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102-5E69-453C-971F-0989A9464E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674-183B-43ED-A9CB-0A2B881EF5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BE8-957A-46FB-8A0D-BC411858CB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2E5-8D48-44A1-B963-D4332C6E27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A5B-DCE5-4CDA-B876-9932ED496D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5DA-7D38-411F-AD89-E1A27D44B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ry Our Qu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our qu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your answer for a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review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89360" y="2681280"/>
            <a:ext cx="3678120" cy="28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3BE-06F9-46D5-AB76-A83D920519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65440" y="1981080"/>
          <a:ext cx="5383080" cy="4038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981080"/>
                    <a:ext cx="5383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36C-BA44-4C88-AB6C-29E29CD682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si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3960" y="1674720"/>
          <a:ext cx="5904000" cy="442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74720"/>
                    <a:ext cx="590400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523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10280" y="3200400"/>
            <a:ext cx="16765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l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uild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ut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7CB-F62F-4CC5-B832-7FA4BAF9BB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676520"/>
          <a:ext cx="8153280" cy="4419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1532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DA8-250D-4B36-AD78-A06B0B372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on note-taking: click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2590920"/>
          <a:ext cx="6629400" cy="35049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909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3F5-EA20-4118-8B97-388FD0591C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on not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do your research, take notes any way that works bes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ome use 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thers prefer a pa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ne easy way is to copy material and highlight the passages needed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For more detailed information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792-7831-42BB-97C5-83EAE897E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3867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A27-C48C-4C1D-B74A-52D6DE38E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556-B321-4FC2-95E5-A3E561A639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F50-6157-4B62-B885-910564CE82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97C-684A-4391-800B-AAF9923433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8:26Z</dcterms:created>
  <dc:creator>HP Authorized Customer</dc:creator>
  <dc:description/>
  <dc:language>en-US</dc:language>
  <cp:lastModifiedBy>HP Authorized Customer</cp:lastModifiedBy>
  <dcterms:modified xsi:type="dcterms:W3CDTF">2007-12-09T01:45:58Z</dcterms:modified>
  <cp:revision>9</cp:revision>
  <dc:subject/>
  <dc:title>Planning Your Research Paper </dc:title>
</cp:coreProperties>
</file>