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04A8-E9D3-4B22-A6FD-1230A518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9AD-6246-4974-8E15-8B2997AE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13D-DD0B-463D-B062-A3018DCA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F75-0885-43C0-AA11-3CDB3C9B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2C6E-68F4-4572-8869-BAE94CBC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CAD5-130C-4098-AF8E-6F1B7E3B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7E8E-685C-4189-9C41-B94B243F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3CC5-48CE-4A72-9301-D7DD1635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5324-3764-4D1A-AAC1-C75F4A80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2389-AFAA-48EC-ACF7-C828FDD7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A306-548A-4C96-A378-44722851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B55-0FAA-428D-9DFB-2CC5C908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42A2-7E9B-439B-B17A-69F3A067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636F-D804-48AF-96DE-D4451B12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8714-AD22-432D-83F7-BC728DB9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77B8-0412-4CB3-BCDA-979AB4CE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264C-A207-4178-ABAE-BF4D626C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885-90A6-4AE3-A848-42598BCC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579-9268-47FB-B73C-7308EA7A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27F-52D9-48E5-8DCD-E09DFC38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589-1487-4329-8988-60E60BEA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EC5-7F14-4724-9128-1B1D4539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36B-A83A-4F59-9420-09E7EE59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CCB-0AB5-4797-B312-020D0529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629E-0940-432B-AA6B-091C4003D6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2253-04C1-45DE-AD25-2502ED8389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istorylearningsite.co.uk/henry_viii_beliefs.ht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ist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6904" b="0"/>
          <a:stretch/>
        </p:blipFill>
        <p:spPr>
          <a:xfrm>
            <a:off x="1981080" y="1828800"/>
            <a:ext cx="4953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nry VI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rcRect l="0" t="0" r="6904" b="0"/>
          <a:stretch/>
        </p:blipFill>
        <p:spPr>
          <a:xfrm>
            <a:off x="609480" y="2057400"/>
            <a:ext cx="4267440" cy="4103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Crown and answer the questions on your work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arrow when fin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Go to fullsize image"/>
          <p:cNvPicPr/>
          <p:nvPr/>
        </p:nvPicPr>
        <p:blipFill>
          <a:blip r:embed="rId3"/>
          <a:stretch/>
        </p:blipFill>
        <p:spPr>
          <a:xfrm>
            <a:off x="7543800" y="5410080"/>
            <a:ext cx="13809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uis X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6904" b="0"/>
          <a:stretch/>
        </p:blipFill>
        <p:spPr>
          <a:xfrm>
            <a:off x="609480" y="2200320"/>
            <a:ext cx="4343400" cy="4178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Crown and answer the questions on your work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arrow when finish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Go to fullsize image"/>
          <p:cNvPicPr/>
          <p:nvPr/>
        </p:nvPicPr>
        <p:blipFill>
          <a:blip r:embed="rId2"/>
          <a:stretch/>
        </p:blipFill>
        <p:spPr>
          <a:xfrm>
            <a:off x="7543800" y="5410080"/>
            <a:ext cx="13809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herine the Gre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6904" b="0"/>
          <a:stretch/>
        </p:blipFill>
        <p:spPr>
          <a:xfrm>
            <a:off x="838080" y="2209680"/>
            <a:ext cx="4419720" cy="424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Crown and answer the questions on your work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arrow when fin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Go to fullsize image"/>
          <p:cNvPicPr/>
          <p:nvPr/>
        </p:nvPicPr>
        <p:blipFill>
          <a:blip r:embed="rId2"/>
          <a:stretch/>
        </p:blipFill>
        <p:spPr>
          <a:xfrm>
            <a:off x="7543800" y="5410080"/>
            <a:ext cx="13809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 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you see similar ide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you see different ide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 you think about absolutis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5:37:09Z</dcterms:created>
  <dc:creator>Erienne</dc:creator>
  <dc:description/>
  <dc:language>en-US</dc:language>
  <cp:lastModifiedBy>Erienne</cp:lastModifiedBy>
  <dcterms:modified xsi:type="dcterms:W3CDTF">2007-10-11T18:07:43Z</dcterms:modified>
  <cp:revision>7</cp:revision>
  <dc:subject/>
  <dc:title>Slide 1</dc:title>
</cp:coreProperties>
</file>