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0CF-E3A1-4288-AE96-61182831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B33-2A63-4788-95C8-2F464041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25E-47D4-4D83-B287-4854D38B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161-54BA-4BD5-85CE-E4EB5477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11A7-1547-4107-A7B0-B8FAA09C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A818-66BE-4C29-A7E1-9CEEACC0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5B57-3597-4BC6-B1CD-33EEEE90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01F7-8801-45C6-AE16-EF662F01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F66A-B94D-4C19-9770-C2C28BBA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C52B-2951-4907-AA70-A1F83FBC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59ED-8577-4354-A590-80DF0B11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59A-C78F-400C-98A7-504FB9C3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9A6C-78F1-43A4-9340-7056EA83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C3B3-5FCD-4BAB-AD97-2C1AF455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CB07-E679-4EE5-916F-43B0AB3F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B521-24D2-4200-ADC7-A4B8159E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4519-D3B2-4D75-BBE8-FC21BFEB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896-C693-48BE-82CF-ECCAF8B3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0A2-873F-4099-AF19-287F21E6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EAC-267E-4D05-8801-312FED86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A54-76B7-402D-ADB2-9C1F5AF4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0C3-4784-450F-997C-0D011E51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0F4-70BA-445E-A638-9D6E748A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9ED5-C32E-4BC1-8C69-BFEEA785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1589-86D1-4ADE-83EE-72C37A217F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2D2E-C774-4A45-B5B7-3B607A9026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istorylearningsite.co.uk/henry_viii_beliefs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ist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1981080" y="1828800"/>
            <a:ext cx="4953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nry VI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rcRect l="0" t="0" r="6904" b="0"/>
          <a:stretch/>
        </p:blipFill>
        <p:spPr>
          <a:xfrm>
            <a:off x="609480" y="2057400"/>
            <a:ext cx="4267440" cy="4103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Go to fullsize image"/>
          <p:cNvPicPr/>
          <p:nvPr/>
        </p:nvPicPr>
        <p:blipFill>
          <a:blip r:embed="rId3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uis X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609480" y="2200320"/>
            <a:ext cx="4343400" cy="4178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Go to fullsize image"/>
          <p:cNvPicPr/>
          <p:nvPr/>
        </p:nvPicPr>
        <p:blipFill>
          <a:blip r:embed="rId2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herine the Gre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838080" y="2209680"/>
            <a:ext cx="4419720" cy="424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Go to fullsize image"/>
          <p:cNvPicPr/>
          <p:nvPr/>
        </p:nvPicPr>
        <p:blipFill>
          <a:blip r:embed="rId2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 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you see similar ide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you see different ide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 you think about absolutis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5:37:09Z</dcterms:created>
  <dc:creator>Erienne</dc:creator>
  <dc:description/>
  <dc:language>en-US</dc:language>
  <cp:lastModifiedBy>Erienne</cp:lastModifiedBy>
  <dcterms:modified xsi:type="dcterms:W3CDTF">2007-10-11T18:07:43Z</dcterms:modified>
  <cp:revision>7</cp:revision>
  <dc:subject/>
  <dc:title>Slide 1</dc:title>
</cp:coreProperties>
</file>