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A65-5915-4083-B072-325DEA05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AB0-435E-4EE7-A178-B9C1298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95F-7958-4D52-8388-A078C45E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890-C811-4489-A1C2-969E04ED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FC72-E077-408F-BE8C-E121B77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8239-AA12-486C-A327-42409BAC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51B7-8E71-4F5B-83D1-B39CF4FE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051-ACEA-4544-BE5F-3EEF1032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8E19-446A-464E-B9C9-10D1B8F5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E3E6-B7EC-40CE-81B1-2D27A8A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E3A6-79DE-45F5-89AF-9AE2015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DC5-01F0-44C7-B6FB-D1A31B2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03A7-E694-488E-954B-F6F0857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666-2825-4117-A11D-C8AEB48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7958-A4DF-4A79-A6B1-3D285C21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FBB4-C5DF-48C5-A3C1-F22EF44B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E81B-9F5E-487D-B5CC-D6769ECD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07E-832C-4312-8B13-7471AC19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0DD-C8F9-4AEC-9A00-0C706A1C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BC7-B33D-4E90-BC1A-9607A8C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9B9-8B29-4125-91B0-C08484D8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A5A-A530-47DE-B972-AAFE0036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AFB-739D-4BBF-BFCC-059929B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FAE-A999-48E0-B37A-3755D6F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F765-29A3-44FE-9C3F-456983DE6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BB6-8663-4A79-B1C5-5A7DCDAD2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lishmonarchs.co.uk/stuart_2.htm" TargetMode="External"/><Relationship Id="rId3" Type="http://schemas.openxmlformats.org/officeDocument/2006/relationships/hyperlink" Target="http://www.bbc.co.uk/history/historic_figures/cromwell_oliver.shtml" TargetMode="External"/><Relationship Id="rId4" Type="http://schemas.openxmlformats.org/officeDocument/2006/relationships/hyperlink" Target="http://easyweb.easynet.co.uk/~crossby/ECW/history/index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nglish Civil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42-1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hort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called Parliament to gain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wanted to discuss its problems with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issolve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’ Royal S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43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g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had no choice but to call Parliament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incredibly hostile to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ook power from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ais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met at least every three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control of king’s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s’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tried to fix his problems and create peace with Scot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finally gave in, Ireland reb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did not provide him with soldiers as he exp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arrested those who protested against the cr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and Remonstr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ent to London to be greeted with  a document from Parliament that listed his offenses against and political ab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aunched an attack on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ccessful in capturing those who opposed him, Charles left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ing S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England were forced to choose which side they suppo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mplex; there were long-standing family ties and personal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yalists or Cavaliers supported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undheads support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xecution of 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veral years of fighting, Charles was captured by the Round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willing to give him some rights as king until he supported the war from j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ried for treason, sentenced to death, and beheaded in January 16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ter the Exec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 was Lord Protector of England until his death in 16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660, Charles I’s son, Charles II, was named king of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2981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 was the 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nted to unite Scotland, Ireland and England under one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lieved in the Divine Right of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and during the W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I and his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vine Right of K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else have we studied that held the same belief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see any problems arising because of this belie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ole of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war, did not have a large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met when king called to increa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 could dissolve it at any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anted to fight in the Thirty Years’ War, which wa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refused to allow him to collect funds when he wan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did it anyway and when they had a problem with this, he dissolv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he had no way to raise money and was forced to form a new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 with each othe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blems could the king have if he made Parliament ang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ols do they have that they could use against h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sing Mon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fused to convene Parliament for ten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royal policies were driven by his lack of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made other attempts to earn money which made people a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 Ta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Parlia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Engraving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 abou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nglishmonarchs.co.uk/stuart_2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bbc.co.uk/history/historic_figures/cromwell_oliver.s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ith Scot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easyweb.easynet.co.uk/~crossby/ECW/history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he Short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The Long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harles’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Remons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ecution of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6:17Z</dcterms:created>
  <dc:creator>Erienne</dc:creator>
  <dc:description/>
  <dc:language>en-US</dc:language>
  <cp:lastModifiedBy>Erienne</cp:lastModifiedBy>
  <dcterms:modified xsi:type="dcterms:W3CDTF">2007-09-20T18:37:09Z</dcterms:modified>
  <cp:revision>6</cp:revision>
  <dc:subject/>
  <dc:title>The English Civil War</dc:title>
</cp:coreProperties>
</file>