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5840-4563-4E8C-A456-4CA91CA9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F0ED-534F-4917-9A26-58E7E4EE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F1D1-13D7-4D5C-8A98-C9A24B165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E137-9A43-4F09-B183-995C7DA7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3ECE-E246-4167-9293-048C5731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E546-110D-4414-9C69-F11D74CD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5C62-917A-4E67-AFAF-7F13305B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43DB-FE1D-4F18-86D1-2E462DAC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6205-4990-4DD3-B4D1-C5F271A0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4F95-2485-426A-B4F7-4AF03B30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BBAB-0BDB-4C06-BFA3-34AEA86A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EDDC-2267-4865-AAF9-A3FFD386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D014-5DEC-4F02-953F-158D391C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256D-5D2A-4B92-B49F-A9833966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BBFD-BDC2-45B2-9261-693F1645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667F-8E4F-47EF-B235-6E77B4F5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B29D-2E55-4E03-9647-6B5F12967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21A5-010F-4F3D-86FE-7F86C421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692B-347A-4FF7-9B6F-B6AF14F8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C04F-4DCA-4A63-9A49-2A24F631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CC19-A282-47FF-B4C2-93F3BEF6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9653-FF50-4577-9820-6634AD05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9E7A-CC43-4E92-B4CA-311633A0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CFA2-54B8-40D2-BC17-2F40F71F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6D8E-6DDC-4FA1-AFC0-4A360B0A35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7946-F095-4483-9AD1-6886373225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nglishmonarchs.co.uk/stuart_2.htm" TargetMode="External"/><Relationship Id="rId3" Type="http://schemas.openxmlformats.org/officeDocument/2006/relationships/hyperlink" Target="http://www.bbc.co.uk/history/historic_figures/cromwell_oliver.shtml" TargetMode="External"/><Relationship Id="rId4" Type="http://schemas.openxmlformats.org/officeDocument/2006/relationships/hyperlink" Target="http://easyweb.easynet.co.uk/~crossby/ECW/history/index.html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English Civil Wa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42-165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Short Parlia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les recalled Parliament to gain mo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liament wanted to discuss its problems with the 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les dissolved it ag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arles’ Royal Se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76920" y="2438280"/>
            <a:ext cx="34383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Long Parlia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les had no choice but to call Parliament ag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ere incredibly hostile to h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liament took power from the 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raising ta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liament met at least every three y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ok control of king’s minis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rles’ Proble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les tried to fix his problems and create peace with Scot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he finally gave in, Ireland rebel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liament did not provide him with soldiers as he expe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les arrested those who protested against the cr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Grand Remonstran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les went to London to be greeted with  a document from Parliament that listed his offenses against and political abu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launched an attack on Parli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successful in capturing those who opposed him, Charles left Lond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aking Sid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in England were forced to choose which side they suppor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was complex; there were long-standing family ties and personal belief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oyalists or Cavaliers supported the 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oundheads supported Parli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Execution of the K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several years of fighting, Charles was captured by the Roundhea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ere willing to give him some rights as king until he supported the war from ja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as tried for treason, sentenced to death, and beheaded in January 1649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fter the Execu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liver Cromwell was Lord Protector of England until his death in 165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1660, Charles I’s son, Charles II, was named king of Eng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liver Cromwe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029200" y="2362320"/>
            <a:ext cx="29811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K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267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les I was the k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wanted to unite Scotland, Ireland and England under one fla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believed in the Divine Right of k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gland during the W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770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scu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arles I and his fami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73392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the Divine Right of King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else have we studied that held the same belief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you see any problems arising because of this belief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300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Role of Parlia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 to war, did not have a large r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met when king called to increase tax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king could dissolve it at any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Proble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les wanted to fight in the Thirty Years’ War, which was expens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liament refused to allow him to collect funds when he wanted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les did it anyway and when they had a problem with this, he dissolved Parli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w he had no way to raise money and was forced to form a new Parli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scuss with each other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problems could the king have if he made Parliament angr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tools do they have that they could use against hi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aising Mone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les refused to convene Parliament for ten y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royal policies were driven by his lack of mo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made other attempts to earn money which made people ang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vy Tax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glish Parlia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Engraving"/>
          <p:cNvPicPr/>
          <p:nvPr/>
        </p:nvPicPr>
        <p:blipFill>
          <a:blip r:embed="rId2"/>
          <a:stretch/>
        </p:blipFill>
        <p:spPr>
          <a:xfrm>
            <a:off x="4724280" y="2438280"/>
            <a:ext cx="38102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earn about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les 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://www.englishmonarchs.co.uk/stuart_2.ht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liver Cromw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http://www.bbc.co.uk/history/historic_figures/cromwell_oliver.s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r with Scot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http://easyweb.easynet.co.uk/~crossby/ECW/history/index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Wa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2" action="ppaction://hlinksldjump"/>
              </a:rPr>
              <a:t>The Short Parli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The Long Parli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Charles’ Probl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rand Remonstr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xecution of the 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6:16:17Z</dcterms:created>
  <dc:creator>Erienne</dc:creator>
  <dc:description/>
  <dc:language>en-US</dc:language>
  <cp:lastModifiedBy>Erienne</cp:lastModifiedBy>
  <dcterms:modified xsi:type="dcterms:W3CDTF">2007-09-20T18:37:09Z</dcterms:modified>
  <cp:revision>6</cp:revision>
  <dc:subject/>
  <dc:title>The English Civil War</dc:title>
</cp:coreProperties>
</file>