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D7D-8196-4865-AFDF-2D7BE257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2373-8B32-489D-8D2D-02428860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1F7-C7AC-4EE4-8935-FCD3F219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894-3F34-4F02-B048-ED86B3ED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3319-F0AC-45B0-AA99-FEABD881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910F-81DD-464D-AEA7-024EF9E6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E6EB-2BEB-4872-B968-6A9A8918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2963-5E34-48C2-8F67-AE8A98CA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F43B-83B9-4DC6-8358-C352BC9E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57D6-3E2E-4E95-9973-19EBABCA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0394-9296-458E-B5AF-1188F3E6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6C4-B2C6-4C83-830B-B7893CF8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EBBA-76AC-4517-B26C-5AF3AA3C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7738-50A7-4774-A075-8D797385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5D2B-E80B-4104-9831-9AB5BD39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4CD1-4C30-422F-B905-36DEADCF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E2F5-482B-4947-AD81-D4473472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EF4-733E-495A-9032-30744F2F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BC6-8CF6-404A-8DA0-52BA7E24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771-F491-459A-AED1-B91918EF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F5B7-F9F4-447F-9B9F-3EA8494E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A91-05E3-43E5-89B4-85885C7F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F02-00AE-4C3E-9308-8299E506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E0A-5064-4A68-8D0A-5A19A09A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AEEE-3A24-4F7D-B1D4-169F617978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EBBB-FD06-4460-9A39-2D94C23AFE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istorylearningsite.co.uk/henry_viii_beliefs.ht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ist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6904" b="0"/>
          <a:stretch/>
        </p:blipFill>
        <p:spPr>
          <a:xfrm>
            <a:off x="1981080" y="1828800"/>
            <a:ext cx="4953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nry VI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rcRect l="0" t="0" r="6904" b="0"/>
          <a:stretch/>
        </p:blipFill>
        <p:spPr>
          <a:xfrm>
            <a:off x="609480" y="2057400"/>
            <a:ext cx="4267440" cy="4103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Crown and answer the questions on your work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arrow when fin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Go to fullsize image"/>
          <p:cNvPicPr/>
          <p:nvPr/>
        </p:nvPicPr>
        <p:blipFill>
          <a:blip r:embed="rId3"/>
          <a:stretch/>
        </p:blipFill>
        <p:spPr>
          <a:xfrm>
            <a:off x="7543800" y="5410080"/>
            <a:ext cx="13809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uis X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6904" b="0"/>
          <a:stretch/>
        </p:blipFill>
        <p:spPr>
          <a:xfrm>
            <a:off x="609480" y="2200320"/>
            <a:ext cx="4343400" cy="4178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Crown and answer the questions on your work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arrow when finish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Go to fullsize image"/>
          <p:cNvPicPr/>
          <p:nvPr/>
        </p:nvPicPr>
        <p:blipFill>
          <a:blip r:embed="rId2"/>
          <a:stretch/>
        </p:blipFill>
        <p:spPr>
          <a:xfrm>
            <a:off x="7543800" y="5410080"/>
            <a:ext cx="13809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herine the Gre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6904" b="0"/>
          <a:stretch/>
        </p:blipFill>
        <p:spPr>
          <a:xfrm>
            <a:off x="838080" y="2209680"/>
            <a:ext cx="4419720" cy="424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Crown and answer the questions on your work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arrow when fin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Go to fullsize image"/>
          <p:cNvPicPr/>
          <p:nvPr/>
        </p:nvPicPr>
        <p:blipFill>
          <a:blip r:embed="rId2"/>
          <a:stretch/>
        </p:blipFill>
        <p:spPr>
          <a:xfrm>
            <a:off x="7543800" y="5410080"/>
            <a:ext cx="13809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 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you see similar ide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you see different ide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 you think about absolutis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5:37:09Z</dcterms:created>
  <dc:creator>Erienne</dc:creator>
  <dc:description/>
  <dc:language>en-US</dc:language>
  <cp:lastModifiedBy>Erienne</cp:lastModifiedBy>
  <dcterms:modified xsi:type="dcterms:W3CDTF">2007-10-11T18:07:43Z</dcterms:modified>
  <cp:revision>7</cp:revision>
  <dc:subject/>
  <dc:title>Slide 1</dc:title>
</cp:coreProperties>
</file>