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162-72C9-450B-A9BE-0FB515B4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6E3-B6DB-41BC-840C-502089D6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32B-D783-4A49-969E-9A060A87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ACC-A935-422D-966C-57E14BC6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163A-1E44-42B2-8352-2414E3BC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D3AC-C5D3-4D00-AA17-A01DAAFA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B23-6322-4460-91EF-7BEB3FCA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FB94-FFB4-4039-BC8B-84D6086F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8ED8-9FBC-40A7-BD96-E326891A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B5EE-AA38-40EE-8733-31ADA95F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C586-7E8E-4918-A84D-E548DAB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620-9B09-496D-9E3E-81221983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F88F-C7AD-4791-BE16-63F380D6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409-4C12-4240-8627-EC9EAC38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2809-C01C-4C8A-8761-B37D083E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4ECB-0AF3-429B-8C6F-4753149A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6B19-DF6F-4B8E-AB3E-9BE3A219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AB7-77F4-4593-9A29-0FF56113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6B6-DAFC-46A1-8B66-80F3566F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1F6-5E6F-43B5-92F5-1143BE1B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895-3417-4DB9-9F37-F72DF684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32C-46B9-4214-BABD-A30C3E4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662-F810-409F-AE2C-483FBE2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438-FF84-42BF-BBA0-729AFAB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545-7BFF-48BE-9D9E-02499CF2F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0BCD-A64D-4335-91CF-E9679082C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learningsite.co.uk/henry_viii_beliefs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ist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1981080" y="1828800"/>
            <a:ext cx="495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nry V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rcRect l="0" t="0" r="6904" b="0"/>
          <a:stretch/>
        </p:blipFill>
        <p:spPr>
          <a:xfrm>
            <a:off x="609480" y="2057400"/>
            <a:ext cx="4267440" cy="4103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3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uis X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609480" y="22003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herine the Gr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838080" y="220968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similar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different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think about absolutis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37:09Z</dcterms:created>
  <dc:creator>Erienne</dc:creator>
  <dc:description/>
  <dc:language>en-US</dc:language>
  <cp:lastModifiedBy>Erienne</cp:lastModifiedBy>
  <dcterms:modified xsi:type="dcterms:W3CDTF">2007-10-11T18:07:43Z</dcterms:modified>
  <cp:revision>7</cp:revision>
  <dc:subject/>
  <dc:title>Slide 1</dc:title>
</cp:coreProperties>
</file>