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5E0-098D-4A59-9118-69073810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EF9-FDCF-425A-A05F-9F7772F8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153-1CC5-420F-8706-86CA6B2C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E50-2F90-4C34-82D4-F880F426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52FC-A5A3-48BC-AF11-3091B46B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48FE-EF45-440D-9487-87DFFF18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4F58-A7F1-4E69-8AA8-A52E8ED1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90FD-890C-491D-AEBC-DCCDED11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193E-264A-4BAC-96DE-9F66E736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93F9-8597-49BE-BC97-ABFDE524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D5CF-403B-49F8-A1A2-8526675E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AF1-A44A-4A98-9A0D-10A27FAF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8E21-29C3-4600-90EC-2B26FBD9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ACE9-CBFA-45E0-A5E2-C63AB95C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D705-FDE4-4E72-8403-F780CCE3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0197-E9F6-4A12-BE9D-19E7ACC1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BD15-C451-4DD9-9CBB-AE5CB530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5F0-A6F4-48C4-BC33-4F045CBC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4A8-A0DE-4F1B-9C9C-B008BACB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FCF-8D3F-4CD0-89D6-D5785451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24A-23BF-499D-ADD0-49D0F6B9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E00-54C9-44C7-95F1-1AB5BE8D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FF1-9CF8-4D56-9664-0017226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6C6-0E6E-4A35-8310-D28E8EF5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66B2-18B7-48CC-A417-D72EC08384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23CA-8969-43B2-B112-B8B4D6E286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istorylearningsite.co.uk/henry_viii_beliefs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ist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1981080" y="1828800"/>
            <a:ext cx="4953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nry V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rcRect l="0" t="0" r="6904" b="0"/>
          <a:stretch/>
        </p:blipFill>
        <p:spPr>
          <a:xfrm>
            <a:off x="609480" y="2057400"/>
            <a:ext cx="4267440" cy="4103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Go to fullsize image"/>
          <p:cNvPicPr/>
          <p:nvPr/>
        </p:nvPicPr>
        <p:blipFill>
          <a:blip r:embed="rId3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uis X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609480" y="2200320"/>
            <a:ext cx="4343400" cy="4178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Go to fullsize image"/>
          <p:cNvPicPr/>
          <p:nvPr/>
        </p:nvPicPr>
        <p:blipFill>
          <a:blip r:embed="rId2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herine the Gre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6904" b="0"/>
          <a:stretch/>
        </p:blipFill>
        <p:spPr>
          <a:xfrm>
            <a:off x="838080" y="2209680"/>
            <a:ext cx="4419720" cy="424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Crown and answer the questions on your work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on the arrow when fi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Go to fullsize image"/>
          <p:cNvPicPr/>
          <p:nvPr/>
        </p:nvPicPr>
        <p:blipFill>
          <a:blip r:embed="rId2"/>
          <a:stretch/>
        </p:blipFill>
        <p:spPr>
          <a:xfrm>
            <a:off x="7543800" y="5410080"/>
            <a:ext cx="13809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rap 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see similar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you see different ide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you think about absolutis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5:37:09Z</dcterms:created>
  <dc:creator>Erienne</dc:creator>
  <dc:description/>
  <dc:language>en-US</dc:language>
  <cp:lastModifiedBy>Erienne</cp:lastModifiedBy>
  <dcterms:modified xsi:type="dcterms:W3CDTF">2007-10-11T18:07:43Z</dcterms:modified>
  <cp:revision>7</cp:revision>
  <dc:subject/>
  <dc:title>Slide 1</dc:title>
</cp:coreProperties>
</file>