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E15-1622-4B89-928D-5E7CBA9B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BBC-5967-4803-86DB-08CB7859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037-6839-40F2-BFD0-2C5A2DBA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387-950C-4634-8759-CC961D1F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5598-0580-4E9D-B44B-59DD8CEE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DECA-EFDC-4404-92FF-B665479C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EDD3-708A-4874-9E47-2E322FF7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0925-2485-4BFB-9E41-8634F267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5877-6FD1-4260-BAA4-29BA0955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D232-657A-463F-86D6-077BDCBF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10A4-3753-4295-BC85-72D402F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0BA-58F9-4ADA-A95E-6EB04680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4239-60E2-430F-AB65-E6D4EEC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E637-8927-4440-B2EF-D3004349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6C9D-F3BE-47F2-B363-CB3F9EA8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3B47-76FD-4843-B3F5-D9C010BC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34EE-EC63-4C68-8FFD-C92B17BA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7A7-4EC1-4BC2-AE26-925AA1D4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7B8-875A-472B-AF47-5D2EAE3D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690-119B-4B35-8FEA-99A231E0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9C3-24B3-48C8-92B7-9F6BF36D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3DF-2C18-4750-A2E3-4F86FB5A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DFF-B20B-4723-AF0C-10B382DE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145-07A2-4B07-B516-E58DD85C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6472-E10E-47DD-B529-650857CF7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CB3C-F0FE-4935-A5C0-6C25533B2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glishmonarchs.co.uk/stuart_2.htm" TargetMode="External"/><Relationship Id="rId3" Type="http://schemas.openxmlformats.org/officeDocument/2006/relationships/hyperlink" Target="http://www.bbc.co.uk/history/historic_figures/cromwell_oliver.shtml" TargetMode="External"/><Relationship Id="rId4" Type="http://schemas.openxmlformats.org/officeDocument/2006/relationships/hyperlink" Target="http://easyweb.easynet.co.uk/~crossby/ECW/history/index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nglish Civil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42-16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hort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called Parliament to gain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wanted to discuss its problems with th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issolved it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’ Royal Se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438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g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had no choice but to call Parliament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incredibly hostile to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took power from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aising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met at least every three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control of king’s mini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les’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tried to fix his problems and create peace with Scot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finally gave in, Ireland rebe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did not provide him with soldiers as he exp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arrested those who protested against the cr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Grand Remonstr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ent to London to be greeted with  a document from Parliament that listed his offenses against and political ab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aunched an attack on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uccessful in capturing those who opposed him, Charles left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king Si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in England were forced to choose which side they suppo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complex; there were long-standing family ties and personal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yalists or Cavaliers supported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undheads support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xecution of 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several years of fighting, Charles was captured by the Round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willing to give him some rights as king until he supported the war from j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ried for treason, sentenced to death, and beheaded in January 164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ter the Exec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 was Lord Protector of England until his death in 16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660, Charles I’s son, Charles II, was named king of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2981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 was the 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nted to unite Scotland, Ireland and England under one fl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lieved in the Divine Right of k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and during the W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70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 I and his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339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vine Right of King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else have we studied that held the same belief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you see any problems arising because of this belief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ole of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 to war, did not have a large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met when king called to increase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ing could dissolve it at any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anted to fight in the Thirty Years’ War, which was exp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refused to allow him to collect funds when he wan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did it anyway and when they had a problem with this, he dissolv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he had no way to raise money and was forced to form a new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 with each othe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roblems could the king have if he made Parliament ang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ools do they have that they could use against hi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sing Mon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fused to convene Parliament for ten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royal policies were driven by his lack of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made other attempts to earn money which made people ang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 Tax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ish Parlia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Engraving"/>
          <p:cNvPicPr/>
          <p:nvPr/>
        </p:nvPicPr>
        <p:blipFill>
          <a:blip r:embed="rId2"/>
          <a:stretch/>
        </p:blipFill>
        <p:spPr>
          <a:xfrm>
            <a:off x="4724280" y="2438280"/>
            <a:ext cx="3810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rn abou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englishmonarchs.co.uk/stuart_2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bbc.co.uk/history/historic_figures/cromwell_oliver.s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with Scot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easyweb.easynet.co.uk/~crossby/ECW/history/index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The Short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The Long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Charles’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and Remons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ecution of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6:16:17Z</dcterms:created>
  <dc:creator>Erienne</dc:creator>
  <dc:description/>
  <dc:language>en-US</dc:language>
  <cp:lastModifiedBy>Erienne</cp:lastModifiedBy>
  <dcterms:modified xsi:type="dcterms:W3CDTF">2007-09-20T18:37:09Z</dcterms:modified>
  <cp:revision>6</cp:revision>
  <dc:subject/>
  <dc:title>The English Civil War</dc:title>
</cp:coreProperties>
</file>