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777-7EA0-4EAB-BB6A-C62B161E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11D-1161-4F42-AD1D-F95214FC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506-1EBC-4745-9E87-BB829E58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0EC-5238-4640-A045-85BCF4D5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DD62-BF6B-42D6-A116-08978E97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5BD2-DA29-4998-8316-F7386D8B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5412-58B0-4746-B4CA-F9CEE63B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2704-42AD-4D06-A512-4D4C0CF1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FC49-900C-41C3-BEC8-F88921C8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D98C-23E3-4218-92A8-4FC234F3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AE80-7CF9-4F06-A140-DAEEFB2D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AD8-8B7C-43D7-BE5D-BB85D932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45B1-3EDB-4B58-BE67-81D1F2FD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544A-43F3-406F-BFB7-ADF1AA9E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4EEC-BD24-4D56-AADC-DA2F1838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0644-19F3-4DDA-960B-E217D5C2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8B1D-3D44-492E-9280-E92F7ED8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777-10B9-4D5C-B78B-C8B47E88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2AD-0B18-4AFF-8796-6FE2D7D5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127-CDAC-4DFB-97EB-277F6654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137-F419-4924-B6E7-B26DDB7A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03F-B97A-43FD-A05E-0CC92631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D2F-9FC1-42A1-844C-05478652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A16-2D17-49FD-B0DD-873E9D5D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7A82-1669-4D48-84A8-9BE536830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2310-0DBF-4D0D-936D-8C4B150F0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nglishmonarchs.co.uk/stuart_2.htm" TargetMode="External"/><Relationship Id="rId3" Type="http://schemas.openxmlformats.org/officeDocument/2006/relationships/hyperlink" Target="http://www.bbc.co.uk/history/historic_figures/cromwell_oliver.shtml" TargetMode="External"/><Relationship Id="rId4" Type="http://schemas.openxmlformats.org/officeDocument/2006/relationships/hyperlink" Target="http://easyweb.easynet.co.uk/~crossby/ECW/history/index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nglish Civil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42-16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hort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called Parliament to gain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wanted to discuss its problems with th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dissolved it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’ Royal Se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3438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g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had no choice but to call Parliament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incredibly hostile to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took power from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aising ta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met at least every three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control of king’s mini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les’ Proble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tried to fix his problems and create peace with Scot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finally gave in, Ireland rebe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did not provide him with soldiers as he exp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arrested those who protested against the cr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Grand Remonstr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ent to London to be greeted with  a document from Parliament that listed his offenses against and political ab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aunched an attack on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uccessful in capturing those who opposed him, Charles left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king Si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in England were forced to choose which side they suppor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complex; there were long-standing family ties and personal bel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yalists or Cavaliers supported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undheads support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xecution of 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several years of fighting, Charles was captured by the Roundh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willing to give him some rights as king until he supported the war from j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ried for treason, sentenced to death, and beheaded in January 164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fter the Exec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 was Lord Protector of England until his death in 165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660, Charles I’s son, Charles II, was named king of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2981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 was the 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nted to unite Scotland, Ireland and England under one fl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elieved in the Divine Right of k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and during the W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70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 I and his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339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vine Right of King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else have we studied that held the same belief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you see any problems arising because of this belief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ole of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 to war, did not have a large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met when king called to increase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king could dissolve it at any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anted to fight in the Thirty Years’ War, which was expen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refused to allow him to collect funds when he wan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did it anyway and when they had a problem with this, he dissolv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he had no way to raise money and was forced to form a new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 with each othe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roblems could the king have if he made Parliament ang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ools do they have that they could use against hi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ising Mon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fused to convene Parliament for ten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royal policies were driven by his lack of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made other attempts to earn money which made people ang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y Tax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ish Parlia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Engraving"/>
          <p:cNvPicPr/>
          <p:nvPr/>
        </p:nvPicPr>
        <p:blipFill>
          <a:blip r:embed="rId2"/>
          <a:stretch/>
        </p:blipFill>
        <p:spPr>
          <a:xfrm>
            <a:off x="4724280" y="2438280"/>
            <a:ext cx="3810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rn abou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englishmonarchs.co.uk/stuart_2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bbc.co.uk/history/historic_figures/cromwell_oliver.s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with Scot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http://easyweb.easynet.co.uk/~crossby/ECW/history/index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The Short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The Long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Charles’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and Remonst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xecution of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6:16:17Z</dcterms:created>
  <dc:creator>Erienne</dc:creator>
  <dc:description/>
  <dc:language>en-US</dc:language>
  <cp:lastModifiedBy>Erienne</cp:lastModifiedBy>
  <dcterms:modified xsi:type="dcterms:W3CDTF">2007-09-20T18:37:09Z</dcterms:modified>
  <cp:revision>6</cp:revision>
  <dc:subject/>
  <dc:title>The English Civil War</dc:title>
</cp:coreProperties>
</file>