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C58-F04F-41AB-B9A6-D3041FFD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CBEA-A691-4775-893D-A40AE3D1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C70-E880-47B4-834D-205A713B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BF9-9D11-4C2A-8D58-A9CC25C0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3A94-0922-4F46-8F04-69E9B4F6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FD0D-9DBC-46CE-8809-AC3AE228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581E-3E87-49B2-B0BD-82DEB066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D329-A61B-4EE3-9EE6-96F03034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3472-E7BB-44CC-B46D-2323311F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06C2-BABA-4958-9E98-F4F3044B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EDD-3CEA-443B-90F4-6822464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409-9DAA-40FD-8FE6-983A7A59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59C5-8FBD-4902-BD9C-79B5F9D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1A59-3205-4522-A745-BA55B30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5735-46A7-4C00-A63D-F75BA437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70E8-4243-413B-91FB-B1D5AB8B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EAD6-9B56-4C52-9115-47F2E998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960-EE8D-4937-8D18-5AF69A29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C37-A202-43FF-A4C1-536673DE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685-42BB-4EBE-B610-4E142E13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986-E678-440E-863E-4CF22A7A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7BB-CA43-48F6-8C12-7BF4D8EF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4BA-244B-4083-B5AB-4633044C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351-10E4-4FDD-B16E-2D492F36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D266-B14B-4040-8657-9F4F500AB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51C8-926F-4B3A-A696-4CE4D23DB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nglishmonarchs.co.uk/stuart_2.htm" TargetMode="External"/><Relationship Id="rId3" Type="http://schemas.openxmlformats.org/officeDocument/2006/relationships/hyperlink" Target="http://www.bbc.co.uk/history/historic_figures/cromwell_oliver.shtml" TargetMode="External"/><Relationship Id="rId4" Type="http://schemas.openxmlformats.org/officeDocument/2006/relationships/hyperlink" Target="http://easyweb.easynet.co.uk/~crossby/ECW/history/index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nglish Civil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42-16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hort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recalled Parliament to gain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wanted to discuss its problems with the 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dissolved it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’ Royal Se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3438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ong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had no choice but to call Parliament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incredibly hostile to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took power from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raising ta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met at least every three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control of king’s mini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les’ Proble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tried to fix his problems and create peace with Scot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finally gave in, Ireland rebe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did not provide him with soldiers as he exp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arrested those who protested against the cr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Grand Remonstr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went to London to be greeted with  a document from Parliament that listed his offenses against and political ab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aunched an attack on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successful in capturing those who opposed him, Charles left Lon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king Si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in England were forced to choose which side they suppor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was complex; there were long-standing family ties and personal belief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yalists or Cavaliers supported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undheads supported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xecution of the 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several years of fighting, Charles was captured by the Roundhe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willing to give him some rights as king until he supported the war from j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ried for treason, sentenced to death, and beheaded in January 164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fter the Exec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iver Cromwell was Lord Protector of England until his death in 165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660, Charles I’s son, Charles II, was named king of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liver Cromwe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29811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I was the 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nted to unite Scotland, Ireland and England under one fl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believed in the Divine Right of k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and during the W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770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 I and his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73392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vine Right of King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else have we studied that held the same belief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you see any problems arising because of this belief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ole of Parlia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or to war, did not have a large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met when king called to increase ta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king could dissolve it at any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wanted to fight in the Thirty Years’ War, which was expen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liament refused to allow him to collect funds when he want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les did it anyway and when they had a problem with this, he dissolved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he had no way to raise money and was forced to form a new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cuss with each othe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roblems could the king have if he made Parliament ang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ools do they have that they could use against hi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ising Mon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refused to convene Parliament for ten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royal policies were driven by his lack of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made other attempts to earn money which made people ang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vy Tax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glish Parlia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Engraving"/>
          <p:cNvPicPr/>
          <p:nvPr/>
        </p:nvPicPr>
        <p:blipFill>
          <a:blip r:embed="rId2"/>
          <a:stretch/>
        </p:blipFill>
        <p:spPr>
          <a:xfrm>
            <a:off x="4724280" y="2438280"/>
            <a:ext cx="3810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arn abou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les 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englishmonarchs.co.uk/stuart_2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iver Crom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bbc.co.uk/history/historic_figures/cromwell_oliver.s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 with Scot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http://easyweb.easynet.co.uk/~crossby/ECW/history/index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The Short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The Long Parli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Charles’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and Remonst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xecution of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6:16:17Z</dcterms:created>
  <dc:creator>Erienne</dc:creator>
  <dc:description/>
  <dc:language>en-US</dc:language>
  <cp:lastModifiedBy>Erienne</cp:lastModifiedBy>
  <dcterms:modified xsi:type="dcterms:W3CDTF">2007-09-20T18:37:09Z</dcterms:modified>
  <cp:revision>6</cp:revision>
  <dc:subject/>
  <dc:title>The English Civil War</dc:title>
</cp:coreProperties>
</file>