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A41-DDFF-419A-96ED-BC3D690A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B39-FF30-4033-B524-349E1B3E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12B-DC26-4EEA-83B7-49191F78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50A-F37B-4E0B-B60D-743ED6F7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52F9-A752-43B5-ADB0-848FC075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F357-1F0F-4A21-9C33-F49B00B4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9DCE-86C5-4F18-B436-98C80A52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4021-6CB1-4CCA-9FFB-87C6CBB5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40DC-5BE7-47EC-8AD2-B67834DC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B17C-6C52-4766-95F8-B3089AB3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0E0A-467E-4D20-913D-628A9270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9D1-2A61-4A1D-9D54-D4C70BC9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3B70-5F5A-47B6-9109-901EF569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D15E-F75D-4029-95EB-32AC3F04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7011-A12B-4CFD-AFB1-1CE30E73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1F14-0565-432B-86C7-0F83ACBE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7515-4A55-4736-BB05-75730B82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03F3-0B7E-4854-84F9-2C92E75A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FB6-0A6D-4758-A3C8-CB3E80B9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90C-E79C-4D45-9163-0168B9C0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03F-6234-47E0-9078-42B13A03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0BC-3B08-4BAB-90EF-9E8D9790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C56-5A28-4E29-88ED-90A5F479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AAD-1FB5-4966-8D3C-B18F9BFC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FCD6-4FD2-40A9-8F87-A40FA6420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11B9-7E39-4920-B9FB-F6A16C747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nglishmonarchs.co.uk/stuart_2.htm" TargetMode="External"/><Relationship Id="rId3" Type="http://schemas.openxmlformats.org/officeDocument/2006/relationships/hyperlink" Target="http://www.bbc.co.uk/history/historic_figures/cromwell_oliver.shtml" TargetMode="External"/><Relationship Id="rId4" Type="http://schemas.openxmlformats.org/officeDocument/2006/relationships/hyperlink" Target="http://easyweb.easynet.co.uk/~crossby/ECW/history/index.html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nglish Civil W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42-16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hort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recalled Parliament to gain 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wanted to discuss its problems with the 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dissolved it ag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les’ Royal Se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3438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ong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had no choice but to call Parliament 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incredibly hostile to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took power from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raising ta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met at least every three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k control of king’s mini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les’ Proble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tried to fix his problems and create peace with Scot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he finally gave in, Ireland rebe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did not provide him with soldiers as he exp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arrested those who protested against the cr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Grand Remonstr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went to London to be greeted with  a document from Parliament that listed his offenses against and political ab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aunched an attack on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successful in capturing those who opposed him, Charles left Lo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aking Si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in England were forced to choose which side they suppor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complex; there were long-standing family ties and personal belie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yalists or Cavaliers supported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undheads supported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xecution of the K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several years of fighting, Charles was captured by the Roundhe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willing to give him some rights as king until he supported the war from j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tried for treason, sentenced to death, and beheaded in January 164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fter the Exec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iver Cromwell was Lord Protector of England until his death in 165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660, Charles I’s son, Charles II, was named king of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liver Cromwe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2981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K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I was the 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nted to unite Scotland, Ireland and England under one fl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believed in the Divine Right of k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land during the W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770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cu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les I and his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3392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Divine Right of King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else have we studied that held the same belief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you see any problems arising because of this belief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300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Role of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 to war, did not have a large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met when king called to increase ta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king could dissolve it at any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Probl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wanted to fight in the Thirty Years’ War, which was expen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refused to allow him to collect funds when he want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did it anyway and when they had a problem with this, he dissolved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he had no way to raise money and was forced to form a new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cuss with each othe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problems could the king have if he made Parliament angr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tools do they have that they could use against hi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ising Mon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refused to convene Parliament for ten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royal policies were driven by his lack of 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made other attempts to earn money which made people ang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vy Tax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lish Parlia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Engraving"/>
          <p:cNvPicPr/>
          <p:nvPr/>
        </p:nvPicPr>
        <p:blipFill>
          <a:blip r:embed="rId2"/>
          <a:stretch/>
        </p:blipFill>
        <p:spPr>
          <a:xfrm>
            <a:off x="4724280" y="2438280"/>
            <a:ext cx="3810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arn abou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englishmonarchs.co.uk/stuart_2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iver Cromw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bbc.co.uk/history/historic_figures/cromwell_oliver.s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 with Scot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http://easyweb.easynet.co.uk/~crossby/ECW/history/index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W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The Short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The Long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Charles’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and Remonst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xecution of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6:16:17Z</dcterms:created>
  <dc:creator>Erienne</dc:creator>
  <dc:description/>
  <dc:language>en-US</dc:language>
  <cp:lastModifiedBy>Erienne</cp:lastModifiedBy>
  <dcterms:modified xsi:type="dcterms:W3CDTF">2007-09-20T18:37:09Z</dcterms:modified>
  <cp:revision>6</cp:revision>
  <dc:subject/>
  <dc:title>The English Civil War</dc:title>
</cp:coreProperties>
</file>