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648-9407-451A-A99A-AC760934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5D2-31C2-4EF8-95B4-DC65C221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679-83EF-4244-90F2-BDC78AC5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58C-3B5E-4C5A-BA81-2CCC1B37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CF8-A028-4917-BE7D-D5BDDCE4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846-3AB8-4CED-9066-2235B9FA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E9B-7665-4021-9D42-09DDA05B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FE5-FAD9-49BD-95D3-A67D2CAE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132-5355-4554-9AF2-79D6C9BF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FF7-ED03-4675-A9F1-BA8776DF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07B-EAEE-471D-A988-AF0DDD0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6A3-85B5-45C3-B147-E282F85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75D3-24FF-4916-A29A-762129CCF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hospholipid%20bilayer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Membrane%20proteins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2667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81280" y="6172200"/>
            <a:ext cx="198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ahoma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barrier separating the intracellular components and the outsid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s transport of molecules in and out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s as an anchoring layer for things inside to attach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other cells to attach to it to form groups of cells (tiss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hospholipid Bi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phi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s, which poi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s the outside environ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phob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ils repel the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oint in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791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?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rotein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t as the passageway for molecule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in and out of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so acts as anchors or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0960" y="48769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! Extr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websites to visit for a head start to the next les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elstar.ote.cmu.edu/Hughes/tutorial/cellmembran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do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3" action="ppaction://hlinksldjump"/>
              </a:rPr>
              <a:t>1)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4" action="ppaction://hlinksldjump"/>
              </a:rPr>
              <a:t>2) 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5" action="ppaction://hlinksldjump"/>
              </a:rPr>
              <a:t>3)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6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5105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! Ext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ment of particles of a substance from an area on hig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area of lo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ul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3962520"/>
            <a:ext cx="6248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write out a hypothetical example of what diffusion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cent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ncent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share your example with your neighbor and see if they understan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 is the passage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region of high water concentration through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mi-perme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brane to a region of low water concent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means by which water is transport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&amp;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6019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draw Osmosis in 3 stages: before, during,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abel and describe what is occurring in each step of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raise your hand and discuss with me what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of a molecule through a membrane against its concentration gradient with the aid of proteins in the membrane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ergy (AT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3733920"/>
            <a:ext cx="6172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called “Active” because it requires the cell to use energy to transport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draw Active Transport in 3 stages: before, during,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abel and describe what is occurring in each step of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raise your hand and discuss with me what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perm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phob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phi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(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9:24:49Z</dcterms:created>
  <dc:creator>Owner</dc:creator>
  <dc:description/>
  <dc:language>en-US</dc:language>
  <cp:lastModifiedBy>Owner</cp:lastModifiedBy>
  <dcterms:modified xsi:type="dcterms:W3CDTF">2007-09-20T16:49:03Z</dcterms:modified>
  <cp:revision>10</cp:revision>
  <dc:subject/>
  <dc:title>The Cell Membrane</dc:title>
</cp:coreProperties>
</file>