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061-3B32-4828-8B23-8D98CFA4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8FE-0EF0-4E0F-9FDF-0DFC3DF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157-4E15-4E23-A52B-8B740516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364-540E-49F0-95AC-3D34C5EC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640-614C-4F66-B0C1-8F96EEF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AF0-000D-4BCD-A385-6D405E7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6FF-362E-45D5-94E7-FE7A2D5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DEB-31FC-4189-8D44-20904AE0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68A-B52A-43B2-9E09-BB8E157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B60-442A-4074-B427-8F0D3BB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16D-D654-4E51-BFCC-F5353A7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BA-638E-4C2F-BFC5-90ACCF1A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014E-BF1A-48EE-893A-32B95CF0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manlibrary.org/publicpapers/index.php?pid=100&amp;st=atomic&amp;st1=bom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360" y="457200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s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720"/>
            <a:ext cx="4191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4920" y="304920"/>
            <a:ext cx="686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 to Drop the B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4280" y="167652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Bomb to find the answe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001000" y="2590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1840" y="274320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21932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-J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5400" y="3505320"/>
            <a:ext cx="38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lor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36760" y="632448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7816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0960" y="167652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Hiroshima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077320" y="2514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4160" y="2743200"/>
            <a:ext cx="210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home” button to finish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3:23:15Z</dcterms:created>
  <dc:creator>intern04</dc:creator>
  <dc:description/>
  <dc:language>en-US</dc:language>
  <cp:lastModifiedBy>intern04</cp:lastModifiedBy>
  <dcterms:modified xsi:type="dcterms:W3CDTF">2007-10-11T16:54:14Z</dcterms:modified>
  <cp:revision>4</cp:revision>
  <dc:subject/>
  <dc:title>Slide 1</dc:title>
</cp:coreProperties>
</file>