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66A-D7D3-4CB0-BBCD-D4BB8084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D0E-B9C5-412F-A71F-677049E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2AA-98B0-4058-A654-F0C99141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DDB-D681-4DEE-A7C5-E84B000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791-4519-40B3-A4D7-2BD6600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CCB-8C1C-4FBF-B588-EECA95A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FDE-C350-412C-82E2-D5DFEAE2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716-DF8B-4D12-B052-5E5DBF1C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900-39F2-4066-B71F-49A565C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5A1-7EF4-496E-95FF-AEF9F81E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EB5-303D-41A8-B86D-0CD5052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BFF-DCA5-4937-91F3-38D4902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22C-04A9-4CA0-A74C-4317C2F50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manlibrary.org/publicpapers/index.php?pid=100&amp;st=atomic&amp;st1=bom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360" y="457200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s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720"/>
            <a:ext cx="4191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4920" y="304920"/>
            <a:ext cx="686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 to Drop the B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4280" y="167652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Bomb to find the answe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001000" y="2590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1840" y="274320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21932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-J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5400" y="3505320"/>
            <a:ext cx="38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lor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36760" y="632448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7816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0960" y="167652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Hiroshima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077320" y="2514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4160" y="2743200"/>
            <a:ext cx="210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home” button to finish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3:23:15Z</dcterms:created>
  <dc:creator>intern04</dc:creator>
  <dc:description/>
  <dc:language>en-US</dc:language>
  <cp:lastModifiedBy>intern04</cp:lastModifiedBy>
  <dcterms:modified xsi:type="dcterms:W3CDTF">2007-10-11T16:54:14Z</dcterms:modified>
  <cp:revision>4</cp:revision>
  <dc:subject/>
  <dc:title>Slide 1</dc:title>
</cp:coreProperties>
</file>