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5DC-1417-40F4-AE56-F1BC43A4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0D3-C72D-4B5D-8FD1-8164E32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9F5-1D27-4E35-A661-55D8A371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C93-D152-4D9A-B73B-7E4283F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556-72E9-4406-9E63-4611DFE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4E0-4F02-4689-8B99-512C2C1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09C-76D1-4DA2-939C-BE8EA89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1FF-4076-4733-A56F-3E42A4A5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A52-16BB-40FB-8E5A-0170124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221-D31B-45B2-B95E-4F8C67E8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F2A-26CB-4BFF-A4FF-BC6BC1E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839-C465-422F-B628-C98661E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09CB-DE73-4BA1-B8E3-B900AEFB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manlibrary.org/publicpapers/index.php?pid=100&amp;st=atomic&amp;st1=bom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360" y="457200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s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720"/>
            <a:ext cx="4191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4920" y="304920"/>
            <a:ext cx="686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 to Drop the B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4280" y="167652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Bomb to find the answe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001000" y="2590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1840" y="274320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21932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-J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5400" y="3505320"/>
            <a:ext cx="38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lor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36760" y="632448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7816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0960" y="167652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Hiroshima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077320" y="2514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4160" y="2743200"/>
            <a:ext cx="210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home” button to finish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3:23:15Z</dcterms:created>
  <dc:creator>intern04</dc:creator>
  <dc:description/>
  <dc:language>en-US</dc:language>
  <cp:lastModifiedBy>intern04</cp:lastModifiedBy>
  <dcterms:modified xsi:type="dcterms:W3CDTF">2007-10-11T16:54:14Z</dcterms:modified>
  <cp:revision>4</cp:revision>
  <dc:subject/>
  <dc:title>Slide 1</dc:title>
</cp:coreProperties>
</file>