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260-3241-4D21-95C1-2D0044D6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22F-3DBA-4179-8E1B-D54098F2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5ED-4A65-4A59-9533-5ED8000A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30A-1C24-496C-8417-3A03C200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F5A-B636-4BA5-9C86-67317B7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704-04BB-404E-BB32-2C59E5D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3CE-6F17-4544-86FE-23FFED06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7F5-A48E-44CA-8907-B8F071E9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E50-A75F-4B80-B837-503EF479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2C6-1C5D-45C2-9627-43C9452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6A2-E500-4A36-B958-15E4B80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FB8-EF75-4617-8840-78DC5C17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0F78-975D-46DB-B301-138D931F2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rumanlibrary.org/publicpapers/index.php?pid=100&amp;st=atomic&amp;st1=bomb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360" y="4572000"/>
            <a:ext cx="289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s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990720"/>
            <a:ext cx="4191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Atomic Bom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4920" y="304920"/>
            <a:ext cx="686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 to Drop the B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4280" y="167652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Bomb to find the answer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on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001000" y="2590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1840" y="274320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91320" y="121932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-J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55400" y="3505320"/>
            <a:ext cx="38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ilor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36760" y="6324480"/>
            <a:ext cx="22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next” button to continue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7816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0960" y="1676520"/>
            <a:ext cx="60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icture of Hiroshima to fin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 to your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077320" y="2514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4160" y="2743200"/>
            <a:ext cx="210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on the “home” button to finish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3:23:15Z</dcterms:created>
  <dc:creator>intern04</dc:creator>
  <dc:description/>
  <dc:language>en-US</dc:language>
  <cp:lastModifiedBy>intern04</cp:lastModifiedBy>
  <dcterms:modified xsi:type="dcterms:W3CDTF">2007-10-11T16:54:14Z</dcterms:modified>
  <cp:revision>4</cp:revision>
  <dc:subject/>
  <dc:title>Slide 1</dc:title>
</cp:coreProperties>
</file>