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C5C-4038-45C2-8B01-68B7C8F9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C12-B992-44D7-8F43-1B66ECFB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AA9-E6E6-4FF0-9581-0B09F7FC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3EA-728C-41CB-B82F-C98FA3DC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CAC-3FE7-412B-B2F0-134FF76A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30A-26CF-4EFE-9F93-D4D8EEF9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0CA-3977-4FD3-9EF1-F96D3368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DF8-A366-4879-8437-653BE898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3E8-3351-4F8B-92E2-74C6F272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2F9-6A58-4923-AB34-E023AC6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9BF-7D9C-4478-A7EE-AEB64A0A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149-6C62-488F-B74F-5380F4CD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8E43-E493-4DB3-B1A3-D1707F056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hospholipid%20bilayer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embrane%20proteins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2667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6172200"/>
            <a:ext cx="198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ahoma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barrier separating the intracellular components and the outsid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transport of molecules in and out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an anchoring layer for things inside to attach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ther cells to attach to it to form groups of cells (t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hospholipid Bi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s, which poi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the outside environ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ob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ils repel th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oint i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791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tei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t as the passageway for molecule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in and out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so acts as anchors or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0960" y="48769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websites to visit for a head start to the next les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lstar.ote.cmu.edu/Hughes/tutorial/cellmembran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3" action="ppaction://hlinksldjump"/>
              </a:rPr>
              <a:t>1)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4" action="ppaction://hlinksldjump"/>
              </a:rPr>
              <a:t>2)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5" action="ppaction://hlinksldjump"/>
              </a:rPr>
              <a:t>3)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6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5105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particles of a substance from an area on hig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area of lo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ul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3962520"/>
            <a:ext cx="6248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write out a hypothetical example of what diffusion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share your example with your neighbor and see if they understa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 is the passag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region of high water concentration through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mi-perme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brane to a region of low water concen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means by which water is transport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&amp;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6019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Osmosis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a molecule through a membrane against its concentration gradient with the aid of proteins in the membrane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ergy (A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3733920"/>
            <a:ext cx="617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alled “Active” because it requires the cell to use energy to transpor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Active Transport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perm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o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i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(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9:24:49Z</dcterms:created>
  <dc:creator>Owner</dc:creator>
  <dc:description/>
  <dc:language>en-US</dc:language>
  <cp:lastModifiedBy>Owner</cp:lastModifiedBy>
  <dcterms:modified xsi:type="dcterms:W3CDTF">2007-09-20T16:49:03Z</dcterms:modified>
  <cp:revision>10</cp:revision>
  <dc:subject/>
  <dc:title>The Cell Membrane</dc:title>
</cp:coreProperties>
</file>