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7B7-95BC-4C31-AE37-889266AD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0B7-CC5D-48BE-AEDA-8799D4BA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2F4-655A-45E4-B6F8-EF9A858B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12D-C98F-4347-BB68-0685E9FF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62D-F57F-4DBF-8538-0D8A2806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EA7-B546-4ADF-B86F-EAAD42F7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9CB-038F-4D08-AC93-DD38D51F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A52-60F5-4EAB-A80B-5A3D9228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62E-5F7D-4B43-900E-A9B39808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E2A-4CE5-49DE-B14A-063FCD3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E30-AB5F-4306-8F49-BABC2879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01A-2625-45AB-8255-8A93B3FD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6EB3-1E19-4534-8984-0C8B2889D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hospholipid%20bilayer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embrane%20proteins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2667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1280" y="6172200"/>
            <a:ext cx="198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ahoma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barrier separating the intracellular components and the outsid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s transport of molecules in and out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an anchoring layer for things inside to attach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ther cells to attach to it to form groups of cells (tiss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hospholipid Bi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i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s, which poi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s the outside environ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ob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ils repel the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oint i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791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tei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t as the passageway for molecule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in and out of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so acts as anchors or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0960" y="48769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websites to visit for a head start to the next les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lstar.ote.cmu.edu/Hughes/tutorial/cellmembran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3" action="ppaction://hlinksldjump"/>
              </a:rPr>
              <a:t>1)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4" action="ppaction://hlinksldjump"/>
              </a:rPr>
              <a:t>2) 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5" action="ppaction://hlinksldjump"/>
              </a:rPr>
              <a:t>3)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6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5105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ment of particles of a substance from an area on hig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area of lo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ul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3962520"/>
            <a:ext cx="6248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write out a hypothetical example of what diffusion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share your example with your neighbor and see if they understa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 is the passag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region of high water concentration through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mi-perme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brane to a region of low water concent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means by which water is transport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&amp;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6019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Osmosis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of a molecule through a membrane against its concentration gradient with the aid of proteins in the membrane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ergy (A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3733920"/>
            <a:ext cx="6172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alled “Active” because it requires the cell to use energy to transport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Active Transport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perm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o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i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(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9:24:49Z</dcterms:created>
  <dc:creator>Owner</dc:creator>
  <dc:description/>
  <dc:language>en-US</dc:language>
  <cp:lastModifiedBy>Owner</cp:lastModifiedBy>
  <dcterms:modified xsi:type="dcterms:W3CDTF">2007-09-20T16:49:03Z</dcterms:modified>
  <cp:revision>10</cp:revision>
  <dc:subject/>
  <dc:title>The Cell Membrane</dc:title>
</cp:coreProperties>
</file>