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E728-97A4-45A3-B2D2-AA39F594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22FD-424D-4FDD-AE53-4C9E739B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7217-40BE-49DA-AAD2-076E123A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822-FA99-4448-80B2-7D64ACE3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9C0-0AF8-41D3-83F7-DC123A4D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FAE-1C35-4C66-8DB1-A375E20D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F833-632C-42F1-ACDA-515F5342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442-6826-4C7C-A2AB-03A6569A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178-53EB-47A0-BDCC-7296D8B4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2E4E-5334-4672-A23F-7947FC27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D411-8379-4A90-9A15-E08C0241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7F58-6497-42F0-9875-A9B7139A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1870-5B8F-464B-B147-1110FF9FA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Phospholipid%20bilayer.doc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Membrane%20proteins.doc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2667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81280" y="6172200"/>
            <a:ext cx="198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ahoma"/>
                <a:hlinkClick r:id="rId2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barrier separating the intracellular components and the outsid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es transport of molecules in and out of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s as an anchoring layer for things inside to attach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other cells to attach to it to form groups of cells (tissu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made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Phospholipid Bi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drophi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ads, which poi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wards the outside environ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ytopla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drophob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ils repel the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point in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791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made of?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Protein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ct as the passageway for molecules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ve in and out of th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lso acts as anchors or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0960" y="48769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! Extr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websites to visit for a head start to the next les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elstar.ote.cmu.edu/Hughes/tutorial/cellmembran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do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made of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2" action="ppaction://hlinksldjump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3" action="ppaction://hlinksldjump"/>
              </a:rPr>
              <a:t>1)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4" action="ppaction://hlinksldjump"/>
              </a:rPr>
              <a:t>2) 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5" action="ppaction://hlinksldjump"/>
              </a:rPr>
              <a:t>3) 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6172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6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51055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! Extr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vement of particles of a substance from an area on hig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ent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 area of lo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ent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sult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7920" y="3962520"/>
            <a:ext cx="6248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oments and write out a hypothetical example of what diffusion me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ncentr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Concentr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ce complete, share your example with your neighbor and see if they understan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mosis is the passage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a region of high water concentration through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mi-perme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mbrane to a region of low water concent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means by which water is transport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&amp; 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00200" y="4114800"/>
            <a:ext cx="6019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oments and draw Osmosis in 3 stages: before, during, af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label and describe what is occurring in each step of th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ce complete, raise your hand and discuss with me what is happ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 of a molecule through a membrane against its concentration gradient with the aid of proteins in the membrane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ergy (AT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47920" y="3733920"/>
            <a:ext cx="61722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called “Active” because it requires the cell to use energy to transport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oments and draw Active Transport in 3 stages: before, during, af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label and describe what is occurring in each step of th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ce complete, raise your hand and discuss with me what is happ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-perm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phob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phi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 (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9:24:49Z</dcterms:created>
  <dc:creator>Owner</dc:creator>
  <dc:description/>
  <dc:language>en-US</dc:language>
  <cp:lastModifiedBy>Owner</cp:lastModifiedBy>
  <dcterms:modified xsi:type="dcterms:W3CDTF">2007-09-20T16:49:03Z</dcterms:modified>
  <cp:revision>10</cp:revision>
  <dc:subject/>
  <dc:title>The Cell Membrane</dc:title>
</cp:coreProperties>
</file>