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81F3-074E-486A-929E-E78DFC7AD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527E-6AD8-4647-9868-B08684921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F473-6FE1-4AD6-B64E-734CCE69A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9FB9-E585-45F9-9E60-B03D897D2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238C-927B-4DF2-9081-8146095D2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798E-929E-499A-B6FD-3033512D3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DDCB-3D8B-4C8A-8531-8EA3BC5EC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B315-7D64-4F09-9949-AE6767EB5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B20B-2A79-40B0-A938-C6DE15E89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5A12-AEEB-4609-AD01-02CE98D86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35EA-5E6C-47BA-86DC-47586EBD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CD77-5D23-4A51-9594-6B9BE3E7F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9E23F-FC55-41C8-B883-B2A3D858A4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Phospholipid%20bilayer.doc" TargetMode="Externa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Membrane%20proteins.doc" TargetMode="Externa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ell Membr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400800" cy="26672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581280" y="6172200"/>
            <a:ext cx="19814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Tahoma"/>
                <a:hlinkClick r:id="rId2" action="ppaction://hlinksldjump"/>
              </a:rPr>
              <a:t>Main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" action="ppaction://hlinkshowjump?jump=nextslide"/>
          </p:cNvPr>
          <p:cNvSpPr/>
          <p:nvPr/>
        </p:nvSpPr>
        <p:spPr>
          <a:xfrm>
            <a:off x="7772400" y="6095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ell Membr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’s it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 barrier separating the intracellular components and the outside enviro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tes transport of molecules in and out of the c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es as an anchoring layer for things inside to attach 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other cells to attach to it to form groups of cells (tissu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89080" y="617220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ell Membr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’s it made o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Phospholipid Bi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ydrophil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eads, which poin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wards the outside environment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ytoplas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ydrophob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ails repel the wa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point in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5791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1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" action="ppaction://hlinkshowjump?jump=nextslide"/>
          </p:cNvPr>
          <p:cNvSpPr/>
          <p:nvPr/>
        </p:nvSpPr>
        <p:spPr>
          <a:xfrm>
            <a:off x="7772400" y="6095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89080" y="617220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2" action="ppaction://hlinksldjump"/>
              </a:rPr>
              <a:t>Main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ell Membr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’s it made of?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Protein molec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act as the passageway for molecules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ove in and out of the c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also acts as anchors or recep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0960" y="487692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1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" action="ppaction://hlinkshowjump?jump=previousslide"/>
          </p:cNvPr>
          <p:cNvSpPr/>
          <p:nvPr/>
        </p:nvSpPr>
        <p:spPr>
          <a:xfrm>
            <a:off x="914400" y="6095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9080" y="617220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2" action="ppaction://hlinksldjump"/>
              </a:rPr>
              <a:t>Main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! Extra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websites to visit for a head start to the next less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library.thinkquest.org/12413/structures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telstar.ote.cmu.edu/Hughes/tutorial/cellmembrane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89080" y="617220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ell Membr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’s it do</a:t>
            </a:r>
            <a:r>
              <a:rPr b="0" lang="en-US" sz="3200" spc="-1" strike="noStrike" u="sng">
                <a:solidFill>
                  <a:srgbClr val="0066ff"/>
                </a:solidFill>
                <a:uFillTx/>
                <a:latin typeface="Arial"/>
                <a:hlinkClick r:id="rId1" action="ppaction://hlinksldjump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’s it made of</a:t>
            </a:r>
            <a:r>
              <a:rPr b="0" lang="en-US" sz="3200" spc="-1" strike="noStrike" u="sng">
                <a:solidFill>
                  <a:srgbClr val="0066ff"/>
                </a:solidFill>
                <a:uFillTx/>
                <a:latin typeface="Arial"/>
                <a:hlinkClick r:id="rId2" action="ppaction://hlinksldjump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it import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ff"/>
                </a:solidFill>
                <a:uFillTx/>
                <a:latin typeface="Arial"/>
                <a:hlinkClick r:id="rId3" action="ppaction://hlinksldjump"/>
              </a:rPr>
              <a:t>1) Diff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ff"/>
                </a:solidFill>
                <a:uFillTx/>
                <a:latin typeface="Arial"/>
                <a:hlinkClick r:id="rId4" action="ppaction://hlinksldjump"/>
              </a:rPr>
              <a:t>2) Osm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ff"/>
                </a:solidFill>
                <a:uFillTx/>
                <a:latin typeface="Arial"/>
                <a:hlinkClick r:id="rId5" action="ppaction://hlinksldjump"/>
              </a:rPr>
              <a:t>3) Active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6172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6" action="ppaction://hlinksldjump"/>
              </a:rPr>
              <a:t>Main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" action="ppaction://hlinkshowjump?jump=previousslide"/>
          </p:cNvPr>
          <p:cNvSpPr/>
          <p:nvPr/>
        </p:nvSpPr>
        <p:spPr>
          <a:xfrm>
            <a:off x="914400" y="6095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15000" y="510552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ds to K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00800" y="57913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ra! Extr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7772400" y="6095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89080" y="617220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1" action="ppaction://hlinksldjump"/>
              </a:rPr>
              <a:t>Main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vement of particles of a substance from an area on high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ncent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a area of low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ncent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resulting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quilibri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subst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447920" y="3962520"/>
            <a:ext cx="62481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>
            <a:hlinkClick r:id="" action="ppaction://hlinkshowjump?jump=previousslide"/>
          </p:cNvPr>
          <p:cNvSpPr/>
          <p:nvPr/>
        </p:nvSpPr>
        <p:spPr>
          <a:xfrm>
            <a:off x="914400" y="6095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89080" y="617220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1" action="ppaction://hlinksldjump"/>
              </a:rPr>
              <a:t>Main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a few moments and write out a hypothetical example of what diffusion mea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Concentration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Concentration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lib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Once complete, share your example with your neighbor and see if they understand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7772400" y="6095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89080" y="617220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1" action="ppaction://hlinksldjump"/>
              </a:rPr>
              <a:t>Main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m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mosis is the passage of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a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m a region of high water concentration through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emi-perme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mbrane to a region of low water concentr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ary means by which water is transported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 &amp; ou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ce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600200" y="4114800"/>
            <a:ext cx="60199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>
            <a:hlinkClick r:id="" action="ppaction://hlinkshowjump?jump=previousslide"/>
          </p:cNvPr>
          <p:cNvSpPr/>
          <p:nvPr/>
        </p:nvSpPr>
        <p:spPr>
          <a:xfrm>
            <a:off x="914400" y="6095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89080" y="617220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1" action="ppaction://hlinksldjump"/>
              </a:rPr>
              <a:t>Main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m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a few moments and draw Osmosis in 3 stages: before, during, af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sure to label and describe what is occurring in each step of the proc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Once complete, raise your hand and discuss with me what is happe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>
            <a:hlinkClick r:id="" action="ppaction://hlinkshowjump?jump=nextslide"/>
          </p:cNvPr>
          <p:cNvSpPr/>
          <p:nvPr/>
        </p:nvSpPr>
        <p:spPr>
          <a:xfrm>
            <a:off x="7772400" y="6095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89080" y="617220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1" action="ppaction://hlinksldjump"/>
              </a:rPr>
              <a:t>Main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e Tran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ment of a molecule through a membrane against its concentration gradient with the aid of proteins in the membrane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nergy (ATP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447920" y="3733920"/>
            <a:ext cx="617220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>
            <a:hlinkClick r:id="" action="ppaction://hlinkshowjump?jump=previousslide"/>
          </p:cNvPr>
          <p:cNvSpPr/>
          <p:nvPr/>
        </p:nvSpPr>
        <p:spPr>
          <a:xfrm>
            <a:off x="914400" y="6095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89080" y="617220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1" action="ppaction://hlinksldjump"/>
              </a:rPr>
              <a:t>Main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e Tran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called “Active” because it requires the cell to use energy to transport some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a few moments and draw Active Transport in 3 stages: before, during, af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sure to label and describe what is occurring in each step of the proc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Once complete, raise your hand and discuss with me what is happe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89080" y="617220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1" action="ppaction://hlinksldjump"/>
              </a:rPr>
              <a:t>Main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s to K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n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ilibr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i-perme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drophob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drophi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P (energ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9T19:24:49Z</dcterms:created>
  <dc:creator>Owner</dc:creator>
  <dc:description/>
  <dc:language>en-US</dc:language>
  <cp:lastModifiedBy>Owner</cp:lastModifiedBy>
  <dcterms:modified xsi:type="dcterms:W3CDTF">2007-09-20T16:49:03Z</dcterms:modified>
  <cp:revision>10</cp:revision>
  <dc:subject/>
  <dc:title>The Cell Membrane</dc:title>
</cp:coreProperties>
</file>