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C2C68-9883-4381-87D4-598A59C9E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BE96B-8714-4CA3-8161-D1640344E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6844E-2B74-4051-A475-62535C1FA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A1ACE-CDE3-43DF-BE68-610921984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ED515-19D2-4EE5-8382-C7503E732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938B3-DD58-408E-9843-EE44B735F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6DDC9-7206-4B87-81A0-347D6DCF9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DF55F-2513-4274-BC4A-B9A28CDCB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0C77B-62EC-43CE-BA54-0B5C9807F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C4B7E-57EC-4F9A-9755-691530D44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63A00-9190-47FF-9212-CE5F437A3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E1B05-0E75-4046-ADC2-094F79CBC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05946-A9FD-4B8C-9A06-4949EE073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F2D5F-34F5-4B4E-9271-F3FF17CAC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16590-307D-4137-ACCB-0A88B1E0F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CF5FC-73BB-4AB7-A5BE-50F82953E4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E6B11-4394-4470-A740-3AC3BE3698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72F60-8BBF-4697-8214-B77C29AA5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C607C-B370-4601-BC4D-FBA46A542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378C9-2285-46DA-BF10-1B592F86A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6F921-0834-477F-883B-1990DE1B6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4BE07-0243-4AA9-BB30-AE8D04262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BBDAE-7621-435C-83D0-0D5B5637A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34B4F-9426-4F66-92EB-F80269C4A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8690-7372-4404-BF50-C5A1EFD1BF45}"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4F46-5B85-4AFD-9255-5BD55C6B641E}"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
          <p:cNvSpPr txBox="1"/>
          <p:nvPr/>
        </p:nvSpPr>
        <p:spPr>
          <a:xfrm>
            <a:off x="0" y="609480"/>
            <a:ext cx="6477120" cy="3942000"/>
          </a:xfrm>
          <a:prstGeom prst="rect">
            <a:avLst/>
          </a:prstGeom>
        </p:spPr>
        <p:txBody>
          <a:bodyPr wrap="none" lIns="90000" rIns="90000" tIns="46800" bIns="46800" anchor="t" anchorCtr="1">
            <a:prstTxWarp prst="textCascadeUp">
              <a:avLst>
                <a:gd name="adj" fmla="val 28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orld War II</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56" name="" descr=""/>
          <p:cNvPicPr/>
          <p:nvPr/>
        </p:nvPicPr>
        <p:blipFill>
          <a:blip r:embed="rId1"/>
          <a:stretch/>
        </p:blipFill>
        <p:spPr>
          <a:xfrm>
            <a:off x="5410080" y="2514600"/>
            <a:ext cx="3097440" cy="3943440"/>
          </a:xfrm>
          <a:prstGeom prst="rect">
            <a:avLst/>
          </a:prstGeom>
          <a:ln w="0">
            <a:noFill/>
          </a:ln>
        </p:spPr>
      </p:pic>
      <p:sp>
        <p:nvSpPr>
          <p:cNvPr id="157" name=""/>
          <p:cNvSpPr/>
          <p:nvPr/>
        </p:nvSpPr>
        <p:spPr>
          <a:xfrm>
            <a:off x="1297800" y="5410080"/>
            <a:ext cx="289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Video Lecture B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atthew Atkin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on the Horizon</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was the Spanish Civil War a turning point in the development of World War I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wo events that played a determining factor in the outbreak of World War I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id Italy invade Ethiopia?</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merican Isolationism</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o you think isolationism mean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o you think America made the choice of isolationism?</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78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76"/>
                    </p:tgtEl>
                  </p:cond>
                </p:stCondLst>
                <p:childTnLst>
                  <p:par>
                    <p:cTn id="15" fill="hold">
                      <p:stCondLst>
                        <p:cond evt="onClick">
                          <p:tgtEl>
                            <p:spTgt spid="176"/>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merican Isolationism</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as the United States' role in the years leading up to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he Neutrality Acts established by the United Stat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in Europe</a:t>
            </a:r>
            <a:endParaRPr b="0" lang="en-US" sz="4400" spc="-1" strike="noStrike">
              <a:solidFill>
                <a:srgbClr val="ccecff"/>
              </a:solidFill>
              <a:latin typeface="Arial"/>
            </a:endParaRPr>
          </a:p>
        </p:txBody>
      </p:sp>
      <p:sp>
        <p:nvSpPr>
          <p:cNvPr id="18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me some of the countries involved during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some of the events that took place during World War II, that you have previously learned abou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81"/>
                    </p:tgtEl>
                  </p:cond>
                </p:stCondLst>
                <p:childTnLst>
                  <p:par>
                    <p:cTn id="21" fill="hold">
                      <p:stCondLst>
                        <p:cond evt="onClick">
                          <p:tgtEl>
                            <p:spTgt spid="181"/>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in Europe</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was the United States initially able to help Great Britai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plain the effect of the </a:t>
            </a:r>
            <a:r>
              <a:rPr b="0" i="1" lang="en-US" sz="3200" spc="-1" strike="noStrike">
                <a:solidFill>
                  <a:srgbClr val="ffffff"/>
                </a:solidFill>
                <a:latin typeface="Verdana"/>
              </a:rPr>
              <a:t>Blitzkrieg </a:t>
            </a:r>
            <a:r>
              <a:rPr b="0" lang="en-US" sz="3200" spc="-1" strike="noStrike">
                <a:solidFill>
                  <a:srgbClr val="ffffff"/>
                </a:solidFill>
                <a:latin typeface="Verdana"/>
              </a:rPr>
              <a:t>warfare during the Battle of Britai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Path to Infamy</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o you know about Japanese involvement in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could “The Path to Infamy” mea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86"/>
                    </p:tgtEl>
                  </p:cond>
                </p:stCondLst>
                <p:childTnLst>
                  <p:par>
                    <p:cTn id="27" fill="hold">
                      <p:stCondLst>
                        <p:cond evt="onClick">
                          <p:tgtEl>
                            <p:spTgt spid="186"/>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Path to Infamy</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was the attack on Pearl Harbor such a surprise to the United Stat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he events leading up to the bombing of Pearl Harbo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rld War II</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conomic and Political Problems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ise of National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jor Events Leading to War</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will use information that they have previously learned in past history clas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llow Up Questions</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lain the United States’ involvement during the pre-World War II era, from isolation through joining the war, and the events and beliefs that caused each level of associatio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 you think the United States would have entered the war if Japan never attacked Pearl Harbor?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eral Question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in five(5) words or less what it was like to live in the United States or Europe after World War 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n anyone recall an event in time, either past or present, that you have gained a sense of pride in your countr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ing the videos</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se videos provide a powerful overview of the confluence of events and circumstances that led to the worldwide conflict from 1939 - 1945.</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first part, “The Rise of Nationalism” chronicles the rise of nationalism in Europe and Japan. Students will learn about dictators, Adolph Hitler, Benito Mussolini and Josef Stalin as well as the military leaders of Japan.</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condly, “The Clouds of War” details the rising tide of conflict, with an overview of Italy’s invasion of Ethiopia, the Spanish civil war, Germany’s re-militarization and subsequent take-over of Austria, and Czechoslovakia; Britain’s policy of appeasement and the German-Soviet non-aggression pact.</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ext, “American Isolationism” documents America’s post World War I period of isolation; the Kellog-Briand pact; and Roosevelt’s support of China during Japan’s invasion.</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next part, “War Comes to Europe” is a powerful accounting of Germany’s pursuit of domination of the continent. Students will see first hand footage of the bombing of Poland and learn about the German “Blitzkrieg.” Also covered are the German  invasion of France; the Battle of Britain; the Lend-Lease Act; the Atlantic Charter; and American anti-war voice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inally, “A Path to Infamy” discusses the escalation of Japanese aggression in the Pacific, the breakdown of American/Japanese peace negotiations and the resulting declarations of war.</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se of Nationalism</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as the Treaty of Versailles, and what were its effects on Europ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Name some of the leaders and their corresponding countries, that came to power in Europe after World War I?</a:t>
            </a:r>
            <a:br>
              <a:rPr sz="3100"/>
            </a:br>
            <a:r>
              <a:rPr b="0" lang="en-US" sz="3100" spc="-1" strike="noStrike">
                <a:solidFill>
                  <a:srgbClr val="ffffff"/>
                </a:solidFill>
                <a:latin typeface="Verdana"/>
              </a:rPr>
              <a:t> </a:t>
            </a:r>
            <a:endParaRPr b="0" lang="en-US" sz="31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66"/>
                    </p:tgtEl>
                  </p:cond>
                </p:stCondLst>
                <p:childTnLst>
                  <p:par>
                    <p:cTn id="3" fill="hold">
                      <p:stCondLst>
                        <p:cond evt="onClick">
                          <p:tgtEl>
                            <p:spTgt spid="16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se of Nationalism</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riefly describe Hitler’s beliefs about race and their effect on Jews.</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in detail one of the nationalist governments mentioned in the program. Be sure to include the dictator, country, beliefs and motives, and some of the events that took place.</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on the Horizon</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could be some possible reasons that war would break out in Europ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rom what you have previously learned from other classes what do you believe was the League of Nations response to Hitler’s actions before World War II?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71"/>
                    </p:tgtEl>
                  </p:cond>
                </p:stCondLst>
                <p:childTnLst>
                  <p:par>
                    <p:cTn id="9" fill="hold">
                      <p:stCondLst>
                        <p:cond evt="onClick">
                          <p:tgtEl>
                            <p:spTgt spid="17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20:58:43Z</dcterms:created>
  <dc:creator>Authorized User</dc:creator>
  <dc:description/>
  <dc:language>en-US</dc:language>
  <cp:lastModifiedBy> matthew Atkinson</cp:lastModifiedBy>
  <dcterms:modified xsi:type="dcterms:W3CDTF">2007-09-26T20:51:45Z</dcterms:modified>
  <cp:revision>8</cp:revision>
  <dc:subject/>
  <dc:title>Digital Streaming Template Title Here</dc:title>
</cp:coreProperties>
</file>