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23B05-D984-4BE6-8B8B-17C989328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19A70-5B54-445B-A86A-0B828F5D8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6DA08-3F89-4FED-B7C7-B6BDC9CF7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6E7B5-4F1F-45DD-85A0-BE094204C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02FE7-8F05-48AD-AC7C-2536F3B20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4110B-2EEF-4A17-A582-8929164BD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328DF-114B-48A1-931B-661452733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1CC95-7CC0-4D71-8888-02B590274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CF4BC-7416-4B42-AF3B-7677CAF28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58552-64DA-43C9-9FD9-C4ED5F109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D545A-2318-4E38-87F1-908BBC9D5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8D39E-04B2-4F8E-8CD6-AC574B298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76A18-34AD-4E04-9BF1-07DCE10982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7.xml"/><Relationship Id="rId3" Type="http://schemas.openxmlformats.org/officeDocument/2006/relationships/slide" Target="slide12.xml"/><Relationship Id="rId4" Type="http://schemas.openxmlformats.org/officeDocument/2006/relationships/slide" Target="slide17.xml"/><Relationship Id="rId5" Type="http://schemas.openxmlformats.org/officeDocument/2006/relationships/slide" Target="slide22.xml"/><Relationship Id="rId6" Type="http://schemas.openxmlformats.org/officeDocument/2006/relationships/slide" Target="slide27.xml"/><Relationship Id="rId7" Type="http://schemas.openxmlformats.org/officeDocument/2006/relationships/slide" Target="slide3.xml"/><Relationship Id="rId8" Type="http://schemas.openxmlformats.org/officeDocument/2006/relationships/slide" Target="slide8.xml"/><Relationship Id="rId9" Type="http://schemas.openxmlformats.org/officeDocument/2006/relationships/slide" Target="slide13.xml"/><Relationship Id="rId10" Type="http://schemas.openxmlformats.org/officeDocument/2006/relationships/slide" Target="slide18.xml"/><Relationship Id="rId11" Type="http://schemas.openxmlformats.org/officeDocument/2006/relationships/slide" Target="slide23.xml"/><Relationship Id="rId12" Type="http://schemas.openxmlformats.org/officeDocument/2006/relationships/slide" Target="slide28.xml"/><Relationship Id="rId13" Type="http://schemas.openxmlformats.org/officeDocument/2006/relationships/slide" Target="slide4.xml"/><Relationship Id="rId14" Type="http://schemas.openxmlformats.org/officeDocument/2006/relationships/slide" Target="slide9.xml"/><Relationship Id="rId15" Type="http://schemas.openxmlformats.org/officeDocument/2006/relationships/slide" Target="slide14.xml"/><Relationship Id="rId16" Type="http://schemas.openxmlformats.org/officeDocument/2006/relationships/slide" Target="slide19.xml"/><Relationship Id="rId17" Type="http://schemas.openxmlformats.org/officeDocument/2006/relationships/slide" Target="slide24.xml"/><Relationship Id="rId18" Type="http://schemas.openxmlformats.org/officeDocument/2006/relationships/slide" Target="slide29.xml"/><Relationship Id="rId19" Type="http://schemas.openxmlformats.org/officeDocument/2006/relationships/slide" Target="slide5.xml"/><Relationship Id="rId20" Type="http://schemas.openxmlformats.org/officeDocument/2006/relationships/slide" Target="slide10.xml"/><Relationship Id="rId21" Type="http://schemas.openxmlformats.org/officeDocument/2006/relationships/slide" Target="slide15.xml"/><Relationship Id="rId22" Type="http://schemas.openxmlformats.org/officeDocument/2006/relationships/slide" Target="slide20.xml"/><Relationship Id="rId23" Type="http://schemas.openxmlformats.org/officeDocument/2006/relationships/slide" Target="slide25.xml"/><Relationship Id="rId24" Type="http://schemas.openxmlformats.org/officeDocument/2006/relationships/slide" Target="slide30.xml"/><Relationship Id="rId25" Type="http://schemas.openxmlformats.org/officeDocument/2006/relationships/slide" Target="slide6.xml"/><Relationship Id="rId26" Type="http://schemas.openxmlformats.org/officeDocument/2006/relationships/slide" Target="slide11.xml"/><Relationship Id="rId27" Type="http://schemas.openxmlformats.org/officeDocument/2006/relationships/slide" Target="slide16.xml"/><Relationship Id="rId28" Type="http://schemas.openxmlformats.org/officeDocument/2006/relationships/slide" Target="slide21.xml"/><Relationship Id="rId29" Type="http://schemas.openxmlformats.org/officeDocument/2006/relationships/slide" Target="slide26.xml"/><Relationship Id="rId30" Type="http://schemas.openxmlformats.org/officeDocument/2006/relationships/slide" Target="slide31.xml"/><Relationship Id="rId3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304920"/>
          <a:ext cx="8915400" cy="6248160"/>
        </p:xfrm>
        <a:graphic>
          <a:graphicData uri="http://schemas.openxmlformats.org/drawingml/2006/table">
            <a:tbl>
              <a:tblPr/>
              <a:tblGrid>
                <a:gridCol w="1514520"/>
                <a:gridCol w="1512720"/>
                <a:gridCol w="1514520"/>
                <a:gridCol w="1430280"/>
                <a:gridCol w="1428840"/>
                <a:gridCol w="1514520"/>
              </a:tblGrid>
              <a:tr h="140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W II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eral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W II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ade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xis or Alli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 should have paid atten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W II Citi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W I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ttl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" action="ppaction://hlinksldjump"/>
                        </a:rPr>
                        <a:t>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" action="ppaction://hlinksldjump"/>
                        </a:rPr>
                        <a:t>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" action="ppaction://hlinksldjump"/>
                        </a:rPr>
                        <a:t>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4" action="ppaction://hlinksldjump"/>
                        </a:rPr>
                        <a:t>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5" action="ppaction://hlinksldjump"/>
                        </a:rPr>
                        <a:t>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" action="ppaction://hlinksldjump"/>
                        </a:rPr>
                        <a:t>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7" action="ppaction://hlinksldjump"/>
                        </a:rPr>
                        <a:t>2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8" action="ppaction://hlinksldjump"/>
                        </a:rPr>
                        <a:t>2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9" action="ppaction://hlinksldjump"/>
                        </a:rPr>
                        <a:t>2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0" action="ppaction://hlinksldjump"/>
                        </a:rPr>
                        <a:t>2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1" action="ppaction://hlinksldjump"/>
                        </a:rPr>
                        <a:t>2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2" action="ppaction://hlinksldjump"/>
                        </a:rPr>
                        <a:t>2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3" action="ppaction://hlinksldjump"/>
                        </a:rPr>
                        <a:t>3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4" action="ppaction://hlinksldjump"/>
                        </a:rPr>
                        <a:t>3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5" action="ppaction://hlinksldjump"/>
                        </a:rPr>
                        <a:t>3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6" action="ppaction://hlinksldjump"/>
                        </a:rPr>
                        <a:t>3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7" action="ppaction://hlinksldjump"/>
                        </a:rPr>
                        <a:t>3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8" action="ppaction://hlinksldjump"/>
                        </a:rPr>
                        <a:t>3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9" action="ppaction://hlinksldjump"/>
                        </a:rPr>
                        <a:t>4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0" action="ppaction://hlinksldjump"/>
                        </a:rPr>
                        <a:t>4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1" action="ppaction://hlinksldjump"/>
                        </a:rPr>
                        <a:t>4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2" action="ppaction://hlinksldjump"/>
                        </a:rPr>
                        <a:t>4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3" action="ppaction://hlinksldjump"/>
                        </a:rPr>
                        <a:t>4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4" action="ppaction://hlinksldjump"/>
                        </a:rPr>
                        <a:t>4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5" action="ppaction://hlinksldjump"/>
                        </a:rPr>
                        <a:t>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6" action="ppaction://hlinksldjump"/>
                        </a:rPr>
                        <a:t>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7" action="ppaction://hlinksldjump"/>
                        </a:rPr>
                        <a:t>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8" action="ppaction://hlinksldjump"/>
                        </a:rPr>
                        <a:t>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9" action="ppaction://hlinksldjump"/>
                        </a:rPr>
                        <a:t>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0" action="ppaction://hlinksldjump"/>
                        </a:rPr>
                        <a:t>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W II Leader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4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viet Premiere, aka O.G Steel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>
            <a:hlinkClick r:id="" action="ppaction://hlinkshowjump?jump=firstslide"/>
          </p:cNvPr>
          <p:cNvSpPr/>
          <p:nvPr/>
        </p:nvSpPr>
        <p:spPr>
          <a:xfrm>
            <a:off x="7924680" y="548640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62" h="21600">
                <a:moveTo>
                  <a:pt x="8382" y="10800"/>
                </a:moveTo>
                <a:lnTo>
                  <a:pt x="18888" y="3794"/>
                </a:lnTo>
                <a:lnTo>
                  <a:pt x="18888" y="17806"/>
                </a:lnTo>
                <a:close/>
              </a:path>
              <a:path fill="darken" w="23762" h="21600">
                <a:moveTo>
                  <a:pt x="4875" y="3794"/>
                </a:moveTo>
                <a:lnTo>
                  <a:pt x="6537" y="3794"/>
                </a:lnTo>
                <a:lnTo>
                  <a:pt x="6537" y="17806"/>
                </a:lnTo>
                <a:lnTo>
                  <a:pt x="487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W II Leader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ST: “surrender or suffer prompt and utter destruction.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>
            <a:hlinkClick r:id="" action="ppaction://hlinkshowjump?jump=firstslide"/>
          </p:cNvPr>
          <p:cNvSpPr/>
          <p:nvPr/>
        </p:nvSpPr>
        <p:spPr>
          <a:xfrm>
            <a:off x="7924680" y="548640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62" h="21600">
                <a:moveTo>
                  <a:pt x="8382" y="10800"/>
                </a:moveTo>
                <a:lnTo>
                  <a:pt x="18888" y="3794"/>
                </a:lnTo>
                <a:lnTo>
                  <a:pt x="18888" y="17806"/>
                </a:lnTo>
                <a:close/>
              </a:path>
              <a:path fill="darken" w="23762" h="21600">
                <a:moveTo>
                  <a:pt x="4875" y="3794"/>
                </a:moveTo>
                <a:lnTo>
                  <a:pt x="6537" y="3794"/>
                </a:lnTo>
                <a:lnTo>
                  <a:pt x="6537" y="17806"/>
                </a:lnTo>
                <a:lnTo>
                  <a:pt x="487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xis or Allie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MERICA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>
            <a:hlinkClick r:id="" action="ppaction://hlinkshowjump?jump=firstslide"/>
          </p:cNvPr>
          <p:cNvSpPr/>
          <p:nvPr/>
        </p:nvSpPr>
        <p:spPr>
          <a:xfrm>
            <a:off x="7924680" y="548640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62" h="21600">
                <a:moveTo>
                  <a:pt x="8382" y="10800"/>
                </a:moveTo>
                <a:lnTo>
                  <a:pt x="18888" y="3794"/>
                </a:lnTo>
                <a:lnTo>
                  <a:pt x="18888" y="17806"/>
                </a:lnTo>
                <a:close/>
              </a:path>
              <a:path fill="darken" w="23762" h="21600">
                <a:moveTo>
                  <a:pt x="4875" y="3794"/>
                </a:moveTo>
                <a:lnTo>
                  <a:pt x="6537" y="3794"/>
                </a:lnTo>
                <a:lnTo>
                  <a:pt x="6537" y="17806"/>
                </a:lnTo>
                <a:lnTo>
                  <a:pt x="487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xis or Allie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aly in 194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>
            <a:hlinkClick r:id="" action="ppaction://hlinkshowjump?jump=firstslide"/>
          </p:cNvPr>
          <p:cNvSpPr/>
          <p:nvPr/>
        </p:nvSpPr>
        <p:spPr>
          <a:xfrm>
            <a:off x="7924680" y="548640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62" h="21600">
                <a:moveTo>
                  <a:pt x="8382" y="10800"/>
                </a:moveTo>
                <a:lnTo>
                  <a:pt x="18888" y="3794"/>
                </a:lnTo>
                <a:lnTo>
                  <a:pt x="18888" y="17806"/>
                </a:lnTo>
                <a:close/>
              </a:path>
              <a:path fill="darken" w="23762" h="21600">
                <a:moveTo>
                  <a:pt x="4875" y="3794"/>
                </a:moveTo>
                <a:lnTo>
                  <a:pt x="6537" y="3794"/>
                </a:lnTo>
                <a:lnTo>
                  <a:pt x="6537" y="17806"/>
                </a:lnTo>
                <a:lnTo>
                  <a:pt x="487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xis or Allie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.S.S.R in 194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>
            <a:hlinkClick r:id="" action="ppaction://hlinkshowjump?jump=firstslide"/>
          </p:cNvPr>
          <p:cNvSpPr/>
          <p:nvPr/>
        </p:nvSpPr>
        <p:spPr>
          <a:xfrm>
            <a:off x="7924680" y="548640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62" h="21600">
                <a:moveTo>
                  <a:pt x="8382" y="10800"/>
                </a:moveTo>
                <a:lnTo>
                  <a:pt x="18888" y="3794"/>
                </a:lnTo>
                <a:lnTo>
                  <a:pt x="18888" y="17806"/>
                </a:lnTo>
                <a:close/>
              </a:path>
              <a:path fill="darken" w="23762" h="21600">
                <a:moveTo>
                  <a:pt x="4875" y="3794"/>
                </a:moveTo>
                <a:lnTo>
                  <a:pt x="6537" y="3794"/>
                </a:lnTo>
                <a:lnTo>
                  <a:pt x="6537" y="17806"/>
                </a:lnTo>
                <a:lnTo>
                  <a:pt x="487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xis or Allie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s Wehrmac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>
            <a:hlinkClick r:id="" action="ppaction://hlinkshowjump?jump=firstslide"/>
          </p:cNvPr>
          <p:cNvSpPr/>
          <p:nvPr/>
        </p:nvSpPr>
        <p:spPr>
          <a:xfrm>
            <a:off x="7924680" y="548640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62" h="21600">
                <a:moveTo>
                  <a:pt x="8382" y="10800"/>
                </a:moveTo>
                <a:lnTo>
                  <a:pt x="18888" y="3794"/>
                </a:lnTo>
                <a:lnTo>
                  <a:pt x="18888" y="17806"/>
                </a:lnTo>
                <a:close/>
              </a:path>
              <a:path fill="darken" w="23762" h="21600">
                <a:moveTo>
                  <a:pt x="4875" y="3794"/>
                </a:moveTo>
                <a:lnTo>
                  <a:pt x="6537" y="3794"/>
                </a:lnTo>
                <a:lnTo>
                  <a:pt x="6537" y="17806"/>
                </a:lnTo>
                <a:lnTo>
                  <a:pt x="487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xis or Allie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>
            <a:hlinkClick r:id="" action="ppaction://hlinkshowjump?jump=firstslide"/>
          </p:cNvPr>
          <p:cNvSpPr/>
          <p:nvPr/>
        </p:nvSpPr>
        <p:spPr>
          <a:xfrm>
            <a:off x="7924680" y="548640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62" h="21600">
                <a:moveTo>
                  <a:pt x="8382" y="10800"/>
                </a:moveTo>
                <a:lnTo>
                  <a:pt x="18888" y="3794"/>
                </a:lnTo>
                <a:lnTo>
                  <a:pt x="18888" y="17806"/>
                </a:lnTo>
                <a:close/>
              </a:path>
              <a:path fill="darken" w="23762" h="21600">
                <a:moveTo>
                  <a:pt x="4875" y="3794"/>
                </a:moveTo>
                <a:lnTo>
                  <a:pt x="6537" y="3794"/>
                </a:lnTo>
                <a:lnTo>
                  <a:pt x="6537" y="17806"/>
                </a:lnTo>
                <a:lnTo>
                  <a:pt x="487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should have paid attentio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ame of the Soviet Tank used all over the Eastern Fro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>
            <a:hlinkClick r:id="" action="ppaction://hlinkshowjump?jump=firstslide"/>
          </p:cNvPr>
          <p:cNvSpPr/>
          <p:nvPr/>
        </p:nvSpPr>
        <p:spPr>
          <a:xfrm>
            <a:off x="7924680" y="548640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62" h="21600">
                <a:moveTo>
                  <a:pt x="8382" y="10800"/>
                </a:moveTo>
                <a:lnTo>
                  <a:pt x="18888" y="3794"/>
                </a:lnTo>
                <a:lnTo>
                  <a:pt x="18888" y="17806"/>
                </a:lnTo>
                <a:close/>
              </a:path>
              <a:path fill="darken" w="23762" h="21600">
                <a:moveTo>
                  <a:pt x="4875" y="3794"/>
                </a:moveTo>
                <a:lnTo>
                  <a:pt x="6537" y="3794"/>
                </a:lnTo>
                <a:lnTo>
                  <a:pt x="6537" y="17806"/>
                </a:lnTo>
                <a:lnTo>
                  <a:pt x="487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should have paid attentio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hip was repaired with 20 tons of duct tape before the Battle of Midw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>
            <a:hlinkClick r:id="" action="ppaction://hlinkshowjump?jump=firstslide"/>
          </p:cNvPr>
          <p:cNvSpPr/>
          <p:nvPr/>
        </p:nvSpPr>
        <p:spPr>
          <a:xfrm>
            <a:off x="7924680" y="548640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62" h="21600">
                <a:moveTo>
                  <a:pt x="8382" y="10800"/>
                </a:moveTo>
                <a:lnTo>
                  <a:pt x="18888" y="3794"/>
                </a:lnTo>
                <a:lnTo>
                  <a:pt x="18888" y="17806"/>
                </a:lnTo>
                <a:close/>
              </a:path>
              <a:path fill="darken" w="23762" h="21600">
                <a:moveTo>
                  <a:pt x="4875" y="3794"/>
                </a:moveTo>
                <a:lnTo>
                  <a:pt x="6537" y="3794"/>
                </a:lnTo>
                <a:lnTo>
                  <a:pt x="6537" y="17806"/>
                </a:lnTo>
                <a:lnTo>
                  <a:pt x="487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should have paid attentio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happens to you if you stood within the radius of an atomic blas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>
            <a:hlinkClick r:id="" action="ppaction://hlinkshowjump?jump=firstslide"/>
          </p:cNvPr>
          <p:cNvSpPr/>
          <p:nvPr/>
        </p:nvSpPr>
        <p:spPr>
          <a:xfrm>
            <a:off x="7924680" y="548640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62" h="21600">
                <a:moveTo>
                  <a:pt x="8382" y="10800"/>
                </a:moveTo>
                <a:lnTo>
                  <a:pt x="18888" y="3794"/>
                </a:lnTo>
                <a:lnTo>
                  <a:pt x="18888" y="17806"/>
                </a:lnTo>
                <a:close/>
              </a:path>
              <a:path fill="darken" w="23762" h="21600">
                <a:moveTo>
                  <a:pt x="4875" y="3794"/>
                </a:moveTo>
                <a:lnTo>
                  <a:pt x="6537" y="3794"/>
                </a:lnTo>
                <a:lnTo>
                  <a:pt x="6537" y="17806"/>
                </a:lnTo>
                <a:lnTo>
                  <a:pt x="487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W II Genera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was responsible for allied operations in the European theater. He later became President. Yeah, the dude who created the Interstate Highway System in this country in 1954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>
            <a:hlinkClick r:id="" action="ppaction://hlinkshowjump?jump=firstslide"/>
          </p:cNvPr>
          <p:cNvSpPr/>
          <p:nvPr/>
        </p:nvSpPr>
        <p:spPr>
          <a:xfrm>
            <a:off x="7924680" y="548640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62" h="21600">
                <a:moveTo>
                  <a:pt x="8382" y="10800"/>
                </a:moveTo>
                <a:lnTo>
                  <a:pt x="18888" y="3794"/>
                </a:lnTo>
                <a:lnTo>
                  <a:pt x="18888" y="17806"/>
                </a:lnTo>
                <a:close/>
              </a:path>
              <a:path fill="darken" w="23762" h="21600">
                <a:moveTo>
                  <a:pt x="4875" y="3794"/>
                </a:moveTo>
                <a:lnTo>
                  <a:pt x="6537" y="3794"/>
                </a:lnTo>
                <a:lnTo>
                  <a:pt x="6537" y="17806"/>
                </a:lnTo>
                <a:lnTo>
                  <a:pt x="487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should have paid attentio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me of the airplane that delivered the two atomic bombs to their targe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>
            <a:hlinkClick r:id="" action="ppaction://hlinkshowjump?jump=firstslide"/>
          </p:cNvPr>
          <p:cNvSpPr/>
          <p:nvPr/>
        </p:nvSpPr>
        <p:spPr>
          <a:xfrm>
            <a:off x="7924680" y="548640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62" h="21600">
                <a:moveTo>
                  <a:pt x="8382" y="10800"/>
                </a:moveTo>
                <a:lnTo>
                  <a:pt x="18888" y="3794"/>
                </a:lnTo>
                <a:lnTo>
                  <a:pt x="18888" y="17806"/>
                </a:lnTo>
                <a:close/>
              </a:path>
              <a:path fill="darken" w="23762" h="21600">
                <a:moveTo>
                  <a:pt x="4875" y="3794"/>
                </a:moveTo>
                <a:lnTo>
                  <a:pt x="6537" y="3794"/>
                </a:lnTo>
                <a:lnTo>
                  <a:pt x="6537" y="17806"/>
                </a:lnTo>
                <a:lnTo>
                  <a:pt x="487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should have paid attentio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do this to a soldier who is on fire, well… if he is on your sid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>
            <a:hlinkClick r:id="" action="ppaction://hlinkshowjump?jump=firstslide"/>
          </p:cNvPr>
          <p:cNvSpPr/>
          <p:nvPr/>
        </p:nvSpPr>
        <p:spPr>
          <a:xfrm>
            <a:off x="7924680" y="548640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62" h="21600">
                <a:moveTo>
                  <a:pt x="8382" y="10800"/>
                </a:moveTo>
                <a:lnTo>
                  <a:pt x="18888" y="3794"/>
                </a:lnTo>
                <a:lnTo>
                  <a:pt x="18888" y="17806"/>
                </a:lnTo>
                <a:close/>
              </a:path>
              <a:path fill="darken" w="23762" h="21600">
                <a:moveTo>
                  <a:pt x="4875" y="3794"/>
                </a:moveTo>
                <a:lnTo>
                  <a:pt x="6537" y="3794"/>
                </a:lnTo>
                <a:lnTo>
                  <a:pt x="6537" y="17806"/>
                </a:lnTo>
                <a:lnTo>
                  <a:pt x="487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W II Citie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0% of this city was destroyed during the Battle of Britain in May 194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>
            <a:hlinkClick r:id="" action="ppaction://hlinkshowjump?jump=firstslide"/>
          </p:cNvPr>
          <p:cNvSpPr/>
          <p:nvPr/>
        </p:nvSpPr>
        <p:spPr>
          <a:xfrm>
            <a:off x="7924680" y="548640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62" h="21600">
                <a:moveTo>
                  <a:pt x="8382" y="10800"/>
                </a:moveTo>
                <a:lnTo>
                  <a:pt x="18888" y="3794"/>
                </a:lnTo>
                <a:lnTo>
                  <a:pt x="18888" y="17806"/>
                </a:lnTo>
                <a:close/>
              </a:path>
              <a:path fill="darken" w="23762" h="21600">
                <a:moveTo>
                  <a:pt x="4875" y="3794"/>
                </a:moveTo>
                <a:lnTo>
                  <a:pt x="6537" y="3794"/>
                </a:lnTo>
                <a:lnTo>
                  <a:pt x="6537" y="17806"/>
                </a:lnTo>
                <a:lnTo>
                  <a:pt x="487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W II Citi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ity that bears the name of the Soviet bos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>
            <a:hlinkClick r:id="" action="ppaction://hlinkshowjump?jump=firstslide"/>
          </p:cNvPr>
          <p:cNvSpPr/>
          <p:nvPr/>
        </p:nvSpPr>
        <p:spPr>
          <a:xfrm>
            <a:off x="7924680" y="548640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62" h="21600">
                <a:moveTo>
                  <a:pt x="8382" y="10800"/>
                </a:moveTo>
                <a:lnTo>
                  <a:pt x="18888" y="3794"/>
                </a:lnTo>
                <a:lnTo>
                  <a:pt x="18888" y="17806"/>
                </a:lnTo>
                <a:close/>
              </a:path>
              <a:path fill="darken" w="23762" h="21600">
                <a:moveTo>
                  <a:pt x="4875" y="3794"/>
                </a:moveTo>
                <a:lnTo>
                  <a:pt x="6537" y="3794"/>
                </a:lnTo>
                <a:lnTo>
                  <a:pt x="6537" y="17806"/>
                </a:lnTo>
                <a:lnTo>
                  <a:pt x="487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W II Citie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ity where an international tribunal that tried Nazi leaders was hel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>
            <a:hlinkClick r:id="" action="ppaction://hlinkshowjump?jump=firstslide"/>
          </p:cNvPr>
          <p:cNvSpPr/>
          <p:nvPr/>
        </p:nvSpPr>
        <p:spPr>
          <a:xfrm>
            <a:off x="7924680" y="548640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62" h="21600">
                <a:moveTo>
                  <a:pt x="8382" y="10800"/>
                </a:moveTo>
                <a:lnTo>
                  <a:pt x="18888" y="3794"/>
                </a:lnTo>
                <a:lnTo>
                  <a:pt x="18888" y="17806"/>
                </a:lnTo>
                <a:close/>
              </a:path>
              <a:path fill="darken" w="23762" h="21600">
                <a:moveTo>
                  <a:pt x="4875" y="3794"/>
                </a:moveTo>
                <a:lnTo>
                  <a:pt x="6537" y="3794"/>
                </a:lnTo>
                <a:lnTo>
                  <a:pt x="6537" y="17806"/>
                </a:lnTo>
                <a:lnTo>
                  <a:pt x="487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W II Citie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of two cities where an atomic bomb was dropped in August 1945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>
            <a:hlinkClick r:id="" action="ppaction://hlinkshowjump?jump=firstslide"/>
          </p:cNvPr>
          <p:cNvSpPr/>
          <p:nvPr/>
        </p:nvSpPr>
        <p:spPr>
          <a:xfrm>
            <a:off x="7924680" y="548640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62" h="21600">
                <a:moveTo>
                  <a:pt x="8382" y="10800"/>
                </a:moveTo>
                <a:lnTo>
                  <a:pt x="18888" y="3794"/>
                </a:lnTo>
                <a:lnTo>
                  <a:pt x="18888" y="17806"/>
                </a:lnTo>
                <a:close/>
              </a:path>
              <a:path fill="darken" w="23762" h="21600">
                <a:moveTo>
                  <a:pt x="4875" y="3794"/>
                </a:moveTo>
                <a:lnTo>
                  <a:pt x="6537" y="3794"/>
                </a:lnTo>
                <a:lnTo>
                  <a:pt x="6537" y="17806"/>
                </a:lnTo>
                <a:lnTo>
                  <a:pt x="487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W II Citie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apital of Po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7924680" y="548640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62" h="21600">
                <a:moveTo>
                  <a:pt x="8382" y="10800"/>
                </a:moveTo>
                <a:lnTo>
                  <a:pt x="18888" y="3794"/>
                </a:lnTo>
                <a:lnTo>
                  <a:pt x="18888" y="17806"/>
                </a:lnTo>
                <a:close/>
              </a:path>
              <a:path fill="darken" w="23762" h="21600">
                <a:moveTo>
                  <a:pt x="4875" y="3794"/>
                </a:moveTo>
                <a:lnTo>
                  <a:pt x="6537" y="3794"/>
                </a:lnTo>
                <a:lnTo>
                  <a:pt x="6537" y="17806"/>
                </a:lnTo>
                <a:lnTo>
                  <a:pt x="487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W II Battle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turning point against the Japanese Imperial Navy in the Pacific thea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>
            <a:hlinkClick r:id="" action="ppaction://hlinkshowjump?jump=firstslide"/>
          </p:cNvPr>
          <p:cNvSpPr/>
          <p:nvPr/>
        </p:nvSpPr>
        <p:spPr>
          <a:xfrm>
            <a:off x="7924680" y="548640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62" h="21600">
                <a:moveTo>
                  <a:pt x="8382" y="10800"/>
                </a:moveTo>
                <a:lnTo>
                  <a:pt x="18888" y="3794"/>
                </a:lnTo>
                <a:lnTo>
                  <a:pt x="18888" y="17806"/>
                </a:lnTo>
                <a:close/>
              </a:path>
              <a:path fill="darken" w="23762" h="21600">
                <a:moveTo>
                  <a:pt x="4875" y="3794"/>
                </a:moveTo>
                <a:lnTo>
                  <a:pt x="6537" y="3794"/>
                </a:lnTo>
                <a:lnTo>
                  <a:pt x="6537" y="17806"/>
                </a:lnTo>
                <a:lnTo>
                  <a:pt x="487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W II Battle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last German counteroffensive against American forces in Western Europ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>
            <a:hlinkClick r:id="" action="ppaction://hlinkshowjump?jump=firstslide"/>
          </p:cNvPr>
          <p:cNvSpPr/>
          <p:nvPr/>
        </p:nvSpPr>
        <p:spPr>
          <a:xfrm>
            <a:off x="7924680" y="548640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62" h="21600">
                <a:moveTo>
                  <a:pt x="8382" y="10800"/>
                </a:moveTo>
                <a:lnTo>
                  <a:pt x="18888" y="3794"/>
                </a:lnTo>
                <a:lnTo>
                  <a:pt x="18888" y="17806"/>
                </a:lnTo>
                <a:close/>
              </a:path>
              <a:path fill="darken" w="23762" h="21600">
                <a:moveTo>
                  <a:pt x="4875" y="3794"/>
                </a:moveTo>
                <a:lnTo>
                  <a:pt x="6537" y="3794"/>
                </a:lnTo>
                <a:lnTo>
                  <a:pt x="6537" y="17806"/>
                </a:lnTo>
                <a:lnTo>
                  <a:pt x="487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W II Battle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ajor battle in the Italian Peninsula that pushed the Nazis back into German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>
            <a:hlinkClick r:id="" action="ppaction://hlinkshowjump?jump=firstslide"/>
          </p:cNvPr>
          <p:cNvSpPr/>
          <p:nvPr/>
        </p:nvSpPr>
        <p:spPr>
          <a:xfrm>
            <a:off x="7924680" y="548640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62" h="21600">
                <a:moveTo>
                  <a:pt x="8382" y="10800"/>
                </a:moveTo>
                <a:lnTo>
                  <a:pt x="18888" y="3794"/>
                </a:lnTo>
                <a:lnTo>
                  <a:pt x="18888" y="17806"/>
                </a:lnTo>
                <a:close/>
              </a:path>
              <a:path fill="darken" w="23762" h="21600">
                <a:moveTo>
                  <a:pt x="4875" y="3794"/>
                </a:moveTo>
                <a:lnTo>
                  <a:pt x="6537" y="3794"/>
                </a:lnTo>
                <a:lnTo>
                  <a:pt x="6537" y="17806"/>
                </a:lnTo>
                <a:lnTo>
                  <a:pt x="487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W II General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ordered troops to begin attack at the Battle of Coral Sea in 1942. Okay, he is the Commander of Naval Forces in the Pacific for the allies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>
            <a:hlinkClick r:id="" action="ppaction://hlinkshowjump?jump=firstslide"/>
          </p:cNvPr>
          <p:cNvSpPr/>
          <p:nvPr/>
        </p:nvSpPr>
        <p:spPr>
          <a:xfrm>
            <a:off x="7924680" y="548640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62" h="21600">
                <a:moveTo>
                  <a:pt x="8382" y="10800"/>
                </a:moveTo>
                <a:lnTo>
                  <a:pt x="18888" y="3794"/>
                </a:lnTo>
                <a:lnTo>
                  <a:pt x="18888" y="17806"/>
                </a:lnTo>
                <a:close/>
              </a:path>
              <a:path fill="darken" w="23762" h="21600">
                <a:moveTo>
                  <a:pt x="4875" y="3794"/>
                </a:moveTo>
                <a:lnTo>
                  <a:pt x="6537" y="3794"/>
                </a:lnTo>
                <a:lnTo>
                  <a:pt x="6537" y="17806"/>
                </a:lnTo>
                <a:lnTo>
                  <a:pt x="487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W II Battle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largest tank battle…. 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>
            <a:hlinkClick r:id="" action="ppaction://hlinkshowjump?jump=firstslide"/>
          </p:cNvPr>
          <p:cNvSpPr/>
          <p:nvPr/>
        </p:nvSpPr>
        <p:spPr>
          <a:xfrm>
            <a:off x="7924680" y="548640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62" h="21600">
                <a:moveTo>
                  <a:pt x="8382" y="10800"/>
                </a:moveTo>
                <a:lnTo>
                  <a:pt x="18888" y="3794"/>
                </a:lnTo>
                <a:lnTo>
                  <a:pt x="18888" y="17806"/>
                </a:lnTo>
                <a:close/>
              </a:path>
              <a:path fill="darken" w="23762" h="21600">
                <a:moveTo>
                  <a:pt x="4875" y="3794"/>
                </a:moveTo>
                <a:lnTo>
                  <a:pt x="6537" y="3794"/>
                </a:lnTo>
                <a:lnTo>
                  <a:pt x="6537" y="17806"/>
                </a:lnTo>
                <a:lnTo>
                  <a:pt x="487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W II Battle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last battle in the Pacific theater. Yes, the one you guys keep asking me whether it begins with a D or an O because my O(s) are sometimes crook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>
            <a:hlinkClick r:id="" action="ppaction://hlinkshowjump?jump=firstslide"/>
          </p:cNvPr>
          <p:cNvSpPr/>
          <p:nvPr/>
        </p:nvSpPr>
        <p:spPr>
          <a:xfrm>
            <a:off x="7924680" y="548640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62" h="21600">
                <a:moveTo>
                  <a:pt x="8382" y="10800"/>
                </a:moveTo>
                <a:lnTo>
                  <a:pt x="18888" y="3794"/>
                </a:lnTo>
                <a:lnTo>
                  <a:pt x="18888" y="17806"/>
                </a:lnTo>
                <a:close/>
              </a:path>
              <a:path fill="darken" w="23762" h="21600">
                <a:moveTo>
                  <a:pt x="4875" y="3794"/>
                </a:moveTo>
                <a:lnTo>
                  <a:pt x="6537" y="3794"/>
                </a:lnTo>
                <a:lnTo>
                  <a:pt x="6537" y="17806"/>
                </a:lnTo>
                <a:lnTo>
                  <a:pt x="487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W II General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was the “desert fox.” He defended North Africa for Hitler in 1942 and 194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>
            <a:hlinkClick r:id="" action="ppaction://hlinkshowjump?jump=firstslide"/>
          </p:cNvPr>
          <p:cNvSpPr/>
          <p:nvPr/>
        </p:nvSpPr>
        <p:spPr>
          <a:xfrm>
            <a:off x="7924680" y="548640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62" h="21600">
                <a:moveTo>
                  <a:pt x="8382" y="10800"/>
                </a:moveTo>
                <a:lnTo>
                  <a:pt x="18888" y="3794"/>
                </a:lnTo>
                <a:lnTo>
                  <a:pt x="18888" y="17806"/>
                </a:lnTo>
                <a:close/>
              </a:path>
              <a:path fill="darken" w="23762" h="21600">
                <a:moveTo>
                  <a:pt x="4875" y="3794"/>
                </a:moveTo>
                <a:lnTo>
                  <a:pt x="6537" y="3794"/>
                </a:lnTo>
                <a:lnTo>
                  <a:pt x="6537" y="17806"/>
                </a:lnTo>
                <a:lnTo>
                  <a:pt x="487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W II General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led the operation to bomb Tokyo after the attack on Pearl Harbor to boost American morale. Contrary to his name, he actually did a lo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>
            <a:hlinkClick r:id="" action="ppaction://hlinkshowjump?jump=firstslide"/>
          </p:cNvPr>
          <p:cNvSpPr/>
          <p:nvPr/>
        </p:nvSpPr>
        <p:spPr>
          <a:xfrm>
            <a:off x="7924680" y="548640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62" h="21600">
                <a:moveTo>
                  <a:pt x="8382" y="10800"/>
                </a:moveTo>
                <a:lnTo>
                  <a:pt x="18888" y="3794"/>
                </a:lnTo>
                <a:lnTo>
                  <a:pt x="18888" y="17806"/>
                </a:lnTo>
                <a:close/>
              </a:path>
              <a:path fill="darken" w="23762" h="21600">
                <a:moveTo>
                  <a:pt x="4875" y="3794"/>
                </a:moveTo>
                <a:lnTo>
                  <a:pt x="6537" y="3794"/>
                </a:lnTo>
                <a:lnTo>
                  <a:pt x="6537" y="17806"/>
                </a:lnTo>
                <a:lnTo>
                  <a:pt x="487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W II General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viet General who repelled the German attack on Mosc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>
            <a:hlinkClick r:id="" action="ppaction://hlinkshowjump?jump=firstslide"/>
          </p:cNvPr>
          <p:cNvSpPr/>
          <p:nvPr/>
        </p:nvSpPr>
        <p:spPr>
          <a:xfrm>
            <a:off x="7924680" y="548640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62" h="21600">
                <a:moveTo>
                  <a:pt x="8382" y="10800"/>
                </a:moveTo>
                <a:lnTo>
                  <a:pt x="18888" y="3794"/>
                </a:lnTo>
                <a:lnTo>
                  <a:pt x="18888" y="17806"/>
                </a:lnTo>
                <a:close/>
              </a:path>
              <a:path fill="darken" w="23762" h="21600">
                <a:moveTo>
                  <a:pt x="4875" y="3794"/>
                </a:moveTo>
                <a:lnTo>
                  <a:pt x="6537" y="3794"/>
                </a:lnTo>
                <a:lnTo>
                  <a:pt x="6537" y="17806"/>
                </a:lnTo>
                <a:lnTo>
                  <a:pt x="487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W II Leader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merican President, Frank Dawg Ruff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>
            <a:hlinkClick r:id="" action="ppaction://hlinkshowjump?jump=firstslide"/>
          </p:cNvPr>
          <p:cNvSpPr/>
          <p:nvPr/>
        </p:nvSpPr>
        <p:spPr>
          <a:xfrm>
            <a:off x="7924680" y="548640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62" h="21600">
                <a:moveTo>
                  <a:pt x="8382" y="10800"/>
                </a:moveTo>
                <a:lnTo>
                  <a:pt x="18888" y="3794"/>
                </a:lnTo>
                <a:lnTo>
                  <a:pt x="18888" y="17806"/>
                </a:lnTo>
                <a:close/>
              </a:path>
              <a:path fill="darken" w="23762" h="21600">
                <a:moveTo>
                  <a:pt x="4875" y="3794"/>
                </a:moveTo>
                <a:lnTo>
                  <a:pt x="6537" y="3794"/>
                </a:lnTo>
                <a:lnTo>
                  <a:pt x="6537" y="17806"/>
                </a:lnTo>
                <a:lnTo>
                  <a:pt x="487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W II Leader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olitical leader of Fascist Ital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>
            <a:hlinkClick r:id="" action="ppaction://hlinkshowjump?jump=firstslide"/>
          </p:cNvPr>
          <p:cNvSpPr/>
          <p:nvPr/>
        </p:nvSpPr>
        <p:spPr>
          <a:xfrm>
            <a:off x="7924680" y="548640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62" h="21600">
                <a:moveTo>
                  <a:pt x="8382" y="10800"/>
                </a:moveTo>
                <a:lnTo>
                  <a:pt x="18888" y="3794"/>
                </a:lnTo>
                <a:lnTo>
                  <a:pt x="18888" y="17806"/>
                </a:lnTo>
                <a:close/>
              </a:path>
              <a:path fill="darken" w="23762" h="21600">
                <a:moveTo>
                  <a:pt x="4875" y="3794"/>
                </a:moveTo>
                <a:lnTo>
                  <a:pt x="6537" y="3794"/>
                </a:lnTo>
                <a:lnTo>
                  <a:pt x="6537" y="17806"/>
                </a:lnTo>
                <a:lnTo>
                  <a:pt x="487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W II Leader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British Prime Minister who appeased Hitler, offering him the Sudetenland without resistanc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>
            <a:hlinkClick r:id="" action="ppaction://hlinkshowjump?jump=firstslide"/>
          </p:cNvPr>
          <p:cNvSpPr/>
          <p:nvPr/>
        </p:nvSpPr>
        <p:spPr>
          <a:xfrm>
            <a:off x="7924680" y="548640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62" h="21600">
                <a:moveTo>
                  <a:pt x="8382" y="10800"/>
                </a:moveTo>
                <a:lnTo>
                  <a:pt x="18888" y="3794"/>
                </a:lnTo>
                <a:lnTo>
                  <a:pt x="18888" y="17806"/>
                </a:lnTo>
                <a:close/>
              </a:path>
              <a:path fill="darken" w="23762" h="21600">
                <a:moveTo>
                  <a:pt x="4875" y="3794"/>
                </a:moveTo>
                <a:lnTo>
                  <a:pt x="6537" y="3794"/>
                </a:lnTo>
                <a:lnTo>
                  <a:pt x="6537" y="17806"/>
                </a:lnTo>
                <a:lnTo>
                  <a:pt x="487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3T01:03:43Z</dcterms:created>
  <dc:creator>Ernest Martin</dc:creator>
  <dc:description/>
  <dc:language>en-US</dc:language>
  <cp:lastModifiedBy>Ernest Martin</cp:lastModifiedBy>
  <dcterms:modified xsi:type="dcterms:W3CDTF">2007-04-03T01:49:34Z</dcterms:modified>
  <cp:revision>24</cp:revision>
  <dc:subject/>
  <dc:title>Slide 1</dc:title>
</cp:coreProperties>
</file>