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456-50A8-4BEF-9FD5-113B8ED2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AD3-083B-4A75-A3A0-75B58AE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B89-2E50-4407-BF44-8C68C15F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F2E-0070-48C8-8716-121FE827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B74-CC18-4F67-925E-8513AEE4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ED5-E4B5-40A3-8C90-789F1965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3D4-570C-4E81-AEB8-CA97956B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BBD-2C72-4E12-9E2A-924AA6E4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F7F-D7D8-4BAD-9F2D-B7E15635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F5F-2141-4EDD-BE1B-6F49B229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687-D750-4E45-A3D8-409CBAC6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B76-8A87-46F7-870E-E6B2A97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A209-D506-4A05-8C21-D058481C4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28.xml"/><Relationship Id="rId13" Type="http://schemas.openxmlformats.org/officeDocument/2006/relationships/slide" Target="slide4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19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5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25.xml"/><Relationship Id="rId24" Type="http://schemas.openxmlformats.org/officeDocument/2006/relationships/slide" Target="slide30.xml"/><Relationship Id="rId25" Type="http://schemas.openxmlformats.org/officeDocument/2006/relationships/slide" Target="slide6.xml"/><Relationship Id="rId26" Type="http://schemas.openxmlformats.org/officeDocument/2006/relationships/slide" Target="slide11.xml"/><Relationship Id="rId27" Type="http://schemas.openxmlformats.org/officeDocument/2006/relationships/slide" Target="slide16.xml"/><Relationship Id="rId28" Type="http://schemas.openxmlformats.org/officeDocument/2006/relationships/slide" Target="slide21.xml"/><Relationship Id="rId29" Type="http://schemas.openxmlformats.org/officeDocument/2006/relationships/slide" Target="slide26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304920"/>
          <a:ext cx="8915400" cy="6248160"/>
        </p:xfrm>
        <a:graphic>
          <a:graphicData uri="http://schemas.openxmlformats.org/drawingml/2006/table">
            <a:tbl>
              <a:tblPr/>
              <a:tblGrid>
                <a:gridCol w="1514520"/>
                <a:gridCol w="1512720"/>
                <a:gridCol w="1514520"/>
                <a:gridCol w="1430280"/>
                <a:gridCol w="1428840"/>
                <a:gridCol w="15145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 or Al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hould have paid at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Premiere, aka O.G Ste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T: “surrender or suffer prompt and utter destruction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 in 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 in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Wehr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of the Soviet Tank used all over the Eastern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ip was repaired with 20 tons of duct tape before the Battle of Mid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to you if you stood within the radius of an atomic bl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sponsible for allied operations in the European theater. He later became President. Yeah, the dude who created the Interstate Highway System in this country in 195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the airplane that delivered the two atomic bombs to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this to a soldier who is on fire, well… if he is on your 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this city was destroyed during the Battle of Britain in May 19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that bears the name of the Soviet bo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where an international tribunal that tried Nazi leaders was h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wo cities where an atomic bomb was dropped in August 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point against the Japanese Imperial Navy in the Pacific th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German counteroffensive against American forces in We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battle in the Italian Peninsula that pushed the Nazis back into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rdered troops to begin attack at the Battle of Coral Sea in 1942. Okay, he is the Commander of Naval Forces in the Pacific for the all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tank battle….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battle in the Pacific theater. Yes, the one you guys keep asking me whether it begins with a D or an O because my O(s) are sometimes cro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“desert fox.” He defended North Africa for Hitler in 1942 and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operation to bomb Tokyo after the attack on Pearl Harbor to boost American morale. Contrary to his name, he actually did a l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iet General who repelled the German attack on Mosc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President, Frank Dawg Ruff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itical leader of Fascist Ita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Prime Minister who appeased Hitler, offering him the Sudetenland without res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1:03:43Z</dcterms:created>
  <dc:creator>Ernest Martin</dc:creator>
  <dc:description/>
  <dc:language>en-US</dc:language>
  <cp:lastModifiedBy>Ernest Martin</cp:lastModifiedBy>
  <dcterms:modified xsi:type="dcterms:W3CDTF">2007-04-03T01:49:34Z</dcterms:modified>
  <cp:revision>24</cp:revision>
  <dc:subject/>
  <dc:title>Slide 1</dc:title>
</cp:coreProperties>
</file>