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123-A3E2-4D3A-909C-63734007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C4C-FC6E-41F6-94BC-9F3DBD8E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951-DD27-4ACF-B2F0-CDD1B5FA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1CC-E5A1-473E-A5FB-FD70E45E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9C0-1620-4507-ACC2-C03F17F6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686-2569-4829-AD56-E16E215E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7B9-2157-4B70-825F-44DABDA2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20F-B63F-457B-8075-A52CB659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0B8-D23E-4C68-BBC1-C9E98FBD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1B3-4CAD-4E61-A3CA-0DA980ED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9B1-2425-4D9E-83B3-F8A8DC42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19B-5516-4FF5-B0BF-B01F8529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6548-4E28-4D21-9CF7-7E192004B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27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28.xml"/><Relationship Id="rId13" Type="http://schemas.openxmlformats.org/officeDocument/2006/relationships/slide" Target="slide4.xml"/><Relationship Id="rId14" Type="http://schemas.openxmlformats.org/officeDocument/2006/relationships/slide" Target="slide9.xml"/><Relationship Id="rId15" Type="http://schemas.openxmlformats.org/officeDocument/2006/relationships/slide" Target="slide14.xml"/><Relationship Id="rId16" Type="http://schemas.openxmlformats.org/officeDocument/2006/relationships/slide" Target="slide19.xml"/><Relationship Id="rId17" Type="http://schemas.openxmlformats.org/officeDocument/2006/relationships/slide" Target="slide24.xml"/><Relationship Id="rId18" Type="http://schemas.openxmlformats.org/officeDocument/2006/relationships/slide" Target="slide29.xml"/><Relationship Id="rId19" Type="http://schemas.openxmlformats.org/officeDocument/2006/relationships/slide" Target="slide5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slide" Target="slide20.xml"/><Relationship Id="rId23" Type="http://schemas.openxmlformats.org/officeDocument/2006/relationships/slide" Target="slide25.xml"/><Relationship Id="rId24" Type="http://schemas.openxmlformats.org/officeDocument/2006/relationships/slide" Target="slide30.xml"/><Relationship Id="rId25" Type="http://schemas.openxmlformats.org/officeDocument/2006/relationships/slide" Target="slide6.xml"/><Relationship Id="rId26" Type="http://schemas.openxmlformats.org/officeDocument/2006/relationships/slide" Target="slide11.xml"/><Relationship Id="rId27" Type="http://schemas.openxmlformats.org/officeDocument/2006/relationships/slide" Target="slide16.xml"/><Relationship Id="rId28" Type="http://schemas.openxmlformats.org/officeDocument/2006/relationships/slide" Target="slide21.xml"/><Relationship Id="rId29" Type="http://schemas.openxmlformats.org/officeDocument/2006/relationships/slide" Target="slide26.xml"/><Relationship Id="rId30" Type="http://schemas.openxmlformats.org/officeDocument/2006/relationships/slide" Target="slide31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304920"/>
          <a:ext cx="8915400" cy="6248160"/>
        </p:xfrm>
        <a:graphic>
          <a:graphicData uri="http://schemas.openxmlformats.org/drawingml/2006/table">
            <a:tbl>
              <a:tblPr/>
              <a:tblGrid>
                <a:gridCol w="1514520"/>
                <a:gridCol w="1512720"/>
                <a:gridCol w="1514520"/>
                <a:gridCol w="1430280"/>
                <a:gridCol w="1428840"/>
                <a:gridCol w="1514520"/>
              </a:tblGrid>
              <a:tr h="14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is or All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should have paid att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C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Premiere, aka O.G Ste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T: “surrender or suffer prompt and utter destruction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 in 19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S.R in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Wehr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of the Soviet Tank used all over the Eastern Fr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ip was repaired with 20 tons of duct tape before the Battle of Mid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appens to you if you stood within the radius of an atomic bl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responsible for allied operations in the European theater. He later became President. Yeah, the dude who created the Interstate Highway System in this country in 195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f the airplane that delivered the two atomic bombs to their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 this to a soldier who is on fire, well… if he is on your s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 of this city was destroyed during the Battle of Britain in May 19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y that bears the name of the Soviet bo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y where an international tribunal that tried Nazi leaders was h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wo cities where an atomic bomb was dropped in August 19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rning point against the Japanese Imperial Navy in the Pacific th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German counteroffensive against American forces in Wester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 battle in the Italian Peninsula that pushed the Nazis back into Germ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ordered troops to begin attack at the Battle of Coral Sea in 1942. Okay, he is the Commander of Naval Forces in the Pacific for the all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st tank battle….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battle in the Pacific theater. Yes, the one you guys keep asking me whether it begins with a D or an O because my O(s) are sometimes croo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“desert fox.” He defended North Africa for Hitler in 1942 and 194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ed the operation to bomb Tokyo after the attack on Pearl Harbor to boost American morale. Contrary to his name, he actually did a l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viet General who repelled the German attack on Mosc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erican President, Frank Dawg Ruff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litical leader of Fascist Ita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Prime Minister who appeased Hitler, offering him the Sudetenland without resis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1:03:43Z</dcterms:created>
  <dc:creator>Ernest Martin</dc:creator>
  <dc:description/>
  <dc:language>en-US</dc:language>
  <cp:lastModifiedBy>Ernest Martin</cp:lastModifiedBy>
  <dcterms:modified xsi:type="dcterms:W3CDTF">2007-04-03T01:49:34Z</dcterms:modified>
  <cp:revision>24</cp:revision>
  <dc:subject/>
  <dc:title>Slide 1</dc:title>
</cp:coreProperties>
</file>