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3E5-1EE8-407C-B239-EAA8234B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7DA-96A2-46D1-A9F0-05DDEAC2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F065-F3AC-4C34-BA30-C67B3874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B0A-2AF2-4EB3-A5C5-CBC0E614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A81-FBD3-4090-93E8-5FA04756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971-5F43-455E-A3E1-343F7695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CD55-719A-43C6-8924-8A92D5BF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4F18-D733-4DC6-832C-E405A83C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D05-E75C-4A75-B516-494C8780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EC99-E0D0-4D66-A62F-DEB5D0A7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46D3-0CD2-49E1-ACF7-B282CC28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C63C-ED61-4FD8-8D2D-45CED8CC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E8D5-28C5-496A-84F5-6EE378E29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27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3.xml"/><Relationship Id="rId10" Type="http://schemas.openxmlformats.org/officeDocument/2006/relationships/slide" Target="slide18.xml"/><Relationship Id="rId11" Type="http://schemas.openxmlformats.org/officeDocument/2006/relationships/slide" Target="slide23.xml"/><Relationship Id="rId12" Type="http://schemas.openxmlformats.org/officeDocument/2006/relationships/slide" Target="slide28.xml"/><Relationship Id="rId13" Type="http://schemas.openxmlformats.org/officeDocument/2006/relationships/slide" Target="slide4.xml"/><Relationship Id="rId14" Type="http://schemas.openxmlformats.org/officeDocument/2006/relationships/slide" Target="slide9.xml"/><Relationship Id="rId15" Type="http://schemas.openxmlformats.org/officeDocument/2006/relationships/slide" Target="slide14.xml"/><Relationship Id="rId16" Type="http://schemas.openxmlformats.org/officeDocument/2006/relationships/slide" Target="slide19.xml"/><Relationship Id="rId17" Type="http://schemas.openxmlformats.org/officeDocument/2006/relationships/slide" Target="slide24.xml"/><Relationship Id="rId18" Type="http://schemas.openxmlformats.org/officeDocument/2006/relationships/slide" Target="slide29.xml"/><Relationship Id="rId19" Type="http://schemas.openxmlformats.org/officeDocument/2006/relationships/slide" Target="slide5.xml"/><Relationship Id="rId20" Type="http://schemas.openxmlformats.org/officeDocument/2006/relationships/slide" Target="slide10.xml"/><Relationship Id="rId21" Type="http://schemas.openxmlformats.org/officeDocument/2006/relationships/slide" Target="slide15.xml"/><Relationship Id="rId22" Type="http://schemas.openxmlformats.org/officeDocument/2006/relationships/slide" Target="slide20.xml"/><Relationship Id="rId23" Type="http://schemas.openxmlformats.org/officeDocument/2006/relationships/slide" Target="slide25.xml"/><Relationship Id="rId24" Type="http://schemas.openxmlformats.org/officeDocument/2006/relationships/slide" Target="slide30.xml"/><Relationship Id="rId25" Type="http://schemas.openxmlformats.org/officeDocument/2006/relationships/slide" Target="slide6.xml"/><Relationship Id="rId26" Type="http://schemas.openxmlformats.org/officeDocument/2006/relationships/slide" Target="slide11.xml"/><Relationship Id="rId27" Type="http://schemas.openxmlformats.org/officeDocument/2006/relationships/slide" Target="slide16.xml"/><Relationship Id="rId28" Type="http://schemas.openxmlformats.org/officeDocument/2006/relationships/slide" Target="slide21.xml"/><Relationship Id="rId29" Type="http://schemas.openxmlformats.org/officeDocument/2006/relationships/slide" Target="slide26.xml"/><Relationship Id="rId30" Type="http://schemas.openxmlformats.org/officeDocument/2006/relationships/slide" Target="slide31.xml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304920"/>
          <a:ext cx="8915400" cy="6248160"/>
        </p:xfrm>
        <a:graphic>
          <a:graphicData uri="http://schemas.openxmlformats.org/drawingml/2006/table">
            <a:tbl>
              <a:tblPr/>
              <a:tblGrid>
                <a:gridCol w="1514520"/>
                <a:gridCol w="1512720"/>
                <a:gridCol w="1514520"/>
                <a:gridCol w="1430280"/>
                <a:gridCol w="1428840"/>
                <a:gridCol w="1514520"/>
              </a:tblGrid>
              <a:tr h="14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is or All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should have paid atten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 C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 Premiere, aka O.G Ste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ST: “surrender or suffer prompt and utter destruction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 in 19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S.R in 1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Wehr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 of the Soviet Tank used all over the Eastern Fr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hip was repaired with 20 tons of duct tape before the Battle of Mid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happens to you if you stood within the radius of an atomic bl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responsible for allied operations in the European theater. He later became President. Yeah, the dude who created the Interstate Highway System in this country in 195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f the airplane that delivered the two atomic bombs to their tar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o this to a soldier who is on fire, well… if he is on your s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% of this city was destroyed during the Battle of Britain in May 194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ty that bears the name of the Soviet bo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ty where an international tribunal that tried Nazi leaders was h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wo cities where an atomic bomb was dropped in August 19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of Po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rning point against the Japanese Imperial Navy in the Pacific th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German counteroffensive against American forces in Wester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jor battle in the Italian Peninsula that pushed the Nazis back into Germ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ordered troops to begin attack at the Battle of Coral Sea in 1942. Okay, he is the Commander of Naval Forces in the Pacific for the alli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rgest tank battle….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battle in the Pacific theater. Yes, the one you guys keep asking me whether it begins with a D or an O because my O(s) are sometimes croo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“desert fox.” He defended North Africa for Hitler in 1942 and 194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ed the operation to bomb Tokyo after the attack on Pearl Harbor to boost American morale. Contrary to his name, he actually did a l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viet General who repelled the German attack on Mosc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erican President, Frank Dawg Ruff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litical leader of Fascist Ita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ritish Prime Minister who appeased Hitler, offering him the Sudetenland without resist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1:03:43Z</dcterms:created>
  <dc:creator>Ernest Martin</dc:creator>
  <dc:description/>
  <dc:language>en-US</dc:language>
  <cp:lastModifiedBy>Ernest Martin</cp:lastModifiedBy>
  <dcterms:modified xsi:type="dcterms:W3CDTF">2007-04-03T01:49:34Z</dcterms:modified>
  <cp:revision>24</cp:revision>
  <dc:subject/>
  <dc:title>Slide 1</dc:title>
</cp:coreProperties>
</file>