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885-C470-449F-A119-FBBE7DD3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BAE-7504-4D95-BF4E-2487211B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38F-F60D-424E-8CDC-A98ED01F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8E1-1E4C-48AD-A236-68DEEC33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ED1-C8F2-4571-BAEC-6A64B25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6A1-6900-45ED-A27F-F919EC9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775-B08C-48B9-8228-F82BE8B3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EEE-4C77-4A39-A888-9BB39ECF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84E-57A4-47EF-8343-49A99B7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732-1C41-44B6-AF5A-1678BC8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B20-ED4E-4AE8-8827-B4770F4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AEB-7106-4A76-A037-E0F97B0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69FB-02E4-4F95-AD12-E51CBB210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28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19.xml"/><Relationship Id="rId17" Type="http://schemas.openxmlformats.org/officeDocument/2006/relationships/slide" Target="slide24.xml"/><Relationship Id="rId18" Type="http://schemas.openxmlformats.org/officeDocument/2006/relationships/slide" Target="slide29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25.xml"/><Relationship Id="rId24" Type="http://schemas.openxmlformats.org/officeDocument/2006/relationships/slide" Target="slide3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304920"/>
          <a:ext cx="8915400" cy="6248160"/>
        </p:xfrm>
        <a:graphic>
          <a:graphicData uri="http://schemas.openxmlformats.org/drawingml/2006/table">
            <a:tbl>
              <a:tblPr/>
              <a:tblGrid>
                <a:gridCol w="1514520"/>
                <a:gridCol w="1512720"/>
                <a:gridCol w="1514520"/>
                <a:gridCol w="1430280"/>
                <a:gridCol w="1428840"/>
                <a:gridCol w="1514520"/>
              </a:tblGrid>
              <a:tr h="14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s or All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should have paid at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 C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Premiere, aka O.G Ste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T: “surrender or suffer prompt and utter destruction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 in 19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S.R in 1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Wehr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or Al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oviet Tank used all over the Easter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ip was repaired with 20 tons of duct tape before the Battle of Mid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appens to you if you stood within the radius of an atomic bl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sponsible for allied operations in the European theater. He later became President. Yeah, the dude who created the Interstate Highway System in this country in 195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he airplane that delivered the two atomic bombs to their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have paid atten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 this to a soldier who is on fire, well… if he is on your 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of this city was destroyed during the Battle of Britain in May 19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that bears the name of the Soviet bo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ty where an international tribunal that tried Nazi leaders was h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wo cities where an atomic bomb was dropped in August 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Cit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urning point against the Japanese Imperial Navy in the Pacific th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German counteroffensive against American forces in We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 battle in the Italian Peninsula that pushed the Nazis back into Germ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ordered troops to begin attack at the Battle of Coral Sea in 1942. Okay, he is the Commander of Naval Forces in the Pacific for the all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tank battle…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Batt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battle in the Pacific theater. Yes, the one you guys keep asking me whether it begins with a D or an O because my O(s) are sometimes cro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“desert fox.” He defended North Africa for Hitler in 1942 and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operation to bomb Tokyo after the attack on Pearl Harbor to boost American morale. Contrary to his name, he actually did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Genera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iet General who repelled the German attack on Mosc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President, Frank Dawg Ruff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litical leader of Fascist Ita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 II L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Prime Minister who appeased Hitler, offering him the Sudetenland without resist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924680" y="548640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8382" y="10800"/>
                </a:moveTo>
                <a:lnTo>
                  <a:pt x="18888" y="3794"/>
                </a:lnTo>
                <a:lnTo>
                  <a:pt x="18888" y="17806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6537" y="3794"/>
                </a:lnTo>
                <a:lnTo>
                  <a:pt x="6537" y="17806"/>
                </a:lnTo>
                <a:lnTo>
                  <a:pt x="4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1:03:43Z</dcterms:created>
  <dc:creator>Ernest Martin</dc:creator>
  <dc:description/>
  <dc:language>en-US</dc:language>
  <cp:lastModifiedBy>Ernest Martin</cp:lastModifiedBy>
  <dcterms:modified xsi:type="dcterms:W3CDTF">2007-04-03T01:49:34Z</dcterms:modified>
  <cp:revision>24</cp:revision>
  <dc:subject/>
  <dc:title>Slide 1</dc:title>
</cp:coreProperties>
</file>