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134-19E4-44C6-BFDE-0EE812CB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20D-6892-4099-9929-EE71BE29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9DD-92F8-4A16-9B32-CD868B4D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40F-949B-4CB3-99E9-3CC1ABF7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0A6C-F3C3-45B9-AAA6-5F315CCC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C62E-3111-44D1-B376-EB4568E6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E802-8F7F-4A18-8FA6-BB7A712C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E3FF-347F-4110-BA19-065A26CC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DFAD-DC29-4DD3-B9CB-331704AE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01D3-763E-4D09-811F-F29E510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2BD6-67BA-48BA-91B8-7E002D92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6FC-7E05-4919-9D14-94443DBD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6EA8-21F3-4922-B776-5108B1F2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2C8E-1DF5-43DF-A5FF-F4349AEF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3867-B336-4E03-91A0-34277C26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F7FB-609B-447B-BEBC-FC0E4AF8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E9BB-79F9-4713-A1B8-BE0E1473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F0A-B89C-4275-8197-F3346558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24B-C2F3-4CF5-81F9-0C78A7C6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FDB-A960-4870-9B22-F1EEDD17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241-6669-483E-B5AF-BEB4FAC6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A88-0C35-4E7A-97E2-40060A0C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1A7-8561-4FC1-A6C7-908541B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46D-5BD9-4F00-A6FB-9A37DBB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82FF-55CC-44FB-B413-D9762EFD5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A296-B3C6-4ADB-92FA-673813873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aso/databank/entries/btmarc.html" TargetMode="External"/><Relationship Id="rId3" Type="http://schemas.openxmlformats.org/officeDocument/2006/relationships/hyperlink" Target="http://www.pbs.org/tesla/ll/ll_whoradio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Social, Economic and Technological Change of the Early Twentieth Centur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USII.5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Rebekah A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munication Cha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creased availability of tele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the radio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274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000" spc="-1" strike="noStrike">
                <a:solidFill>
                  <a:srgbClr val="000000"/>
                </a:solidFill>
                <a:latin typeface="Tahoma"/>
              </a:rPr>
              <a:t>Radio Inventio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Guglielmo Marcon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ccff"/>
                </a:solidFill>
                <a:latin typeface="Tahoma"/>
              </a:rPr>
              <a:t>vs.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" sz="4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Nikola Tes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800" spc="-1" strike="noStrike">
                <a:solidFill>
                  <a:srgbClr val="660033"/>
                </a:solidFill>
                <a:latin typeface="Tahoma"/>
              </a:rPr>
              <a:t>Work in groups to research and argue why your guy invented the 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oadcast Indust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vid Sar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fil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929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il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lm industry was big business beginning in the 192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the 1920’s and 1930’s they were releasing an average of 800 films a year (now 500 a year is a lo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-term contracts and studio systems created during this tim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ppi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weal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electrical services that saved ti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orms of communication and entertainment revolutionized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Lingering point to think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Too good to be true? Is this the calm before the stor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raham crackers, nutella, marshmallow puff and a plastic kn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e how many smore’s you can make by yourself in one minu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xt, get in groups of four and assign one task to each m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 one minute see how many smore’s the group can m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How would your everyday life be different if we did not have the technology of the early twentieth century?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800000"/>
                </a:solidFill>
                <a:latin typeface="Tahoma"/>
              </a:rPr>
              <a:t>~ Think in terms of entertainment, transportation and simple household chore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ults of Improved Transportation Brought by Affordable Automobil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er mo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on of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wth of transportation related industries (road construction, oil, steel, automobi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ment to suburban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eat Mig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ning around 19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towards large Northern cities with fac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n American Population in the North rose 20% between 1914 and 19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Migration Series Panel #1 by Jacob Lawrence During the World War there was a great migration North of Southern Negroes."/>
          <p:cNvPicPr/>
          <p:nvPr/>
        </p:nvPicPr>
        <p:blipFill>
          <a:blip r:embed="rId2"/>
          <a:stretch/>
        </p:blipFill>
        <p:spPr>
          <a:xfrm>
            <a:off x="2362320" y="392436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vention of Airpla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right br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ty Hawk, North Caro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ontrolled aircraft, 19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24000" b="19820"/>
          <a:stretch/>
        </p:blipFill>
        <p:spPr>
          <a:xfrm>
            <a:off x="4800600" y="388620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e of the Assembly 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erson had one task; done repeatedly to increase 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s went from being produced one every 12 hours to eventually one every 10 seconds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Now you try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group made the mo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at were your groups’ production method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Method makes more - assembly or individual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Classmate Discu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How would the invention of the assembly line drastically alter a worker’s moral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ays Electricity Changed American Lif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abor-saving 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washing machines, electric stoves, water p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lectric l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tertai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0:38:48Z</dcterms:created>
  <dc:creator>Gateway_User</dc:creator>
  <dc:description/>
  <dc:language>en-US</dc:language>
  <cp:lastModifiedBy>Gateway_User</cp:lastModifiedBy>
  <dcterms:modified xsi:type="dcterms:W3CDTF">2007-09-20T02:45:01Z</dcterms:modified>
  <cp:revision>7</cp:revision>
  <dc:subject/>
  <dc:title>Slide 1</dc:title>
</cp:coreProperties>
</file>