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D2F-D2FE-45DF-8E25-3F294C7E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302-5930-47DF-B016-1EA211F3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0B8-6728-4962-829F-01F7D99F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B23-6E00-464F-9053-04848187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1A51-B06E-4F02-8840-2910C36B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DEC7-7EF9-4EC6-AFE9-0F765E3F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C0E3-B27D-4EC8-9850-3F32B596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DD6C-6B90-49FF-B888-9C33F9DE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99F6-FD17-4AC7-8AF6-60566FFC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75DA-8768-4980-BA80-2E1260D3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7889-2AF9-4AD5-8EDC-6E825561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22D-CA9F-4A2B-BED3-31C3C462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81CE-5D37-42A4-8C55-FDC4453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2233-B80C-4FB5-8EDA-BA3FE702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0C27-2EEA-4E00-B814-13560C27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50C4-A894-4325-A849-45D19BBF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C948-A0A0-4F00-9B0B-DE8F81C0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545-50F6-41E2-8A6B-A360A28D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735-424D-4658-8DD9-8677943C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62D-CE18-4FC0-BBD4-96C2CA6D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47E-AA95-4D0A-8AA2-0159FB93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C51-C78A-4278-B3FB-E32A3417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6C3-67FA-4F6D-B583-132205DE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565-7027-469A-9C1C-B224433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BCB3-114A-49D8-A21C-C922181E7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88AE-E445-4ADA-A39B-D03565AD2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aso/databank/entries/btmarc.html" TargetMode="External"/><Relationship Id="rId3" Type="http://schemas.openxmlformats.org/officeDocument/2006/relationships/hyperlink" Target="http://www.pbs.org/tesla/ll/ll_whoradio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Social, Economic and Technological Change of the Early Twentieth Centur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USII.5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Rebekah A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munication Cha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creased availability of tele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the radio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274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000" spc="-1" strike="noStrike">
                <a:solidFill>
                  <a:srgbClr val="000000"/>
                </a:solidFill>
                <a:latin typeface="Tahoma"/>
              </a:rPr>
              <a:t>Radio Inventio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Guglielmo Marcon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ccff"/>
                </a:solidFill>
                <a:latin typeface="Tahoma"/>
              </a:rPr>
              <a:t>vs.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" sz="4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Nikola Tes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800" spc="-1" strike="noStrike">
                <a:solidFill>
                  <a:srgbClr val="660033"/>
                </a:solidFill>
                <a:latin typeface="Tahoma"/>
              </a:rPr>
              <a:t>Work in groups to research and argue why your guy invented the 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oadcast Indust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vid Sar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fil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929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il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lm industry was big business beginning in the 192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the 1920’s and 1930’s they were releasing an average of 800 films a year (now 500 a year is a lo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-term contracts and studio systems created during this tim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ppi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weal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electrical services that saved ti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orms of communication and entertainment revolutionized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Lingering point to think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Too good to be true? Is this the calm before the stor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raham crackers, nutella, marshmallow puff and a plastic kn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e how many smore’s you can make by yourself in one minu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xt, get in groups of four and assign one task to each m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 one minute see how many smore’s the group can m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How would your everyday life be different if we did not have the technology of the early twentieth century?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800000"/>
                </a:solidFill>
                <a:latin typeface="Tahoma"/>
              </a:rPr>
              <a:t>~ Think in terms of entertainment, transportation and simple household chore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ults of Improved Transportation Brought by Affordable Automobil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er mo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on of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wth of transportation related industries (road construction, oil, steel, automobi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ment to suburban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eat Mig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ning around 19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towards large Northern cities with fac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n American Population in the North rose 20% between 1914 and 19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Migration Series Panel #1 by Jacob Lawrence During the World War there was a great migration North of Southern Negroes."/>
          <p:cNvPicPr/>
          <p:nvPr/>
        </p:nvPicPr>
        <p:blipFill>
          <a:blip r:embed="rId2"/>
          <a:stretch/>
        </p:blipFill>
        <p:spPr>
          <a:xfrm>
            <a:off x="2362320" y="392436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vention of Airpla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right br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ty Hawk, North Caro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ontrolled aircraft, 19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24000" b="19820"/>
          <a:stretch/>
        </p:blipFill>
        <p:spPr>
          <a:xfrm>
            <a:off x="4800600" y="388620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e of the Assembly 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erson had one task; done repeatedly to increase 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s went from being produced one every 12 hours to eventually one every 10 seconds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Now you try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group made the mo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at were your groups’ production method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Method makes more - assembly or individual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Classmate Discu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How would the invention of the assembly line drastically alter a worker’s moral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ays Electricity Changed American Lif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abor-saving 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washing machines, electric stoves, water p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lectric l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tertai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0:38:48Z</dcterms:created>
  <dc:creator>Gateway_User</dc:creator>
  <dc:description/>
  <dc:language>en-US</dc:language>
  <cp:lastModifiedBy>Gateway_User</cp:lastModifiedBy>
  <dcterms:modified xsi:type="dcterms:W3CDTF">2007-09-20T02:45:01Z</dcterms:modified>
  <cp:revision>7</cp:revision>
  <dc:subject/>
  <dc:title>Slide 1</dc:title>
</cp:coreProperties>
</file>