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917-971D-443A-A823-E3C79AA43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0DC-3B79-4278-89F7-C15B70F6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C7D-475F-468C-B559-FE731969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1D8-4FB1-408E-A454-36A582EA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D76-8825-4B6D-B1FD-4CBE8FCB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89FC-A6C6-43DB-BA4B-B7B2B32E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6479-12C2-4B66-84BC-407F4FC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B816-2AF0-4B67-8E30-FE336A02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5042-BDC3-4308-9910-921ADACB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6F1-F7BD-42CC-8407-8F108C7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F4DA-2659-47FD-91AE-7C211D5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E0D-6B74-48BA-B168-00F90549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3278-7B9C-43CA-8081-09C0D70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0BBC-D2FC-4DFE-B00D-CB5C1A46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90F6-3116-432B-AFCC-9999063E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060E-63A8-4464-AC59-CF00300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F9B-3759-4AFB-9684-2E8F6AB8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122-7D49-4C13-A56E-4C922D7B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07A-9A0F-4DD3-A7B8-5633C953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3DB-58DA-47C1-BC98-8DDE7DF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D08-54DC-403E-A4DB-4E67801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E76-9B80-4D75-A946-47C686C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A28-203E-4231-B504-6C22DA7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C96-E1DC-4882-88B9-76874AEE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F4FA-7C33-4450-9DC6-BEBFBE278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A4ED-55A3-4BD2-A335-450DADE57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so/databank/entries/btmarc.html" TargetMode="External"/><Relationship Id="rId3" Type="http://schemas.openxmlformats.org/officeDocument/2006/relationships/hyperlink" Target="http://www.pbs.org/tesla/ll/ll_whoradio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ocial, Economic and Technological Change of the Early Twentieth Centu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USII.5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Rebekah A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on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 availability of tele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the radi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000000"/>
                </a:solidFill>
                <a:latin typeface="Tahoma"/>
              </a:rPr>
              <a:t>Radio Inven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uglielmo Marcon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vs.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" sz="4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ikola Tes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800" spc="-1" strike="noStrike">
                <a:solidFill>
                  <a:srgbClr val="660033"/>
                </a:solidFill>
                <a:latin typeface="Tahoma"/>
              </a:rPr>
              <a:t>Work in groups to research and argue why your guy invented the 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oadcast Indust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vid Sar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fil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929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l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lm industry was big business beginning in the 192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1920’s and 1930’s they were releasing an average of 800 films a year (now 500 a year is a lo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-term contracts and studio systems created during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w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ical services that saved t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orms of communication and entertainment revolutionized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Lingering point to think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oo good to be true? Is this the calm before the st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aham crackers, nutella, marshmallow puff and a plastic kn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e how many smore’s you can make by yourself in one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xt, get in groups of four and assign one task to each m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 one minute see how many smore’s the group can m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How would your everyday life be different if we did not have the technology of the early twentieth century?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~ Think in terms of entertainment, transportation and simple household chore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s of Improved Transportation Brought by Affordable Automobi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mo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of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th of transportation related industries (road construction, oil, steel, automob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to suburban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at 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ning around 19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owards large Northern cities with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n American Population in the North rose 20% between 1914 and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Migration Series Panel #1 by Jacob Lawrence During the World War there was a great migration North of Southern Negroes."/>
          <p:cNvPicPr/>
          <p:nvPr/>
        </p:nvPicPr>
        <p:blipFill>
          <a:blip r:embed="rId2"/>
          <a:stretch/>
        </p:blipFill>
        <p:spPr>
          <a:xfrm>
            <a:off x="2362320" y="392436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vention of Airpla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right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ty Hawk, 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ntrolled aircraft, 1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24000" b="19820"/>
          <a:stretch/>
        </p:blipFill>
        <p:spPr>
          <a:xfrm>
            <a:off x="480060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e of the Assembly 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had one task; done repeatedly to increase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s went from being produced one every 12 hours to eventually one every 10 seconds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Now you tr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group made the mo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at were your groups’ production method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Method makes more - assembly or individua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Classmate Discu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would the invention of the assembly line drastically alter a worker’s moral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ys Electricity Changed American Lif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bor-sav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washing machines, electric stoves, water p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lectric l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tertai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0:38:48Z</dcterms:created>
  <dc:creator>Gateway_User</dc:creator>
  <dc:description/>
  <dc:language>en-US</dc:language>
  <cp:lastModifiedBy>Gateway_User</cp:lastModifiedBy>
  <dcterms:modified xsi:type="dcterms:W3CDTF">2007-09-20T02:45:01Z</dcterms:modified>
  <cp:revision>7</cp:revision>
  <dc:subject/>
  <dc:title>Slide 1</dc:title>
</cp:coreProperties>
</file>