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61D7-BC72-4E9E-81C8-9F2E83473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FCA5-47A9-4260-B25D-F75F2A6B2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0671-2EDC-4F54-96E8-F7300325A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7B1C-DF86-4E2E-9780-875A728C4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31865-D5D7-4191-BFF3-01792CC2A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B929F-95E9-42E9-9B53-F1A17E802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1E0C1-D0D3-4878-BEE8-35AB96E83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54DAA-4AE9-4B27-9004-6F3F0BECC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389DE-C4A9-4F0F-B2AD-78C6B6FD0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F8329-D0AA-483A-8E6D-6CC0B22ED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0D4A2-4536-4E48-B7F1-2A6D1E34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C8F8-380B-4266-B494-961D7A9F8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6820C-CAD1-4CB9-B2A4-DC2D2CE0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A6BB8-AA1A-4B43-B07C-9AB3F34A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D1A83-92E3-4E80-9332-609EEF50B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16B91-3088-4974-80EB-BDD515D01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9B11D-FD03-4747-8A04-C08096DB0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D1F5-1A15-4A38-BB81-E9065D060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02EC-4BD0-489E-AA19-348AC4D9D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5179-22FC-447E-80C1-CDF103F2F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7F50-DCDE-47FF-BCA4-210DBA1F0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3311-0634-4172-B479-051530AF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C1C2-AE0F-40B1-8A59-02C2678A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EF49-4028-4EE3-A900-05E6BADD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56823-5AFF-475F-8876-F7BB772487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9A325-6E92-43C6-B229-0AA0E23F94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bs.org/wgbh/aso/databank/entries/btmarc.html" TargetMode="External"/><Relationship Id="rId3" Type="http://schemas.openxmlformats.org/officeDocument/2006/relationships/hyperlink" Target="http://www.pbs.org/tesla/ll/ll_whoradio.html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ahoma"/>
              </a:rPr>
              <a:t>Social, Economic and Technological Change of the Early Twentieth Century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609480"/>
            <a:ext cx="6400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NDARD USII.5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Rebekah Ama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ommunication Chang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creased availability of teleph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velopment of the radio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019920" y="2590920"/>
            <a:ext cx="27432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6000" spc="-1" strike="noStrike">
                <a:solidFill>
                  <a:srgbClr val="000000"/>
                </a:solidFill>
                <a:latin typeface="Tahoma"/>
              </a:rPr>
              <a:t>Radio Invention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0" lang="en-US" sz="40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Guglielmo Marconi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1" lang="en-US" sz="4000" spc="-1" strike="noStrike">
                <a:solidFill>
                  <a:srgbClr val="00ccff"/>
                </a:solidFill>
                <a:latin typeface="Tahoma"/>
              </a:rPr>
              <a:t>vs.</a:t>
            </a: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40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1" lang="en" sz="40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1" lang="en" sz="40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1" lang="en" sz="40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1" lang="en" sz="40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0" lang="en" sz="40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Nikola Tesl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800" spc="-1" strike="noStrike">
                <a:solidFill>
                  <a:srgbClr val="660033"/>
                </a:solidFill>
                <a:latin typeface="Tahoma"/>
              </a:rPr>
              <a:t>Work in groups to research and argue why your guy invented the rad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roadcast Industry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avid Sarnof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C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B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velopment of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 film indus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962520" y="2133720"/>
            <a:ext cx="492912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Fil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film industry was big business beginning in the 1920’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ween the 1920’s and 1930’s they were releasing an average of 800 films a year (now 500 a year is a lo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ng-term contracts and studio systems created during this time peri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Happines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wealth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electrical services that saved tim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orms of communication and entertainment revolutionized lif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Lingering point to think 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Too good to be true? Is this the calm before the storm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ssembly Line Activit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Materi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graham crackers, nutella, marshmallow puff and a plastic knif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ee how many smore’s you can make by yourself in one minu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Next, get in groups of four and assign one task to each memb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In one minute see how many smore’s the group can mak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ahoma"/>
              </a:rPr>
              <a:t>Retur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5345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ahoma"/>
              </a:rPr>
              <a:t>How would your everyday life be different if we did not have the technology of the early twentieth century?</a:t>
            </a:r>
            <a:br>
              <a:rPr sz="4800"/>
            </a:br>
            <a:br>
              <a:rPr sz="4800"/>
            </a:br>
            <a:r>
              <a:rPr b="0" i="1" lang="en-US" sz="3200" spc="-1" strike="noStrike">
                <a:solidFill>
                  <a:srgbClr val="800000"/>
                </a:solidFill>
                <a:latin typeface="Tahoma"/>
              </a:rPr>
              <a:t>~ Think in terms of entertainment, transportation and simple household chores</a:t>
            </a: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sults of Improved Transportation Brought by Affordable Automobile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eater mob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eation of job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owth of transportation related industries (road construction, oil, steel, automobil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ement to suburban are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Great Migr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ginning around 191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e towards large Northern cities with facto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rican American Population in the North rose 20% between 1914 and 193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Migration Series Panel #1 by Jacob Lawrence During the World War there was a great migration North of Southern Negroes."/>
          <p:cNvPicPr/>
          <p:nvPr/>
        </p:nvPicPr>
        <p:blipFill>
          <a:blip r:embed="rId2"/>
          <a:stretch/>
        </p:blipFill>
        <p:spPr>
          <a:xfrm>
            <a:off x="2362320" y="3924360"/>
            <a:ext cx="459108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Invention of Airpla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Wright broth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itty Hawk, North Caroli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controlled aircraft, 190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rcRect l="0" t="0" r="24000" b="19820"/>
          <a:stretch/>
        </p:blipFill>
        <p:spPr>
          <a:xfrm>
            <a:off x="4800600" y="3886200"/>
            <a:ext cx="41148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Use of the Assembly Lin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person had one task; done repeatedly to increase efficien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nry Fo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s went from being produced one every 12 hours to eventually one every 10 seconds!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Now you try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ssembly Line Continue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ahoma"/>
              </a:rPr>
              <a:t>Which group made the most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ahoma"/>
              </a:rPr>
              <a:t>What were your groups’ production methods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ahoma"/>
              </a:rPr>
              <a:t>Which Method makes more - assembly or individual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ahoma"/>
              </a:rPr>
              <a:t>Why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310824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ahoma"/>
              </a:rPr>
              <a:t>Classmate Discuss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How would the invention of the assembly line drastically alter a worker’s moral?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Why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ays Electricity Changed American Lif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Labor-saving produc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.g. washing machines, electric stoves, water pump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lectric ligh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ntertainmen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d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m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20:38:48Z</dcterms:created>
  <dc:creator>Gateway_User</dc:creator>
  <dc:description/>
  <dc:language>en-US</dc:language>
  <cp:lastModifiedBy>Gateway_User</cp:lastModifiedBy>
  <dcterms:modified xsi:type="dcterms:W3CDTF">2007-09-20T02:45:01Z</dcterms:modified>
  <cp:revision>7</cp:revision>
  <dc:subject/>
  <dc:title>Slide 1</dc:title>
</cp:coreProperties>
</file>