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D42-4C93-49D8-9741-C18B7F21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1DA-0A34-4082-8729-2BA961A0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6D2-AE2C-437F-856B-8DB85534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FC5-A96B-4BFB-989A-0A11261B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0A81-FE89-4568-B23E-DC7A2B8F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E326-1BBE-4678-9694-72FFDCDF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2871-8205-43C0-8DDD-1CC0F19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D521-4DAF-454E-B53D-B46E16A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D436-B4D8-43B9-8F4D-B9604D88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4022-2011-4087-B1D6-29B40373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C709-7FA8-45F2-8E5C-554D7E52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5CF-9CD5-4613-AFBD-6523937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AF77-F39D-4636-87D4-E73E8D43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3765-33B4-47D6-90A2-84CFE99A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6C6D-9BBE-4E42-8698-A767FCD7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A24D-1156-44FE-A8F3-39201572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509A-D46C-403A-A7C2-762ECA6A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A12-FCBD-40F7-9625-6227FB54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985-8719-4F74-8CB9-5E2ACFFD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DBF-3C4F-4A5D-8066-DC319742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48D-E2BE-4613-A6D0-58A7F1D4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B25-7AE9-4423-8572-D8B43F18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965-A565-4D65-B257-326FF9AC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9D8-B7B5-45CD-ACB6-D18B3D3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86E6-91E8-4E37-83E9-B5645F419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087B-0660-493C-B551-E477E2F03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aso/databank/entries/btmarc.html" TargetMode="External"/><Relationship Id="rId3" Type="http://schemas.openxmlformats.org/officeDocument/2006/relationships/hyperlink" Target="http://www.pbs.org/tesla/ll/ll_whoradio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Social, Economic and Technological Change of the Early Twentieth Centur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USII.5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Rebekah A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munication Cha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creased availability of tele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the radio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274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000" spc="-1" strike="noStrike">
                <a:solidFill>
                  <a:srgbClr val="000000"/>
                </a:solidFill>
                <a:latin typeface="Tahoma"/>
              </a:rPr>
              <a:t>Radio Invention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Guglielmo Marcon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00ccff"/>
                </a:solidFill>
                <a:latin typeface="Tahoma"/>
              </a:rPr>
              <a:t>vs.</a:t>
            </a:r>
            <a:r>
              <a:rPr b="1" lang="en-US" sz="40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" sz="40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" sz="4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Nikola Tes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800" spc="-1" strike="noStrike">
                <a:solidFill>
                  <a:srgbClr val="660033"/>
                </a:solidFill>
                <a:latin typeface="Tahoma"/>
              </a:rPr>
              <a:t>Work in groups to research and argue why your guy invented the 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oadcast Indust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vid Sarn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velopment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film indu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929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il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lm industry was big business beginning in the 1920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ween the 1920’s and 1930’s they were releasing an average of 800 films a year (now 500 a year is a lo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-term contracts and studio systems created during this time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appi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weal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electrical services that saved ti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orms of communication and entertainment revolutionized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Lingering point to think 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Too good to be true? Is this the calm before the stor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raham crackers, nutella, marshmallow puff and a plastic kn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e how many smore’s you can make by yourself in one minu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xt, get in groups of four and assign one task to each m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 one minute see how many smore’s the group can m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ahoma"/>
              </a:rPr>
              <a:t>How would your everyday life be different if we did not have the technology of the early twentieth century?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800000"/>
                </a:solidFill>
                <a:latin typeface="Tahoma"/>
              </a:rPr>
              <a:t>~ Think in terms of entertainment, transportation and simple household chores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ults of Improved Transportation Brought by Affordable Automobil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er mo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on of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wth of transportation related industries (road construction, oil, steel, automobi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ment to suburban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eat Mig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ning around 19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towards large Northern cities with fac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n American Population in the North rose 20% between 1914 and 19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Migration Series Panel #1 by Jacob Lawrence During the World War there was a great migration North of Southern Negroes."/>
          <p:cNvPicPr/>
          <p:nvPr/>
        </p:nvPicPr>
        <p:blipFill>
          <a:blip r:embed="rId2"/>
          <a:stretch/>
        </p:blipFill>
        <p:spPr>
          <a:xfrm>
            <a:off x="2362320" y="3924360"/>
            <a:ext cx="4591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vention of Airpla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Wright br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ty Hawk, North Caro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controlled aircraft, 19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24000" b="19820"/>
          <a:stretch/>
        </p:blipFill>
        <p:spPr>
          <a:xfrm>
            <a:off x="4800600" y="3886200"/>
            <a:ext cx="4114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e of the Assembly 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erson had one task; done repeatedly to increase 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s went from being produced one every 12 hours to eventually one every 10 seconds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Now you try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embly Line 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group made the mos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at were your groups’ production method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ich Method makes more - assembly or individual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Classmate Discus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How would the invention of the assembly line drastically alter a worker’s moral?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ays Electricity Changed American Lif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abor-saving 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 washing machines, electric stoves, water p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lectric ligh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ntertai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0:38:48Z</dcterms:created>
  <dc:creator>Gateway_User</dc:creator>
  <dc:description/>
  <dc:language>en-US</dc:language>
  <cp:lastModifiedBy>Gateway_User</cp:lastModifiedBy>
  <dcterms:modified xsi:type="dcterms:W3CDTF">2007-09-20T02:45:01Z</dcterms:modified>
  <cp:revision>7</cp:revision>
  <dc:subject/>
  <dc:title>Slide 1</dc:title>
</cp:coreProperties>
</file>