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95B-3C3C-4769-A92E-46FEC29C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1D2-D8DE-4F3D-B295-5E5F83C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15A-2F22-4EE7-9D6F-0C1EE754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C6C-D758-4E93-8664-3B3FE691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DE0-570D-499C-A61D-B0554081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C023-C229-4992-B267-B51FE22D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F9C0-D3E7-4180-A56E-8A8C784E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95BE-45BB-4930-8FC4-70FB72F2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78B0-F6B2-469A-AE27-4391197B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2A3D-4ECD-44E4-AD78-92F8E375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F9E2-E635-47E6-BD57-989C1A8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267-0A7B-4F87-902B-83E33AD6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90ED-6A88-4745-9E06-918D0D9D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96C6-2CED-438A-93EF-C102B9D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0923-E590-43F1-9E15-686C018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4F0E-E120-4E22-912E-FF3CABC5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5E6A-1DF9-4729-B848-3747E25F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FA3-55B2-42EF-8EBB-CCE359C5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67C-8074-4957-91FB-B2B54724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DFA-54E8-4FDC-88B0-8EE5E7A5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B54-88D8-4F46-99B3-CE99F5F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8C4-F511-40A4-8F19-B18866E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DC2-19FE-4EDE-93CE-3E49B7E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B7F-DDA9-48C4-8275-2EA7548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F93D-B53E-4696-B44B-C8E3565A6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D400-6935-4725-B5E4-512E1EEAA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aso/databank/entries/btmarc.html" TargetMode="External"/><Relationship Id="rId3" Type="http://schemas.openxmlformats.org/officeDocument/2006/relationships/hyperlink" Target="http://www.pbs.org/tesla/ll/ll_whoradio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ocial, Economic and Technological Change of the Early Twentieth Centur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USII.5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Rebekah A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munication Cha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 availability of tele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the radio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000000"/>
                </a:solidFill>
                <a:latin typeface="Tahoma"/>
              </a:rPr>
              <a:t>Radio Inventi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Guglielmo Marcon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vs.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" sz="4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ikola Tes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800" spc="-1" strike="noStrike">
                <a:solidFill>
                  <a:srgbClr val="660033"/>
                </a:solidFill>
                <a:latin typeface="Tahoma"/>
              </a:rPr>
              <a:t>Work in groups to research and argue why your guy invented the 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oadcast Indust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vid Sar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fil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929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l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lm industry was big business beginning in the 192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1920’s and 1930’s they were releasing an average of 800 films a year (now 500 a year is a lo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-term contracts and studio systems created during this tim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ppi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w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electrical services that saved ti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orms of communication and entertainment revolutionized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Lingering point to think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Too good to be true? Is this the calm before the stor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raham crackers, nutella, marshmallow puff and a plastic kn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e how many smore’s you can make by yourself in one min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xt, get in groups of four and assign one task to each m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 one minute see how many smore’s the group can m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How would your everyday life be different if we did not have the technology of the early twentieth century?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800000"/>
                </a:solidFill>
                <a:latin typeface="Tahoma"/>
              </a:rPr>
              <a:t>~ Think in terms of entertainment, transportation and simple household chore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ults of Improved Transportation Brought by Affordable Automobil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mo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on of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wth of transportation related industries (road construction, oil, steel, automobi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ment to suburban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at 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ning around 19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owards large Northern cities with fac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n American Population in the North rose 20% between 1914 and 19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Migration Series Panel #1 by Jacob Lawrence During the World War there was a great migration North of Southern Negroes."/>
          <p:cNvPicPr/>
          <p:nvPr/>
        </p:nvPicPr>
        <p:blipFill>
          <a:blip r:embed="rId2"/>
          <a:stretch/>
        </p:blipFill>
        <p:spPr>
          <a:xfrm>
            <a:off x="2362320" y="392436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vention of Airpla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right br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ty Hawk, North Car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ontrolled aircraft, 1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24000" b="19820"/>
          <a:stretch/>
        </p:blipFill>
        <p:spPr>
          <a:xfrm>
            <a:off x="4800600" y="38862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e of the Assembly 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erson had one task; done repeatedly to increase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s went from being produced one every 12 hours to eventually one every 10 seconds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Now you try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group made the mo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at were your groups’ production method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Method makes more - assembly or individual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Classmate Discu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ow would the invention of the assembly line drastically alter a worker’s moral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ays Electricity Changed American Lif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bor-saving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washing machines, electric stoves, water p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lectric l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tertai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0:38:48Z</dcterms:created>
  <dc:creator>Gateway_User</dc:creator>
  <dc:description/>
  <dc:language>en-US</dc:language>
  <cp:lastModifiedBy>Gateway_User</cp:lastModifiedBy>
  <dcterms:modified xsi:type="dcterms:W3CDTF">2007-09-20T02:45:01Z</dcterms:modified>
  <cp:revision>7</cp:revision>
  <dc:subject/>
  <dc:title>Slide 1</dc:title>
</cp:coreProperties>
</file>