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785-842D-47FD-A1F7-A33DACB9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A75-4235-485F-840B-936D2132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C87-84E8-4D29-8E46-BDD42B3A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CCB-E8DF-4E5F-BCC9-AB542791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35A-D998-492C-A30B-5FCFF704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10A-2819-49D4-9991-2A53E48A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C85-40CD-4381-84A4-B5F8B360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330-F663-408E-8F6E-F4645CF0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457-8857-41AC-BCBB-BFBC7CD5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B28-7010-449D-B093-359EA6E0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66F-23C5-46D2-89C9-F69582FE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726-27F7-4DA6-830D-5C6D04CB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8B90-2AF6-437B-87A6-5262639002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teach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4921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ducational objectiv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4921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ssessment opportun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6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921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xempla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45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921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egin with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ddress various needs and learning sty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471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evelop higher-order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inking skil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cus on literacy skills whenever possib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SzPct val="25000"/>
              <a:buFont typeface="Times New Roman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ddress and build upon basic subject-specific skill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SzPct val="25000"/>
              <a:buFont typeface="Times New Roman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clude opportunities for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al-world applica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73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mall group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scuss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0" b="12404"/>
          <a:stretch/>
        </p:blipFill>
        <p:spPr>
          <a:xfrm>
            <a:off x="0" y="3414600"/>
            <a:ext cx="9144000" cy="16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876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re su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39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876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earning an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novation skills 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876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formation, media, and technology skil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876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ife and career skil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46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88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mall group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scuss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12404"/>
          <a:stretch/>
        </p:blipFill>
        <p:spPr>
          <a:xfrm>
            <a:off x="0" y="3414600"/>
            <a:ext cx="9144000" cy="16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5720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mprove efficiency and productivi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35737"/>
          <a:stretch/>
        </p:blipFill>
        <p:spPr>
          <a:xfrm>
            <a:off x="0" y="34290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5720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nrich and exten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udent learn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45720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roduce quality work using professional to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5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crease student motiv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25806" r="0" b="0"/>
          <a:stretch/>
        </p:blipFill>
        <p:spPr>
          <a:xfrm>
            <a:off x="0" y="34290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4:14:23Z</dcterms:created>
  <dc:creator>Mike Hasley</dc:creator>
  <dc:description/>
  <dc:language>en-US</dc:language>
  <cp:lastModifiedBy>soe</cp:lastModifiedBy>
  <dcterms:modified xsi:type="dcterms:W3CDTF">2007-11-19T14:29:22Z</dcterms:modified>
  <cp:revision>17</cp:revision>
  <dc:subject/>
  <dc:title>eteaching</dc:title>
</cp:coreProperties>
</file>