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0AA-65DA-4F9C-8BEB-0BB2F2B1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BD8-3E01-43A1-B49A-0B8F2B5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A14-E162-488F-8062-29A89270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760-3DE3-437E-AAF9-84A653E8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BC7-CE84-4238-83AD-C2432F3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307-E06E-4BB4-838B-6009D8BB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D6F-ADB2-432D-B8CE-7422B8A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A09-F9C9-4D6D-A0D4-5A22F3E6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64D-08C4-4C99-9B0D-DD23A63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70A-940F-4DE2-A713-83E9140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481-EDB0-4764-BC3E-2D3259C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551-A556-4B1E-8467-D203146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A2CD-7567-4708-A531-C69F5874F8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teach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ducational 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ssessment opportun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mpl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gin with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various needs and learning sty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velop higher-or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 on literacy skills whenever possi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and build upon basic subject-specific skil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lude opportunities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-world appl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re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3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rning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novation skills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ormation, media, and technology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fe and career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mprove efficiency and productiv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35737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rich and exte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dent lear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oduce quality work using professional t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rease student mo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5806" r="0" b="0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14:23Z</dcterms:created>
  <dc:creator>Mike Hasley</dc:creator>
  <dc:description/>
  <dc:language>en-US</dc:language>
  <cp:lastModifiedBy>soe</cp:lastModifiedBy>
  <dcterms:modified xsi:type="dcterms:W3CDTF">2007-11-19T14:29:22Z</dcterms:modified>
  <cp:revision>17</cp:revision>
  <dc:subject/>
  <dc:title>eteaching</dc:title>
</cp:coreProperties>
</file>