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2D8-B46C-4AE6-AE9F-48D303B3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15A-A6A0-4CD2-9FA4-821FE2BF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98E7-30D5-43EE-97CE-AE32ACFF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5F0-64A1-4E50-80B0-8C61DEDC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269-086E-42F4-A65C-A7F836AD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14B-506F-4B64-8B18-79137B5F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CC8-39F1-4DF0-BA33-E5F24A0B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3C3-443B-455A-8136-8A284EF7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BE2-60AE-4054-A44C-83992A9E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46C-F45A-4682-8AE6-1D5EB5C2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2CF-B01C-40C5-82C6-0A6AE13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997-913C-42BD-B8C3-2246BF1B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22C1-6820-4BC0-80AF-87DEDCFEF71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teach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ducational objectiv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ssessment opportun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6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empla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5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egin with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ddress various needs and learning sty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7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evelop higher-orde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nking ski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cus on literacy skills whenever possib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SzPct val="25000"/>
              <a:buFont typeface="Times New Roman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ddress and build upon basic subject-specific skill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SzPct val="25000"/>
              <a:buFont typeface="Times New Roman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clude opportunities fo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al-world applic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73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mall group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scuss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0" b="12404"/>
          <a:stretch/>
        </p:blipFill>
        <p:spPr>
          <a:xfrm>
            <a:off x="0" y="3414600"/>
            <a:ext cx="914400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876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re su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39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876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earning a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novation skills 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876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formation, media, and technology ski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876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ife and career ski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6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8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mall group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scuss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12404"/>
          <a:stretch/>
        </p:blipFill>
        <p:spPr>
          <a:xfrm>
            <a:off x="0" y="3414600"/>
            <a:ext cx="914400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572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mprove efficiency and productiv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35737"/>
          <a:stretch/>
        </p:blipFill>
        <p:spPr>
          <a:xfrm>
            <a:off x="0" y="34290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572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nrich and exte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udent learn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572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oduce quality work using professional to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5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crease student motiv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25806" r="0" b="0"/>
          <a:stretch/>
        </p:blipFill>
        <p:spPr>
          <a:xfrm>
            <a:off x="0" y="34290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4:14:23Z</dcterms:created>
  <dc:creator>Mike Hasley</dc:creator>
  <dc:description/>
  <dc:language>en-US</dc:language>
  <cp:lastModifiedBy>soe</cp:lastModifiedBy>
  <dcterms:modified xsi:type="dcterms:W3CDTF">2007-11-19T14:29:22Z</dcterms:modified>
  <cp:revision>17</cp:revision>
  <dc:subject/>
  <dc:title>eteaching</dc:title>
</cp:coreProperties>
</file>