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A19F-CAEF-4FE4-A109-9BD45454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B421-EB5E-4A2A-8BC9-98CE23A0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C61B-6D9E-41C7-8C16-389A386E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F17-C583-4ECE-B87E-644E24BF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03E3-6DDA-4981-BC5A-60D1C0A4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4395-3E52-4E63-8E7F-6D34DA6B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26F1-C603-41F3-8BDD-6680AFBE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9890-DC7C-4B75-A9A5-14A39E79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DF12-791B-4FB9-B3A1-48DC285A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3256-9237-44D8-ABDC-1CE5370D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B1AE-5B63-4AFA-BA45-1DEBD0A7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1BF7-DED4-43F4-A82E-5D6124A1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DFD1-7397-4C57-8CCF-817C4E3BB4F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eteachi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38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49212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ducational objectiv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49212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ssessment opportunit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26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49212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xempla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457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9212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egin with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49212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ddress various needs and learning sty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471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49212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evelop higher-order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inking skil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49212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ocus on literacy skills whenever possib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49212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ffff"/>
              </a:buClr>
              <a:buSzPct val="25000"/>
              <a:buFont typeface="Times New Roman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ddress and build upon basic subject-specific skill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49212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ffff"/>
              </a:buClr>
              <a:buSzPct val="25000"/>
              <a:buFont typeface="Times New Roman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clude opportunities for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real-world application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373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9587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re 2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century skil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mall group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discussion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0" r="0" b="12404"/>
          <a:stretch/>
        </p:blipFill>
        <p:spPr>
          <a:xfrm>
            <a:off x="0" y="3414600"/>
            <a:ext cx="9144000" cy="16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9587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re 2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century skil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876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re sub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339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9587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re 2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century skil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8769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learning and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novation skills 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9587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re 2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century skil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8769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formation, media, and technology skil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9587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re 2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century skil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502920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4876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life and career skil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465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technology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887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mall group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discussion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0" b="12404"/>
          <a:stretch/>
        </p:blipFill>
        <p:spPr>
          <a:xfrm>
            <a:off x="0" y="3414600"/>
            <a:ext cx="9144000" cy="16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technology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5720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mprove efficiency and productivit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35737"/>
          <a:stretch/>
        </p:blipFill>
        <p:spPr>
          <a:xfrm>
            <a:off x="0" y="342900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technology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45720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nrich and extend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tudent learn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technology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45720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roduce quality work using professional to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technology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45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crease student motiv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25806" r="0" b="0"/>
          <a:stretch/>
        </p:blipFill>
        <p:spPr>
          <a:xfrm>
            <a:off x="0" y="342900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do you think makes  a good lesson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04:14:23Z</dcterms:created>
  <dc:creator>Mike Hasley</dc:creator>
  <dc:description/>
  <dc:language>en-US</dc:language>
  <cp:lastModifiedBy>soe</cp:lastModifiedBy>
  <dcterms:modified xsi:type="dcterms:W3CDTF">2007-11-19T14:29:22Z</dcterms:modified>
  <cp:revision>17</cp:revision>
  <dc:subject/>
  <dc:title>eteaching</dc:title>
</cp:coreProperties>
</file>